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17A-2E9B-4669-8EA2-AD75E5B0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EF3-E11C-4AEC-A926-7391F038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F6E-AA47-4F63-91B8-F72F4C13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FBD-0516-4D12-B3AD-C43FCF04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DAF-BC65-466D-81AE-3D692227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B57-7B1A-4D52-BD47-8C588130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A80-676F-415E-9E32-878518D6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5E9-10A2-4E5E-9562-4DD8DC92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AAE-D1A8-4633-BEAC-CE0A15F2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268-061F-4E62-A662-2F2F99B6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A49-826A-4D8A-8CA7-F55D9FC8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FEF-B669-4D52-A1AB-814AAA71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1BBD-A1CA-4E4F-9C13-AC63C1248C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Exam-Engl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kespeare Biograp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e Konnor 8-5.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edi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unniest of Shakespeare’s pl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the happily ever af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dsummer Night’s Dream is considered a come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these were the plays that had conflict but everything was returned to the normal or a happy e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ged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’s most famous plays and usually the most pop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otes are usually taken from the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mlet, Romeo and Juli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usually emphasized the leader or a political leader and how hard it was to do their job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i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important play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usually had historical backgr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ased off of a prominent figure in Elizabethan Englan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 Hathaw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kespeare’s wif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ght to be much older than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icious thing was that she may have been pregnant at the time of her marri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iam spent minimal time with her because he moved to London to work on wri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didn’t leave her much in their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retired later on to spend more time with his family and w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en Elizabe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formed the Queen’s men which was a group of highly professional and skilled acto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loved plays but never attended any public ones. They were always brought to 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did though come to see some of Shakespeare’s play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rd Chamberlain’s M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the acting group that Shakespeare joined once moving to Lond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wrote plays for them, they were the leading acting comp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provided him with a steady jo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izabethan The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lobe and other theaters-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audiences of all social status were allowed to go to the the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 form of entertainment during Elizabethan Engla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ater areas held around 3000 people at m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ommoners stood in the pit, people of higher status’ would sit in the gallery and some would sit on stage in chai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Plag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ke out in London 1593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had to move away and start writing poe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lled many citizens, and mostly targeted young children (not many of these kids lived past inf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at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William grew up with his parents and sibling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marrying Anne Hathaway they moved in with his parents (customa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ough Anne the New Place in Stratford where they raised their childr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ecame prestigious and owned the second largest house in Stratfor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nd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began working as an actor and playwright in around 1582-158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lague broke out in London in 1593 and Shakespeare began to write poe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unknown where Shakespeare lived during his time spent in Lond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ly he moved around to different acting companies to make mone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thwa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the theater The Globe was locate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popular city with tons of tourism attr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d a few other theaters that were popu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blication of Dre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dsummer Night’s Dream was published around 160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rst Fol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Shakespeare's pl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6 in total with 1000 copies prin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friends and fellow thespians made the book with the famous engraving that will be known as Shakespeare's main portra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b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Shakespeare and the acting company he was working with preformed most of their play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ere two thea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as torn down by Purita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as moved across the river and rebuilt on the other 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akespeare and Neologis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Shakespeare made up tons of words that at the time were new and completely foreig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least 3000 words that we still use tod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nne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was an increased interest in sonnets at this time in Lond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kespeare began writing English sonnets (there was already the Italian sonn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2:17:39Z</dcterms:created>
  <dc:creator>WB Tech</dc:creator>
  <dc:description/>
  <dc:language>en-US</dc:language>
  <cp:lastModifiedBy>Owner</cp:lastModifiedBy>
  <dcterms:modified xsi:type="dcterms:W3CDTF">2009-06-03T05:16:02Z</dcterms:modified>
  <cp:revision>3</cp:revision>
  <dc:subject/>
  <dc:title>Final Exam-English</dc:title>
</cp:coreProperties>
</file>