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795-AAFA-405D-B138-7DEAA824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A94-00CE-4890-A1D0-ACE3B97D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C53-F971-4BFB-935F-E2F8E4E4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179-B2F4-4B92-889A-0F2406B5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82E-AB57-4B59-8E8B-948DB548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0AB-CE97-4989-ADB5-A320722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CB8-9486-4DD3-89CE-F079C6ED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799-DC62-4AEF-9DC8-24461DB3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21A-07CC-42BB-9826-8C075785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BB2-2ED3-4F30-9BA1-4A16DC2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61D-6E70-4DC7-B7C8-EA89429E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116-0946-49D5-8B95-C6129AD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F97-A465-4A38-BE11-FB92CA3B5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Exam-Engl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i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e Konnor 8-5.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ed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niest of Shakespeare’s pl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the happily ever af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is considered a com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these were the plays that had conflict but everything was returned to the normal or a happy e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ged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’s most famous plays and usually the most po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s are usually taken from the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mlet, Romeo and Jul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emphasized the leader or a political leader and how hard it was to do their jo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important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had historical back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ased off of a prominent figure in Elizabethan Englan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 Hathaw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kespeare’s w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ght to be much older than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icious thing was that she may have been pregnant at the time of her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iam spent minimal time with her because he moved to London to work on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didn’t leave her much in their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retired later on to spend more time with his family and w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en Elizabe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formed the Queen’s men which was a group of highly professional and skilled acto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loved plays but never attended any public ones. They were always brought to 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did though come to see some of Shakespeare’s pla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rd Chamberlain’s 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the acting group that Shakespeare joined once moving to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wrote plays for them, they were the leading acting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ovided him with a steady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izabethan The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lobe and other theaters-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audiences of all social status were allowed to go to the the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form of entertainment during Elizabethan Engla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ater areas held around 3000 people at m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ers stood in the pit, people of higher status’ would sit in the gallery and some would sit on stage in chai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lag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ke out in London 159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had to move away and start writing poe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d many citizens, and mostly targeted young children (not many of these kids lived past inf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at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William grew up with his parents and sibl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marrying Anne Hathaway they moved in with his parents (customa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ough Anne the New Place in Stratford where they raised their childr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came prestigious and owned the second largest house in Stratf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d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egan working as an actor and playwright in around 1582-15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gue broke out in London in 1593 and Shakespeare began to write poe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unknown where Shakespeare lived during his time spent in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he moved around to different acting companies to make mone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thwa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he theater The Globe was locat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popular city with tons of tourism attr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d a few other theaters that were popu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blication of D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was published around 16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Fol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hakespeare's pl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 in total with 1000 copies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riends and fellow thespians made the book with the famous engraving that will be known as Shakespeare's main por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and the acting company he was working with preformed most of their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two thea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torn down by Purit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moved across the river and rebuilt on the other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kespeare and Neologis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made up tons of words that at the time were new and completely foreig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ast 3000 words that we still use tod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nn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as an increased interest in sonnets at this time in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egan writing English sonnets (there was already the Italian sonn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2:17:39Z</dcterms:created>
  <dc:creator>WB Tech</dc:creator>
  <dc:description/>
  <dc:language>en-US</dc:language>
  <cp:lastModifiedBy>Owner</cp:lastModifiedBy>
  <dcterms:modified xsi:type="dcterms:W3CDTF">2009-06-03T05:16:02Z</dcterms:modified>
  <cp:revision>3</cp:revision>
  <dc:subject/>
  <dc:title>Final Exam-English</dc:title>
</cp:coreProperties>
</file>