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4EC-FD22-4AC6-BD59-8615845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180-CF5B-4574-A37A-AB770A7D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98A-AEE4-44F0-84B4-44BDA94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57-2366-4725-9F67-2BCE1820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5019-8558-4664-A303-E85979CF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67B-213B-4B32-811E-7E5D79F2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520-C57C-40D9-BE60-F0BA922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3A1-6E7F-4D92-BA56-29D3A9CF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088-C254-438B-ABA8-B2D7465D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794-74A6-4DE8-9B41-8711C175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320-3CFD-4240-AA6A-1AAF6F4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02F-B37C-4225-BD71-1E861EA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E74-042B-434C-97F4-DAA43A843A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Exam-Engl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iograp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e Konnor 8-5.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d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niest of Shakespeare’s pl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the happily ever af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is considered a comed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these were the plays that had conflict but everything was returned to the normal or a happy e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most famous plays and usually the most pop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s are usually taken from the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mlet, Romeo and Jul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emphasized the leader or a political leader and how hard it was to do their jo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i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important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usually had historical back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based off of a prominent figure in Elizabethan Englan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 Hathaw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kespeare’s wi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ght to be much older than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icious thing was that she may have been pregnant at the time of her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iam spent minimal time with her because he moved to London to work on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didn’t leave her much in their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retired later on to spend more time with his family and w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en Elizabe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formed the Queen’s men which was a group of highly professional and skilled acto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loved plays but never attended any public ones. They were always brought to 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did though come to see some of Shakespeare’s play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rd Chamberlain’s 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the acting group that Shakespeare joined once moving to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wrote plays for them, they were the leading acting compa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ovided him with a steady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izabethan The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lobe and other theaters-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audiences of all social status were allowed to go to the the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 form of entertainment during Elizabethan Engla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ater areas held around 3000 people at m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ers stood in the pit, people of higher status’ would sit in the gallery and some would sit on stage in chai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lag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ke out in London 159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had to move away and start writing poe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d many citizens, and mostly targeted young children (not many of these kids lived past inf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atfor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William grew up with his parents and sibl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marrying Anne Hathaway they moved in with his parents (customa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ough Anne the New Place in Stratford where they raised their childr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came prestigious and owned the second largest house in Stratf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nd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began working as an actor and playwright in around 1582-15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gue broke out in London in 1593 and Shakespeare began to write poe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unknown where Shakespeare lived during his time spent in Lond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he moved around to different acting companies to make mone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thwa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he theater The Globe was locat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y popular city with tons of tourism attr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d a few other theaters that were popu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blication of D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dsummer Night’s Dream was published around 160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rst Fol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hakespeare's pl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 in total with 1000 copies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riends and fellow thespians made the book with the famous engraving that will be known as Shakespeare's main por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and the acting company he was working with preformed most of their pla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two thea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torn down by Purit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s moved across the river and rebuilt on the other 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kespeare and Neologis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Shakespeare made up tons of words that at the time were new and completely foreig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ast 3000 words that we still use tod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as an increased interest in sonnets at this time in Lond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began writing English sonnets (there was already the Italian sonne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2:17:39Z</dcterms:created>
  <dc:creator>WB Tech</dc:creator>
  <dc:description/>
  <dc:language>en-US</dc:language>
  <cp:lastModifiedBy>Owner</cp:lastModifiedBy>
  <dcterms:modified xsi:type="dcterms:W3CDTF">2009-06-03T05:16:02Z</dcterms:modified>
  <cp:revision>3</cp:revision>
  <dc:subject/>
  <dc:title>Final Exam-English</dc:title>
</cp:coreProperties>
</file>