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439-415C-4F6C-A2B4-07E2F893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FD3-1317-48E6-9FA5-B124942F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E1B-CC0A-45E7-89C6-E423C2E3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E7F-E6AD-488B-83F5-305E98E0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11E-9E1B-43A9-BEF9-6074873E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275-09B8-4F9C-A4F3-5CF42801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D6A-EABC-4C51-9A81-2474806F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894-AAE9-479C-808B-4778819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08D-ACEF-4505-942A-1CD51A8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B07-1701-4733-BF88-BAB6F76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636-758B-4DC1-971B-AB92718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718-1E7D-4245-A520-3D2EB34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8F4-F2F0-4625-BA8D-580400288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Exam-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i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e Konnor 8-5.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niest of Shakespeare’s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the happily ever af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is considered a com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hese were the plays that had conflict but everything was returned to the normal or a happy e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most famous plays and usually the most po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s are usually taken from the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let, Romeo and Jul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emphasized the leader or a political leader and how hard it was to do their jo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important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had historical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ased off of a prominent figure in Elizabethan Englan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 Hathaw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speare’s w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t to be much older tha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icious thing was that she may have been pregnant at the time of her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iam spent minimal time with her because he moved to London to work on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didn’t leave her much in their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retired later on to spend more time with his family and w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en Elizabe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formed the Queen’s men which was a group of highly professional and skilled acto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loved plays but never attended any public ones. They were always brought to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did though come to see some of Shakespeare’s pla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d Chamberlain’s 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acting group that Shakespeare joined once moving to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wrote plays for them, they were the leading act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vided him with a steady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izabethan The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be and other theaters-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udiences of all social status were allowed to go to the the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form of entertainment during Elizabethan Engla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ater areas held around 3000 people at m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ers stood in the pit, people of higher status’ would sit in the gallery and some would sit on stage in chai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lag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ke out in London 159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had to move away and start writing po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many citizens, and mostly targeted young children (not many of these kids lived past inf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t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William grew up with his parents and sibl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marrying Anne Hathaway they moved in with his parents (custom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ugh Anne the New Place in Stratford where they raised their childr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came prestigious and owned the second largest house in Stratf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d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egan working as an actor and playwright in around 1582-15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 broke out in London in 1593 and Shakespeare began to write poe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unknown where Shakespeare lived during his time spent in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he moved around to different acting companies to make mone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thwa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theater The Globe was loca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popular city with tons of tourism att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d a few other theaters that were popu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ation of D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was published around 16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Fol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kespeare's pl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 in total with 1000 copies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riends and fellow thespians made the book with the famous engraving that will be known as Shakespeare's main por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and the acting company he was working with preformed most of their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two the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torn down by Purit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moved across the river and rebuilt on the other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kespeare and Neologis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made up tons of words that at the time were new and completely foreig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3000 words that we still use tod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as an increased interest in sonnets at this tim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egan writing English sonnets (there was already the Italian sonn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2:17:39Z</dcterms:created>
  <dc:creator>WB Tech</dc:creator>
  <dc:description/>
  <dc:language>en-US</dc:language>
  <cp:lastModifiedBy>Owner</cp:lastModifiedBy>
  <dcterms:modified xsi:type="dcterms:W3CDTF">2009-06-03T05:16:02Z</dcterms:modified>
  <cp:revision>3</cp:revision>
  <dc:subject/>
  <dc:title>Final Exam-English</dc:title>
</cp:coreProperties>
</file>