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DB2C-6820-4C89-A24E-A90A1BC56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C7FF-007E-456B-AA8D-6A33E1F8E4D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B220-F385-49DF-A8A0-FDD281A5793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58E-3F15-4A7A-9EFA-4C64F2105BB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4AF5-6080-4BC5-AE00-82AF5658B34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6F19-13B4-463D-BC36-39B58F3E200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AE9C-0840-4F8A-AAFF-95A10705E89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A5E6-97E8-451A-9BC2-62C45DB8844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4C0F-DEA8-4140-AAA5-87CC9F4EC4D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301C-6710-4ADC-9179-0BD5D7A80E7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8CE3-A5D8-42D0-AEE9-C2B868D50D0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B18B-850E-44BB-960E-FBBA8ED3C18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170B-E2DD-478C-A6E0-922280D513B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E875-2FDA-4579-8D07-23BC735D72A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BBC0-5F15-4E39-A2D6-7965355BC7C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4F52-80A9-4989-A021-C939F4986D4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EFD7-6E08-4F44-8A5E-E2854CF4562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9DF2-5196-43E0-A584-16DE73E6273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626A-E8CB-40AD-8EFB-A64B4825921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C237-922C-4729-B5E4-70960D8F279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557D-6FBD-4688-85D0-3AC3AFA962B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6B21-AF31-4270-9746-6561A9B8FD8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8B91-7712-429F-BECD-611DC4FBABA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FAA6-7CAB-4EC6-B7E0-CEA4C6C729C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45DE-A3E9-4F33-B0FD-11593BE07DA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D4A8-F513-45E5-A588-0ED51645775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6DDC-54D3-4CDD-916C-92FF68ACB89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AACA-CF80-4976-A579-37571B53DAC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6235-6F92-44AD-855A-251C341536F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890F-6B78-44C8-B083-24AB676F6D1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8A69-0D67-4A0F-BBF1-D71F10CD924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EFBD-EB84-4681-9694-6A751C27CE8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0DC5-EDF9-44FD-8848-FC545A50043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A5C7-1C4F-4E6F-B359-A5E9FCA312A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FFEE-A5D2-47B6-A666-98D3D3584E2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0C5E-67C5-4E8C-8761-127CA201A60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D81F-F483-41A6-BDD6-0CE749FCF6E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FBED-266F-4DA1-9317-01568165120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203-D60A-4194-B4D0-BC818B04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A25-A052-4441-9744-781024DC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461-6574-4D6B-8D26-7E18D997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BB4-6731-4F00-8B3F-6C366963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932A-3333-46CD-8015-2B71055D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8C8E-4265-4756-8A57-9FFDC9E3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34E5-57C2-4D79-AD8C-8D6A693C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6F4F-289E-4BB3-99F3-28F8E293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23CE-4B48-458C-A659-14C6ABBF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4606-73EA-4ACB-A18B-042A0FA7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7954-47E3-4305-868F-6B53FA12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3E4-C39E-4224-8107-54B4AFAA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BE5D-A0E9-494D-B397-9A12932E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F30E-5494-4D5A-AB89-FE6EB37D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F974-E3F1-45A0-8117-521F7FF9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8789-4F38-48B6-983B-BC55AFC4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F95-F35D-4A9F-A570-0167E165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95D-6E51-4E26-937A-79D797BD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953-A0A1-48BE-A27D-2E22368B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EBC-5FF3-4787-ACB4-0285EF3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F45-1DAA-4B32-8AFD-E0A015EC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523-40B7-4278-823B-2FC54022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A5D-23B8-4EDC-AFD0-AAE7E870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A91-B9F1-42DB-B3C7-56B6E49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5D5A-0527-4CF8-9EAE-7AEFD6136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A673-4259-46EC-9127-2F7DEF53C0DA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33.xml"/><Relationship Id="rId8" Type="http://schemas.openxmlformats.org/officeDocument/2006/relationships/slide" Target="slide4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24.xml"/><Relationship Id="rId13" Type="http://schemas.openxmlformats.org/officeDocument/2006/relationships/slide" Target="slide29.xml"/><Relationship Id="rId14" Type="http://schemas.openxmlformats.org/officeDocument/2006/relationships/slide" Target="slide34.xml"/><Relationship Id="rId15" Type="http://schemas.openxmlformats.org/officeDocument/2006/relationships/slide" Target="slide5.xml"/><Relationship Id="rId16" Type="http://schemas.openxmlformats.org/officeDocument/2006/relationships/slide" Target="slide10.xml"/><Relationship Id="rId17" Type="http://schemas.openxmlformats.org/officeDocument/2006/relationships/slide" Target="slide15.xml"/><Relationship Id="rId18" Type="http://schemas.openxmlformats.org/officeDocument/2006/relationships/slide" Target="slide20.xml"/><Relationship Id="rId19" Type="http://schemas.openxmlformats.org/officeDocument/2006/relationships/slide" Target="slide25.xml"/><Relationship Id="rId20" Type="http://schemas.openxmlformats.org/officeDocument/2006/relationships/slide" Target="slide30.xml"/><Relationship Id="rId21" Type="http://schemas.openxmlformats.org/officeDocument/2006/relationships/slide" Target="slide3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Jeopardy!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By Samantha Koh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ffid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1460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h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ynical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90920" y="2057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trustfu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17528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id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819520" y="2590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g, scol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ncur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505320" y="2286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agre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209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Rancor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14600" y="2057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ugm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666880" y="1981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creas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igma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146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Known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mbival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cisiv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round- well develope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flat- shows only one sid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atic- non chang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ynamic- chang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Protagonist- main character or good gu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tagonist- enemy or rival of the protagonist, the bad gu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Foil- a character placed in the story as an opposite of another charac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143000" y="2057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ist 3 characteristics of what a character can be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4 types of Conflict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914400" y="289548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man- class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self- psycholog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society- soci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nature- phys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0"/>
          <p:cNvSpPr/>
          <p:nvPr/>
        </p:nvSpPr>
        <p:spPr>
          <a:xfrm>
            <a:off x="1371600" y="6508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762120"/>
          <a:ext cx="8610480" cy="5911560"/>
        </p:xfrm>
        <a:graphic>
          <a:graphicData uri="http://schemas.openxmlformats.org/drawingml/2006/table">
            <a:tbl>
              <a:tblPr/>
              <a:tblGrid>
                <a:gridCol w="1230480"/>
                <a:gridCol w="1228680"/>
                <a:gridCol w="1230120"/>
                <a:gridCol w="1231920"/>
                <a:gridCol w="1230480"/>
                <a:gridCol w="1228680"/>
                <a:gridCol w="12301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Definition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Synonym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Antonym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Storie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Poetry Term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Literary Term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Part of Speech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Jeopardy!!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omniscent or “all knowing”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limited omniscent or only knows what the character know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first person- the narrator is telling the story, we get into their hea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third person- this is the he/she/they for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990720" y="1600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me 3 of the 4 types of narrations of a story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historical- time perio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geographical- place, landscape, weather, surround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socio-econimic- economic and social class, daily lif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specific loca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90920" y="16765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me the 2 of the 4 types of settings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33360" y="205704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raw the Freytag’s Pyramid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47920" y="3044880"/>
            <a:ext cx="6400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the difference between open form and closed for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676520" y="373392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losed form follows a specific patter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pen form does not follow a specific patter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is the rhyme scheme of a poem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523880" y="3429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pattern of a rhyme in a poe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3505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scribe a Haiku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038480" y="2057400"/>
            <a:ext cx="4419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Follows the pattern of 5-7-5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captures the intensity of a specific moment, instead of a general tim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about natu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type of scheme did Shakespeare us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66680" y="4114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ambic pentameter: stressed, unstresse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scribe an English Sonne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371600" y="32004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14 total lines; 3 quatrains and 1 couplet; meter- iambic pentameter; rhyme- ABAB CDCD EFEF G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ive an example of a simile and a metaphor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imagery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23880" y="3124080"/>
            <a:ext cx="640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"mental pictures" writers paint; description of all the sensory perceptions referred to in a piece of writing including all senses- visual (see), auditory (hear), tactile (touch), thermal (heat and cold), olfactory (smell), gustatory (taste), and kinesthetic sensation (movement)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17524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vulg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038480" y="2666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tell or reveal [as a secret]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30!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 hyperbo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81952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n exaggeratio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 symbol? Can you give an example of a symbol from 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TKAM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38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symbol is a part of a story that symbolizes a deeper meanin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480" y="213336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n allusion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71800" y="3352680"/>
            <a:ext cx="5029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An indirect historical, cultural, or literary reference that enriches the meaning of the poem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reader brings background knowledge to the poe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be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3276720" y="3657600"/>
            <a:ext cx="25891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U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auch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666880" y="3124080"/>
            <a:ext cx="3810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JECTIV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asti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902040" y="421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3276720" y="3657600"/>
            <a:ext cx="25891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U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xtradit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2971800" y="3429000"/>
            <a:ext cx="3516480" cy="16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B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rudit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2057400" y="3103560"/>
            <a:ext cx="541008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JECTIVE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697120"/>
            <a:ext cx="16002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igo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133720" y="3276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e who is intolerable of differences in other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stensibl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819520" y="2057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rofessed but not necessarily tru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igma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38280" y="2057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yster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bjur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09680" y="1981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give up, to avoid or shu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agacity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2438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isdo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905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mur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146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Reserved, quiet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0:12:36Z</dcterms:created>
  <dc:creator>Samantha Kohl</dc:creator>
  <dc:description/>
  <dc:language>en-US</dc:language>
  <cp:lastModifiedBy>Owner</cp:lastModifiedBy>
  <dcterms:modified xsi:type="dcterms:W3CDTF">2009-06-03T05:18:02Z</dcterms:modified>
  <cp:revision>5</cp:revision>
  <dc:subject/>
  <dc:title>Jeopardy!!</dc:title>
</cp:coreProperties>
</file>