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2885-B90C-462F-9F2C-3A2B04FBB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19EC-620E-454A-B68E-277E8DC3501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F7B4-C82D-467D-81D3-E1A0A22801B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3B17-A4C3-49D1-A00B-FBAAB493202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744-7F8D-4CB4-A20B-4192EAF73C7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C435-46A5-4040-84A5-B30C348DE5F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4331-EC2F-46D1-98ED-66E8F510347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A527-E044-4F44-B1B3-FBD48D753FC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A526-322A-4A6F-B0EE-49956C57FB0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EC05-3418-4C03-9795-381996BD975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D9A7-6DF1-4545-8143-0BCC7AFC12F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5533-C459-4BB2-B0A1-62D8D4308B9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8907-4C3E-4FDD-9D9C-32C0951BBF5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DE65-8C7B-470A-A0B5-1EB41795477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5579-58F5-402C-A012-FB80E2B99A9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BEE2-EFEA-40A7-8F1D-7482809117A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E52-3A5E-49EA-9C22-C8868BA80B3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EB8F-DD6E-4C43-BB0C-5941A793505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4B5D-A432-4A4F-A7C7-1F8BC7F10AB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8E67-9069-46F9-A9BD-BCBA34B17FC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BEE1-ACD0-4144-B4F9-19AA252AD02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4C73-4C69-444A-BFF3-76832420680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0C86-EEE5-4A2B-9F1F-3BE92FDC9E8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B6A5-5CC1-42C3-BC3C-9FFC5E20F58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233D-3361-4B3B-A83A-6A261834178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FCC6-2B4C-4963-832A-82B134B8A8F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35A-CCA2-46BD-A955-24C870CEE4F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AF10-6B4E-4A21-8342-1677A749213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1988-84B5-41D3-958D-8F2992DFC3D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12DE-BB7A-4FEF-9BA1-1BE66C8359E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593F-592B-43E4-B30C-4F0563EA0E8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99BD-A85B-4DCB-9365-048AACEC314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83CF-FBDF-4672-9739-C765227913C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29EB-78FD-405D-A9C3-A564707C6DB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C68F-BB4B-4323-BC01-8326A6614E3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E54-7C58-4ECF-BEE2-8D1864C100E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C2C5-F8C0-4A17-A7CB-92E0A717DA5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9AE-8C41-4EC4-BCC2-6D5D6E8661A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D11-AFA8-4B62-980E-89EFC232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948-62CE-4963-9AE5-5E094644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8BB-0A0C-4EC1-9F95-531660B0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336-8ABB-4BEB-9775-CEEC83B5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9307-502E-4050-BE0D-640706B8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A259-7AD0-490F-9E4C-16121B48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EC04-A936-4C14-8D80-4CCA1A1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2C57-CD0F-46B0-9D24-9F735435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A7C6-D727-4B3D-A4C5-466A08D4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40F0-45F9-447C-93EB-8ACCA58C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8534-480F-479A-ADA1-89593A49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CEA-5C82-48E8-BD26-1469D23A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0B75-DFA6-4321-8004-4100838B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5BDC-BBD4-4174-870B-81CC345A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B2DD-2F8D-4782-A697-05BD32A4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07C1-5774-4BC9-8391-98469D8E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0D88-7F2E-4832-82B1-A736BBEB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2AC-A813-474E-B117-47769E62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60D-70E9-46F8-B7CA-29F904C6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262-A7FB-4A90-A9E1-164B4688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7B8-658D-47FD-84F2-C7D5D6C9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0FC-334A-4212-B4BE-C0AA7572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892-AEC3-4E27-90B0-EDDDB931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1C7-00BC-4ACC-A354-237A47A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5CD-5B88-4710-B8CD-7896FCD0E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84C2-10EA-4C5A-9CC3-FBBD1CCB5918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29.xml"/><Relationship Id="rId14" Type="http://schemas.openxmlformats.org/officeDocument/2006/relationships/slide" Target="slide34.xml"/><Relationship Id="rId15" Type="http://schemas.openxmlformats.org/officeDocument/2006/relationships/slide" Target="slide5.xml"/><Relationship Id="rId16" Type="http://schemas.openxmlformats.org/officeDocument/2006/relationships/slide" Target="slide10.xml"/><Relationship Id="rId17" Type="http://schemas.openxmlformats.org/officeDocument/2006/relationships/slide" Target="slide15.xml"/><Relationship Id="rId18" Type="http://schemas.openxmlformats.org/officeDocument/2006/relationships/slide" Target="slide20.xml"/><Relationship Id="rId19" Type="http://schemas.openxmlformats.org/officeDocument/2006/relationships/slide" Target="slide25.xml"/><Relationship Id="rId20" Type="http://schemas.openxmlformats.org/officeDocument/2006/relationships/slide" Target="slide30.xml"/><Relationship Id="rId21" Type="http://schemas.openxmlformats.org/officeDocument/2006/relationships/slide" Target="slide3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Jeopardy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By Samantha Koh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ffid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146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h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ynical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90920" y="2057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trustfu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1752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id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81952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g, scol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ncur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50532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agre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209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ancor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14600" y="205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ugm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666880" y="1981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creas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igma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146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Known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mbival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cisi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round- well develope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flat- shows only one sid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atic- non chang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ynamic- chang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Protagonist- main character or good gu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tagonist- enemy or rival of the protagonist, the bad gu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Foil- a character placed in the story as an opposite of another charac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143000" y="2057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ist 3 characteristics of what a character can be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4 types of Conflict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914400" y="289548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man- class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self- psycholog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society- soci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nature- phys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0"/>
          <p:cNvSpPr/>
          <p:nvPr/>
        </p:nvSpPr>
        <p:spPr>
          <a:xfrm>
            <a:off x="1371600" y="6508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762120"/>
          <a:ext cx="8610480" cy="5911560"/>
        </p:xfrm>
        <a:graphic>
          <a:graphicData uri="http://schemas.openxmlformats.org/drawingml/2006/table">
            <a:tbl>
              <a:tblPr/>
              <a:tblGrid>
                <a:gridCol w="1230480"/>
                <a:gridCol w="1228680"/>
                <a:gridCol w="1230120"/>
                <a:gridCol w="1231920"/>
                <a:gridCol w="1230480"/>
                <a:gridCol w="1228680"/>
                <a:gridCol w="1230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Definition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ynonym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Antonym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torie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Poetry Term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Literary Term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Part of Speech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Jeopardy!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omniscent or “all knowing”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limited omniscent or only knows what the character know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first person- the narrator is telling the story, we get into their hea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third person- this is the he/she/they for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990720" y="1600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me 3 of the 4 types of narrations of a story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historical- time perio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geographical- place, landscape, weather, surround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socio-econimic- economic and social class, daily lif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specific loc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90920" y="16765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me the 2 of the 4 types of settings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33360" y="205704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raw the Freytag’s Pyramid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47920" y="3044880"/>
            <a:ext cx="6400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the difference between open form and closed for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676520" y="373392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losed form follows a specific patter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pen form does not follow a specific patter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s the rhyme scheme of a poem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523880" y="3429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pattern of a rhyme in a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3505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scribe a Haiku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038480" y="2057400"/>
            <a:ext cx="4419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Follows the pattern of 5-7-5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captures the intensity of a specific moment, instead of a general tim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about n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type of scheme did Shakespeare us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66680" y="4114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ambic pentameter: stressed, unstresse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scribe an English Sonne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371600" y="32004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14 total lines; 3 quatrains and 1 couplet; meter- iambic pentameter; rhyme- ABAB CDCD EFEF G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ive an example of a simile and a metaphor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imagery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23880" y="312408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"mental pictures" writers paint; description of all the sensory perceptions referred to in a piece of writing including all senses- visual (see), auditory (hear), tactile (touch), thermal (heat and cold), olfactory (smell), gustatory (taste), and kinesthetic sensation (movement)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17524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vulg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038480" y="2666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tell or reveal [as a secret]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30!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hyperbo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81952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n exaggerati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symbol? Can you give an example of a symbol from 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TKAM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symbol is a part of a story that symbolizes a deeper meanin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480" y="213336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n allusion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71800" y="3352680"/>
            <a:ext cx="5029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An indirect historical, cultural, or literary reference that enriches the meaning of the poem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reader brings background knowledge to the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be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3276720" y="3657600"/>
            <a:ext cx="25891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U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auch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666880" y="3124080"/>
            <a:ext cx="3810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CTIV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asti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902040" y="421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3276720" y="3657600"/>
            <a:ext cx="25891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U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xtradit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2971800" y="3429000"/>
            <a:ext cx="351648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rudit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2057400" y="3103560"/>
            <a:ext cx="541008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CTIVE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697120"/>
            <a:ext cx="16002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igo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133720" y="3276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e who is intolerable of differences in other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stensibl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819520" y="2057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rofessed but not necessarily tru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igma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38280" y="2057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yster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bjur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09680" y="1981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give up, to avoid or shu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agacity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2438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isdo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905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mur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146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Reserved, quiet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0:12:36Z</dcterms:created>
  <dc:creator>Samantha Kohl</dc:creator>
  <dc:description/>
  <dc:language>en-US</dc:language>
  <cp:lastModifiedBy>Owner</cp:lastModifiedBy>
  <dcterms:modified xsi:type="dcterms:W3CDTF">2009-06-03T05:18:02Z</dcterms:modified>
  <cp:revision>5</cp:revision>
  <dc:subject/>
  <dc:title>Jeopardy!!</dc:title>
</cp:coreProperties>
</file>