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BDA3-A093-4F08-B032-82FF66A1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007-EB12-419C-AA6D-8857F172D66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96B-B431-4105-806D-B48A0C8A6FA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3D06-1C96-4D3D-B6B1-D75BAEED637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063-4512-494F-8F9D-F54C28D9C0B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5215-27DB-46EA-A166-49CC22B3B77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AF84-293A-4F4E-B8FD-44C77E28AC6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209-A230-4F8F-A9F6-9520DC47D98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E039-D2C3-4A2F-9B26-F3EC0849B69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E3D-7BAE-4994-B7FC-F1FE316FF40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02A-FE1E-4107-9876-ADF3081D396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049-EE81-4E81-866E-527FEFF42E0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40F4-5C7E-47D4-9D5E-D289A0C9651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CAD-3EA8-4906-ADF7-F292D641EDD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6C5-75A4-4920-AFA9-7F27DE2826C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3C98-AB13-4846-9ADB-497C4A22DF5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A4A7-CE7E-4B38-8E95-C0AE2B89EE7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E465-2571-458D-B5D1-967E24D670C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2CE-62E9-4395-9F99-010B08CF147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B7D-C2C9-4ACE-9400-3A775CC9481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FB6-D725-49A8-BCCD-451A42274ED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332-6209-49AE-8218-4F2DA663244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7817-215A-49FF-A101-0BFD106B53A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A2CD-B14D-4750-9EBB-7B567A63DE7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EF9-5C43-43EB-AB69-16DD07A7CB7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B7C-3CDC-40E9-BE1F-76D757A98DC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1CFF-C9AC-4581-9C1B-314AD7466D0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B56-B2FF-4AF9-83A2-FF6AA9500EE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D4C0-57BD-4B13-925A-C07A31598D8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8565-CFD5-4DF3-9D02-29FB6A67DE0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165-538B-41B4-A183-D8A6E52163E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DFF-7A40-4949-BBE4-84B9002F206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E7EA-1D41-4BFA-8911-520D6D5F7A2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F680-4698-47D6-A7E4-1B78BD2157C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68A-0A4A-45DD-9BD5-D69DE22BA56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C648-AC36-40B0-B446-3ADD22B27AB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74F-B38D-4030-A05B-B4535338192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1876-EB12-4B0D-A273-4B20CB8F408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549-B802-4B28-B260-8434116A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03E-A2F4-403B-8203-C6582908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928-67BB-4FB3-AF7C-069FBCC6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A47-8999-4D6C-ACA8-34D362E5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FA0-BDFA-485C-B9AC-F985CA0E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3764-6187-4130-8F1C-63B2D6B8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A05D-A784-489D-9161-55EC7028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FA89-F0DF-4EF2-B14F-44A04EF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615-4243-4EC5-90EE-BD7C593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21C-976B-4DD3-8F35-6BA3293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BEA9-737C-4F60-A044-2C06A5D7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A7B-5D5A-4077-88A9-2DC6D5C4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37D3-9234-4466-9EA2-0E4DD4A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797-ED8D-4D06-851E-38CCC38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2A65-C4B1-4DA9-8B7D-6B01E0F0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408-26BD-4B83-81EC-60BA2516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4034-DAB9-4E98-A15D-FE70C09B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B1C-84BD-4A5E-A6FE-1D221AE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914-93BE-4EC6-B3ED-D90F9F27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0C3-6BF7-4B11-939D-1BEB913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37D-1CF2-4716-ACB5-9E8340C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CD6-DF80-422D-8828-06E08D8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E42-C976-48ED-BE56-CA8E25F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6E8-EFFB-4AAA-B94D-1E26A1C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512-1D86-4610-928A-5AF01297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F447-8985-4C33-A90C-F6765F65A2B8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5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20.xml"/><Relationship Id="rId19" Type="http://schemas.openxmlformats.org/officeDocument/2006/relationships/slide" Target="slide25.xml"/><Relationship Id="rId20" Type="http://schemas.openxmlformats.org/officeDocument/2006/relationships/slide" Target="slide30.xml"/><Relationship Id="rId21" Type="http://schemas.openxmlformats.org/officeDocument/2006/relationships/slide" Target="slide3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eopardy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Samantha Koh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ffid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14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ynica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2057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trustfu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1752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id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8195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g, scol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ncu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053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agre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nco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14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gm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6668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mbival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isi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round- well develope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flat- shows only one si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atic- non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ynamic-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tagonist- main character or goo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tagonist- enemy or rival of the protagonist, the ba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il- a character placed in the story as an opposite of another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14300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ist 3 characteristics of what a character can be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4 types of Conflic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2895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man- clas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elf- psycholog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ociety- soci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nature- phy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0"/>
          <p:cNvSpPr/>
          <p:nvPr/>
        </p:nvSpPr>
        <p:spPr>
          <a:xfrm>
            <a:off x="1371600" y="6508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762120"/>
          <a:ext cx="8610480" cy="5911560"/>
        </p:xfrm>
        <a:graphic>
          <a:graphicData uri="http://schemas.openxmlformats.org/drawingml/2006/table">
            <a:tbl>
              <a:tblPr/>
              <a:tblGrid>
                <a:gridCol w="1230480"/>
                <a:gridCol w="1228680"/>
                <a:gridCol w="1230120"/>
                <a:gridCol w="1231920"/>
                <a:gridCol w="1230480"/>
                <a:gridCol w="1228680"/>
                <a:gridCol w="123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Definition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yn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nt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torie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oet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Litera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art of Speech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Jeopardy!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omniscent or “all knowing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limited omniscent or only knows what the character kn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first person- the narrator is telling the story, we get into their he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third person- this is the he/she/they for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1600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3 of the 4 types of narrations of a story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historical- time perio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geographical- place, landscape, weather, surrou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ocio-econimic- economic and social class, daily lif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pecific loc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90920" y="16765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the 2 of the 4 types of settings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20570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w the Freytag’s Pyramid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47920" y="3044880"/>
            <a:ext cx="6400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difference between open form and closed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676520" y="3733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osed form follows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form does not follow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rhyme scheme of a po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3880" y="3429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attern of a rhyme in a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3505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 Haiku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038480" y="205740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Follows the pattern of 5-7-5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captures the intensity of a specific moment, instead of a general 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bout n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ype of scheme did Shakespeare u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6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ambic pentameter: stressed, unstress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n English Sonne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71600" y="3200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14 total lines; 3 quatrains and 1 couplet; meter- iambic pentameter; rhyme- ABAB CDCD EFEF G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ive an example of a simile and a metapho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imagery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3880" y="31240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"mental pictures" writers paint; description of all the sensory perceptions referred to in a piece of writing including all senses- visual (see), auditory (hear), tactile (touch), thermal (heat and cold), olfactory (smell), gustatory (taste), and kinesthetic sensation (movement)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17524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vulg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38480" y="266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tell or reveal [as a secret]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30!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hyperbo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8195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 exagger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symbol? Can you give an example of a symbol fro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TKAM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symbol is a part of a story that symbolizes a deeper mea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n allus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71800" y="3352680"/>
            <a:ext cx="5029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n indirect historical, cultural, or literary reference that enriches the meaning of the po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ader brings background knowledge to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be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auch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666880" y="3124080"/>
            <a:ext cx="3810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ti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02040" y="421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tra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971800" y="3429000"/>
            <a:ext cx="35164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ru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057400" y="3103560"/>
            <a:ext cx="541008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697120"/>
            <a:ext cx="16002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igo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3276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e who is intolerable of differences in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stensibl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1952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fessed but not necessarily tru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382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yster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bj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096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give up, to avoid or shu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agacit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2438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905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146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served, quie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0:12:36Z</dcterms:created>
  <dc:creator>Samantha Kohl</dc:creator>
  <dc:description/>
  <dc:language>en-US</dc:language>
  <cp:lastModifiedBy>Owner</cp:lastModifiedBy>
  <dcterms:modified xsi:type="dcterms:W3CDTF">2009-06-03T05:18:02Z</dcterms:modified>
  <cp:revision>5</cp:revision>
  <dc:subject/>
  <dc:title>Jeopardy!!</dc:title>
</cp:coreProperties>
</file>