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817B-79E9-4737-99F9-7B1B45414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E42A-C67F-4057-83E1-3AAE9BEC7F41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8C60-1B6F-499B-9B07-089875BCC9D0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42FA-0A02-421E-8AE4-8116BC5690F9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17F3-33D7-4969-B79E-DC2D5F6FA31E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80F8-30A0-45A3-8EA2-D8681BCE9A17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CF04-85D8-48F9-9F96-3B1699108E27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E53F-2613-4431-86F2-2E1088CD5B94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8574-8FD2-4BF2-AA10-4E4890303B6F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4FCF-E0BD-4DF0-9946-1A9063D0E9D7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89F7-EF61-444B-AFE4-2F688DF7D69C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DF47-3CB5-4DD3-B011-DD9A4A742796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BFE3-5775-4B4F-BA51-9497AB5FEC43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E2FD-4913-4885-9CC6-E976D64F2772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0C13-431B-4FE0-8662-5D426F461068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4A23-328F-472A-961C-0AA1E8162DCA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08CF-0424-4255-B544-A5E066C59A65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8899-FE80-467E-AC6C-D0C311114D76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BE1C-9180-45BC-B91F-35D5F047E86A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F1EC-38EA-4399-B52E-72815E8BEA54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5449-01FB-442B-94B2-AC8C0DC0DAC6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B606-A2AF-453B-894E-3D7E9759448E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0154-C9BD-463D-9157-A7340E40CFD7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9D7B-780C-4C36-961F-E92D8732AFD7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DB01-C6CC-4BF4-90CA-0321E4CF83EF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D6E8-CE30-4B0D-AFD2-7C22BFA8789F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1A1F-2432-4D33-979B-13E5115C28C5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9594-7377-4D0F-8566-0A371AED15CD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68FC-E142-4C75-925C-8996506013D9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3B32-6833-43CF-87B7-F2FD99DACA7F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C95B-C217-4186-8205-A8E3F31A8A65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B3A1-5FF1-4BCA-A087-852995D9C39A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CD25-C91E-45B3-8E3E-75CA9791CC5F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77F5-43CC-454F-8EA3-369164989F38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AAB2-DE67-40EC-866C-BA2C07D94F41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06BF-FB57-4CA2-A653-B01CFE69D9E1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97AE-014C-45AB-AAB4-E053F6946365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219C-74B6-4F52-935C-1DCD6240CA9B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E61B-6670-47BA-B848-147A2D265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4F80-9664-4A60-883B-631D1E87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0722-3E10-4309-A04B-90418A8D3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D86D-2D52-4669-B811-9F5FE51C9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5FDE-1D1D-4EC9-AEB3-257C9D9F4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EA6E-5866-4091-9A35-4B652086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D7A3-D566-4CD5-B10D-9D8F67C4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A77D-AC57-4979-9B5F-CBCCDC81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F993-E981-4C65-A404-5A9FAF0A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7EB7-1CA0-4A1F-AF1D-A1F2B1E6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55D1-A1DA-4692-B314-2940043F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9168-87F1-4A9D-AF9D-4D9840CD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CF44-4D8F-4EE8-A569-9873F580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67E9-FD1C-42B0-BF11-AEDBFEAB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4208-9534-42ED-A8F8-B9F4D784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F7DC-0A18-4C8C-8948-7A17C2740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F5B0-E457-4E26-BAC1-245F390B8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2F5C-96F8-47CB-B41E-0C297A01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BB43-AD35-4369-8000-E2AFED14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66C3-0608-4450-905B-4B71DD70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B295-5051-4114-BAF9-59618EA5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3D65-63EB-498D-8D19-CA5DC9F2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8518-6F57-47C8-BD63-1E0845D8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EDFC-BAF2-4A0E-858B-57840547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DB50-FC15-40F0-ACF9-6E9918A95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4B8D-3F8C-494D-A23A-0C019495EB3F}" type="slidenum">
              <a:rPr b="0" lang="en-US" sz="1400" spc="-1" strike="noStrike">
                <a:solidFill>
                  <a:srgbClr val="5d220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" Target="slide23.xml"/><Relationship Id="rId6" Type="http://schemas.openxmlformats.org/officeDocument/2006/relationships/slide" Target="slide28.xml"/><Relationship Id="rId7" Type="http://schemas.openxmlformats.org/officeDocument/2006/relationships/slide" Target="slide33.xml"/><Relationship Id="rId8" Type="http://schemas.openxmlformats.org/officeDocument/2006/relationships/slide" Target="slide4.xml"/><Relationship Id="rId9" Type="http://schemas.openxmlformats.org/officeDocument/2006/relationships/slide" Target="slide9.xml"/><Relationship Id="rId10" Type="http://schemas.openxmlformats.org/officeDocument/2006/relationships/slide" Target="slide14.xml"/><Relationship Id="rId11" Type="http://schemas.openxmlformats.org/officeDocument/2006/relationships/slide" Target="slide19.xml"/><Relationship Id="rId12" Type="http://schemas.openxmlformats.org/officeDocument/2006/relationships/slide" Target="slide24.xml"/><Relationship Id="rId13" Type="http://schemas.openxmlformats.org/officeDocument/2006/relationships/slide" Target="slide29.xml"/><Relationship Id="rId14" Type="http://schemas.openxmlformats.org/officeDocument/2006/relationships/slide" Target="slide34.xml"/><Relationship Id="rId15" Type="http://schemas.openxmlformats.org/officeDocument/2006/relationships/slide" Target="slide5.xml"/><Relationship Id="rId16" Type="http://schemas.openxmlformats.org/officeDocument/2006/relationships/slide" Target="slide10.xml"/><Relationship Id="rId17" Type="http://schemas.openxmlformats.org/officeDocument/2006/relationships/slide" Target="slide15.xml"/><Relationship Id="rId18" Type="http://schemas.openxmlformats.org/officeDocument/2006/relationships/slide" Target="slide20.xml"/><Relationship Id="rId19" Type="http://schemas.openxmlformats.org/officeDocument/2006/relationships/slide" Target="slide25.xml"/><Relationship Id="rId20" Type="http://schemas.openxmlformats.org/officeDocument/2006/relationships/slide" Target="slide30.xml"/><Relationship Id="rId21" Type="http://schemas.openxmlformats.org/officeDocument/2006/relationships/slide" Target="slide35.xml"/><Relationship Id="rId22" Type="http://schemas.openxmlformats.org/officeDocument/2006/relationships/slide" Target="slide6.xml"/><Relationship Id="rId23" Type="http://schemas.openxmlformats.org/officeDocument/2006/relationships/slide" Target="slide11.xml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Jeopardy!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523520" y="335232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By Samantha Koh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ynonym for 3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438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Diffident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514600" y="20574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shy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ynonym for 4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286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ynical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2590920" y="20574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distrustfu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ynonym for 5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175284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hide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2819520" y="2590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Nag, scold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Antonym for 1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352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oncur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3505320" y="22860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disagre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Antonym for 2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209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Rancor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514600" y="20574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lov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Antonym for 3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7432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ugment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666880" y="19810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decreas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Antonym for 4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17524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Enigma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2514600" y="21337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Known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Antonym for 5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909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mbivalent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971800" y="19810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decisiv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tories for 1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26665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-round- well developed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-flat- shows only one side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tatic- non changing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Dynamic- changing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Protagonist- main character or good guy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Antagonist- enemy or rival of the protagonist, the bad guy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Foil- a character placed in the story as an opposite of another character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1143000" y="20574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List 3 characteristics of what a character can be!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tories for 2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64771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are the 4 types of Conflicts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914400" y="2895480"/>
            <a:ext cx="6781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-man vs. man- classica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-man vs. self- psychologica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-man vs. society- socia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-man vs. nature- physica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10"/>
          <p:cNvSpPr/>
          <p:nvPr/>
        </p:nvSpPr>
        <p:spPr>
          <a:xfrm>
            <a:off x="1371600" y="6508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28600" y="762120"/>
          <a:ext cx="8610480" cy="5911560"/>
        </p:xfrm>
        <a:graphic>
          <a:graphicData uri="http://schemas.openxmlformats.org/drawingml/2006/table">
            <a:tbl>
              <a:tblPr/>
              <a:tblGrid>
                <a:gridCol w="1230480"/>
                <a:gridCol w="1228680"/>
                <a:gridCol w="1230120"/>
                <a:gridCol w="1231920"/>
                <a:gridCol w="1230480"/>
                <a:gridCol w="1228680"/>
                <a:gridCol w="12301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Definition</a:t>
                      </a:r>
                      <a:endParaRPr b="0" lang="en-US" sz="16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1368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Synonym</a:t>
                      </a:r>
                      <a:endParaRPr b="0" lang="en-US" sz="16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1368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Antonym</a:t>
                      </a:r>
                      <a:endParaRPr b="0" lang="en-US" sz="16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1368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Stories</a:t>
                      </a:r>
                      <a:endParaRPr b="0" lang="en-US" sz="16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1368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Poetry Terms</a:t>
                      </a:r>
                      <a:endParaRPr b="0" lang="en-US" sz="16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1368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Literary Terms</a:t>
                      </a:r>
                      <a:endParaRPr b="0" lang="en-US" sz="16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1368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Part of Speech</a:t>
                      </a:r>
                      <a:endParaRPr b="0" lang="en-US" sz="16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13680">
                      <a:solidFill>
                        <a:srgbClr val="212164"/>
                      </a:solidFill>
                    </a:lnR>
                    <a:lnT w="1368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</a:tr>
              <a:tr h="106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1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1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1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1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1368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</a:tr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2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2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2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2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2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2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2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1368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3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3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3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3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3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3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3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1368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</a:tr>
              <a:tr h="106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4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995421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4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1368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5760">
                      <a:solidFill>
                        <a:srgbClr val="212164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1368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1368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1368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1368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1368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576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13680">
                      <a:solidFill>
                        <a:srgbClr val="21216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12164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21216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12164"/>
                      </a:solidFill>
                    </a:lnL>
                    <a:lnR w="13680">
                      <a:solidFill>
                        <a:srgbClr val="212164"/>
                      </a:solidFill>
                    </a:lnR>
                    <a:lnT w="5760">
                      <a:solidFill>
                        <a:srgbClr val="212164"/>
                      </a:solidFill>
                    </a:lnT>
                    <a:lnB w="13680">
                      <a:solidFill>
                        <a:srgbClr val="21216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1629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Jeopardy!!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tories for 3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76201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-omniscent or “all knowing”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-limited omniscent or only knows what the character know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-first person- the narrator is telling the story, we get into their head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-third person- this is the he/she/they form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990720" y="160020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Name 3 of the 4 types of narrations of a story!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tories for 4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-historical- time period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-geographical- place, landscape, weather, surrounding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-socio-econimic- economic and social class, daily life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-specific location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590920" y="1676520"/>
            <a:ext cx="41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Name the 2 of the 4 types of settings!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tories for 5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133360" y="2057040"/>
            <a:ext cx="56386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Draw the Freytag’s Pyramid!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1447920" y="3044880"/>
            <a:ext cx="640080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Poetry Terms for 1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is the difference between open form and closed form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1676520" y="3733920"/>
            <a:ext cx="6705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Closed form follows a specific pattern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Open form does not follow a specific pattern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Poetry Terms for 2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at is the rhyme scheme of a poem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523880" y="34290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e pattern of a rhyme in a poem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Poetry Terms for 3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35053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Describe a Haiku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4038480" y="2057400"/>
            <a:ext cx="4419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-Follows the pattern of 5-7-5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-captures the intensity of a specific moment, instead of a general tim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-about natur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Poetry Terms for 4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type of scheme did Shakespeare use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066680" y="41148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Iambic pentameter: stressed, unstressed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Poetry Terms for 5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Describe an English Sonnet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371600" y="320040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-14 total lines; 3 quatrains and 1 couplet; meter- iambic pentameter; rhyme- ABAB CDCD EFEF GG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Literary Terms for 1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Give an example of a simile and a metaphor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Literary Terms for 2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is imagery?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1523880" y="3124080"/>
            <a:ext cx="6400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e "mental pictures" writers paint; description of all the sensory perceptions referred to in a piece of writing including all senses- visual (see), auditory (hear), tactile (touch), thermal (heat and cold), olfactory (smell), gustatory (taste), and kinesthetic sensation (movement)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Definition for 1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175248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Divulge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038480" y="2666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o tell or reveal [as a secret]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Literary Terms for 30! 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is a hyperbole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819520" y="3352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n exaggeration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Literary Terms for 4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is a symbol? Can you give an example of a symbol from </a:t>
            </a:r>
            <a:r>
              <a:rPr b="0" lang="en-US" sz="3200" spc="-1" strike="noStrike" u="sng">
                <a:solidFill>
                  <a:srgbClr val="212164"/>
                </a:solidFill>
                <a:uFillTx/>
                <a:latin typeface="Arial"/>
              </a:rPr>
              <a:t>TKAM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28600" y="3886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 symbol is a part of a story that symbolizes a deeper meaning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Literary Terms for 5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52480" y="2133360"/>
            <a:ext cx="5105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at is an allusion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971800" y="3352680"/>
            <a:ext cx="50292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-An indirect historical, cultural, or literary reference that enriches the meaning of the poem 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e reader brings background knowledge to the poem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Parts of Speech for 1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1447920" y="22860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bet: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9" name="WordArt 6"/>
          <p:cNvSpPr txBox="1"/>
          <p:nvPr/>
        </p:nvSpPr>
        <p:spPr>
          <a:xfrm>
            <a:off x="3276720" y="3657600"/>
            <a:ext cx="2589120" cy="138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UN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77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8" dur="770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0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2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Parts of Speech for 2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Gauche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2" name="WordArt 4"/>
          <p:cNvSpPr txBox="1"/>
          <p:nvPr/>
        </p:nvSpPr>
        <p:spPr>
          <a:xfrm>
            <a:off x="2666880" y="3124080"/>
            <a:ext cx="3810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DJECTIV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Parts of Speech for 3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Bastion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3902040" y="4213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6" name="WordArt 5"/>
          <p:cNvSpPr txBox="1"/>
          <p:nvPr/>
        </p:nvSpPr>
        <p:spPr>
          <a:xfrm>
            <a:off x="3276720" y="3657600"/>
            <a:ext cx="2589120" cy="138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UN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77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3" dur="770" fill="hold"/>
                                        <p:tgtEl>
                                          <p:spTgt spid="1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5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7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Parts of Speech for 4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Extradite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9" name="WordArt 4"/>
          <p:cNvSpPr txBox="1"/>
          <p:nvPr/>
        </p:nvSpPr>
        <p:spPr>
          <a:xfrm>
            <a:off x="2971800" y="3429000"/>
            <a:ext cx="3516480" cy="161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VERB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Parts of Speech for 5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Erudite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02" name="WordArt 4"/>
          <p:cNvSpPr txBox="1"/>
          <p:nvPr/>
        </p:nvSpPr>
        <p:spPr>
          <a:xfrm>
            <a:off x="2057400" y="3103560"/>
            <a:ext cx="5410080" cy="20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DJECTIVE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8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Definition for 2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2697120"/>
            <a:ext cx="16002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Bigot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133720" y="32767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One who is intolerable of differences in others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Definition for 3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Ostensible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819520" y="20574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Professed but not necessarily true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Definition for 4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1752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Enigma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438280" y="20574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 mystery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Definition for 5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1828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bjure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209680" y="19810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o give up, to avoid or shun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ynonym for 1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19810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agacity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971800" y="24382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wisdom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ynonym for 20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19051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Demure: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2514600" y="1981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Reserved, quiet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0:12:36Z</dcterms:created>
  <dc:creator>Samantha Kohl</dc:creator>
  <dc:description/>
  <dc:language>en-US</dc:language>
  <cp:lastModifiedBy>Owner</cp:lastModifiedBy>
  <dcterms:modified xsi:type="dcterms:W3CDTF">2009-06-03T05:18:02Z</dcterms:modified>
  <cp:revision>5</cp:revision>
  <dc:subject/>
  <dc:title>Jeopardy!!</dc:title>
</cp:coreProperties>
</file>