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335-CD99-423A-A0DA-2F79EA7E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F1C-DE6E-4E97-AB99-B8BFC521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6E7-E712-4ECB-B472-682A65C3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DE4-49E8-43DB-A58D-3217D154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A55D-09DE-4ECC-82C4-46B54713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31E6-76DA-4936-81A9-93C9ADB3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0A33-E801-4765-B1B1-B7AF3EB6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9017-2FA1-4CC4-A73D-5186BF0B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5CB5-5169-41DE-AB8F-FF19F318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4EF1-566D-4070-8A57-CF5C829B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A8B6-D0AE-4276-815C-A79E11C3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B36-23D0-475F-B9E4-3C108E2F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346A-0084-4339-8E5C-FD52091F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BB6F-C5C2-470B-8CDE-E9C73A4D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4D80-7197-4445-95F6-DD563EB8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C1F5-B809-4EC2-992D-BDDD0B40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C1DD-0944-4F10-8D2D-22CA6DDD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B03B7-B14C-4D8A-BB6A-539CDD11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397E2-7AA4-406A-B963-D8D2FAB9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A87C9-18BC-4E54-AF52-656C4E88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7D20D-EA2A-4417-8FAA-77D9DE5B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0E57A-E96B-4DD1-BF70-EB6FF72A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F2E-7D6D-47BF-953F-562A7816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C9A01-9428-4C5E-837E-E920F362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FAA75-6155-41DD-AA76-78C36B8F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6B625-C838-45A4-92F7-DC2262A0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F9F4B-4AC5-4537-B05E-67FCE57D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7B8A5-226F-44D5-8BD4-818023A1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E8B85-6725-4A77-9D26-D36ABDAF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F1234-535D-4EE6-8F7B-4A17141D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2229D-63FD-4A3B-80C5-24F8E041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324D1-E670-4AB7-BC93-5727173A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40724-1BF4-43B9-8174-65EC6BA1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734-9E54-4EE9-81CE-EF6FDD60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18C51-8E46-4BD2-A322-12D3178A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0C9FB-FD72-45EF-B060-2A8AA222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43022-A283-476F-A732-30084855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BB352-BE7E-4B7D-AE84-FD1855E6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6C10B-69C1-4A6C-9FD8-24448CE0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8C081-D305-4B83-B031-37946322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CCFD3-1BDF-48B6-BC22-EABC14AE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C1547-7DBF-4667-80AA-275E5245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81ADB-5CB3-4437-AC8F-04E30D35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5DB27-4C26-410B-A982-558EBCB5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D52-3785-487C-AF30-A9980E79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E0A32-56A6-420C-B30D-8776C0DD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D2A9B-A21C-435A-BA0E-F198906E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697A0-6DA7-4AB9-81CE-957F68F2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DEA74-7876-4C03-B0AA-CD56A666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C2838-BF9F-4C98-BC13-0F091008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4C5A39-E862-43BA-9A1B-897FAC46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6527D-BE51-4B80-85F0-FF8410B8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A5DB54-3F9B-4A6C-AE0B-A6DF4AE2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A3A1C-89F3-40F5-BECE-CF57D4CD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E067A-5DFD-4A91-B39B-08C37FDF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3AB-B00D-4213-A982-F1067BB8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33BCA-DDA5-4F0B-814F-07846E9A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3C175C-0756-4B6E-858D-9C0B0C0D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8CD17-7094-4716-8954-3080AE7F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9AEE58-04C9-42CC-BB02-5B39FB99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E7D678-0ADA-4022-918A-43FA8A23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5788E-F220-4FED-AB7F-3040BB91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993C1-F3BE-4A95-8983-0FA60E5A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698736-D64D-4DF4-AA24-2A754E08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DC4CF2-AEB7-463E-BE5C-6110607C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DB454D-1686-4DBB-BD90-566EB86C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E95-EC87-4ADA-91A6-F9E0B41D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D6A07-4D19-417A-B4BA-7B8BEA74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C2894F-EEBD-40F0-9B6E-0C9CC301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9F05F-FEEC-419B-816A-268E81DF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DACDD7-E29A-4A1F-A5AA-8F989F75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4EADD-E3AF-48AB-BB47-79BB713F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54DDA-F94E-4641-BD12-49915F11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DC02A-B139-4EC1-91A2-468E01BD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4BF2B-8430-4A30-99AF-3A4CF5FE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ADE411-8FB7-4C63-A420-ECD181FB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DC0A57-7443-47EF-B450-865287C7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7EA-2E7F-47D1-84DD-711A4040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D8356-AAD6-424C-8FF8-BA2500DD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4B02F-8F6D-468E-AD36-915EACBE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819C4-92C4-42A3-878D-787C038E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5AE6CD-7D7C-493D-8AF9-F0E240F4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BEB12E-9186-4286-851D-04180D73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8F8-32B2-4E86-8C33-923BB0A5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9036-AFD2-4A75-97C4-9D06737D729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A46C-D68A-4E41-B016-DDD83855740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7DF3-FAD1-4FE7-9AB2-77C07458871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0FC8-D651-419A-AFD4-D6DD5929530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AC3C-C189-4CEE-B8F0-DAF5ED81D0D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A336-81AA-4B9A-A0B6-97DB3C84A3F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F36C-B8AD-499F-99A8-3D910257160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440" y="1752120"/>
            <a:ext cx="716292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66"/>
                </a:solidFill>
                <a:latin typeface="Century Schoolbook"/>
              </a:rPr>
              <a:t>FREYTAG'S PYRAMID</a:t>
            </a:r>
            <a:endParaRPr b="0" lang="en-US" sz="5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2438280" y="3733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2d2"/>
                </a:solidFill>
                <a:latin typeface="Century Schoolbook"/>
              </a:rPr>
              <a:t>Michelle Tong (adapted from Mrs. Ba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EXCEPTIONS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5410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ories can start and stop at any point in the pyrami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example, a story could start in the middle of the action, so it doesn’t have an exposition, but begins with rising ac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reader has to fill in his/her imagina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3" descr="C:\Users\Michelle\AppData\Local\Microsoft\Windows\Temporary Internet Files\Content.IE5\AY3V7NY6\MPj04395270000[1].jpg"/>
          <p:cNvPicPr/>
          <p:nvPr/>
        </p:nvPicPr>
        <p:blipFill>
          <a:blip r:embed="rId1"/>
          <a:stretch/>
        </p:blipFill>
        <p:spPr>
          <a:xfrm>
            <a:off x="6019920" y="1752480"/>
            <a:ext cx="2133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entury Schoolbook"/>
              </a:rPr>
              <a:t>WHAT IS FREYTAG'S PYRAMID?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ps the general plot structure of the stor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vented by Gustav Freyta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Nineteenth century   German novelis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Saw common plot patterns in stories and novel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Developed a diagram to analyze them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http://mrwieland.files.wordpress.com/2008/06/freytag.jpg"/>
          <p:cNvPicPr/>
          <p:nvPr/>
        </p:nvPicPr>
        <p:blipFill>
          <a:blip r:embed="rId1"/>
          <a:stretch/>
        </p:blipFill>
        <p:spPr>
          <a:xfrm>
            <a:off x="5410080" y="2362320"/>
            <a:ext cx="3095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EXPOSI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tting, mood or atmosphere are developed at the beginning of the stor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 meet the main characters and learn about their circumstances, positions, and relationships to one another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0" t="64544" r="72004" b="2439"/>
          <a:stretch/>
        </p:blipFill>
        <p:spPr>
          <a:xfrm>
            <a:off x="5029200" y="2362320"/>
            <a:ext cx="3103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INCITING INCIDENT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rt of the Exposition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lso known as the “complication” or the “narrative hook.”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 inciting incident is the event that sets off the conflict that continues throughout the whole story.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Straight Connector 5"/>
          <p:cNvSpPr/>
          <p:nvPr/>
        </p:nvSpPr>
        <p:spPr>
          <a:xfrm>
            <a:off x="4876920" y="3962520"/>
            <a:ext cx="16761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7"/>
          <p:cNvSpPr/>
          <p:nvPr/>
        </p:nvSpPr>
        <p:spPr>
          <a:xfrm flipH="1">
            <a:off x="6552720" y="3352680"/>
            <a:ext cx="1800" cy="914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1"/>
          <p:cNvSpPr/>
          <p:nvPr/>
        </p:nvSpPr>
        <p:spPr>
          <a:xfrm flipV="1">
            <a:off x="6553080" y="2057400"/>
            <a:ext cx="1371600" cy="19051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2"/>
          <p:cNvSpPr/>
          <p:nvPr/>
        </p:nvSpPr>
        <p:spPr>
          <a:xfrm>
            <a:off x="5334120" y="42670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Inciting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RISING AC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ries of events, conflicts, and crises that lead up to the climax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ides progressive intensit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licates the conflic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20003" t="16508" r="50002" b="21954"/>
          <a:stretch/>
        </p:blipFill>
        <p:spPr>
          <a:xfrm>
            <a:off x="5715000" y="182880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CLIMAX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urning point” of the stor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ucial event takes place that from this point on, moves the protagonist to an unavoidable en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event may be a physical action or a mental decis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38003" t="1503" r="39004" b="72990"/>
          <a:stretch/>
        </p:blipFill>
        <p:spPr>
          <a:xfrm>
            <a:off x="4952880" y="1371600"/>
            <a:ext cx="3814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FALLING AC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ents occurring from the time of the climax to the end of the stor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protagonist may encounter other conflicts, but the end is inevitabl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50002" t="16508" r="19001" b="21954"/>
          <a:stretch/>
        </p:blipFill>
        <p:spPr>
          <a:xfrm>
            <a:off x="5486400" y="1828800"/>
            <a:ext cx="27432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RESOLU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52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clus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ying up of loose end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tagonist will either emerge triumphant or defeat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Straight Connector 5"/>
          <p:cNvSpPr/>
          <p:nvPr/>
        </p:nvSpPr>
        <p:spPr>
          <a:xfrm>
            <a:off x="4572000" y="1828800"/>
            <a:ext cx="1295280" cy="1981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7"/>
          <p:cNvSpPr/>
          <p:nvPr/>
        </p:nvSpPr>
        <p:spPr>
          <a:xfrm>
            <a:off x="5867280" y="3809880"/>
            <a:ext cx="251460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9"/>
          <p:cNvSpPr/>
          <p:nvPr/>
        </p:nvSpPr>
        <p:spPr>
          <a:xfrm flipH="1">
            <a:off x="5866920" y="3200400"/>
            <a:ext cx="1800" cy="838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5181480" y="4191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DENOUEMENT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3160" y="1600200"/>
            <a:ext cx="4647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rt of the Resolu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pposite of the exposi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end with a final explanation of what happened and how the characters think and fee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the climax affected the character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74002" t="67544" r="0" b="0"/>
          <a:stretch/>
        </p:blipFill>
        <p:spPr>
          <a:xfrm>
            <a:off x="5410080" y="2743200"/>
            <a:ext cx="289584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0:27:26Z</dcterms:created>
  <dc:creator>Michelle Tong</dc:creator>
  <dc:description/>
  <dc:language>en-US</dc:language>
  <cp:lastModifiedBy>Owner</cp:lastModifiedBy>
  <dcterms:modified xsi:type="dcterms:W3CDTF">2009-06-03T05:11:55Z</dcterms:modified>
  <cp:revision>16</cp:revision>
  <dc:subject/>
  <dc:title>Freytag's Pyramid</dc:title>
</cp:coreProperties>
</file>