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3AF-D7CD-4272-82A9-4BD6635B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1EF-ECE7-491D-9738-6738F2AC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978-0743-407F-BC59-004B883F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C2F-3F3E-4CF4-9FE4-54E10DFD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4720-CA50-416A-B4BE-8C900D79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5539-F9AA-48F8-8A6B-F86A966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424-4A1E-4FC2-AF85-9502BDA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B532-2017-4D9D-8386-293D653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F5C-126B-426F-9F8D-6730B8EC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337-F59E-4163-8D09-B313AE7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DF4-CF42-47FC-ACEB-77E44B6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D1C-0A77-4CB3-A45A-A3C930C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7FDD-814D-4778-A575-8C69185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E7D0-A094-4CC5-9B77-9B4EF31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22C7-BA80-4BD3-B01E-F0D3BA2E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A673-B25B-47E9-ACA7-6423BDFA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0325-62EB-4F70-B49D-BE84D2CB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4DB48-2629-410F-8BD7-70F1F07E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104F1-6C0F-4020-9F07-76C95A8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2461D-C089-4824-874F-13085E0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95FF6-CE28-4E63-90BE-40138C51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A4061-F250-4F00-983B-E2707D3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C65-87E0-46EF-B200-3F49CCCA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AC5A9-0B7D-4B77-9D0B-849D0174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E5A3F-A56A-4520-B991-90A9053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F9213-1273-437B-94AE-5874175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00F84-FFC2-4865-939B-21D6D6E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AA66A-DD1D-4229-A1AF-E353F96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CC49D-7848-4FC8-88A2-2D717BC0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2A696-D180-45B7-BEFB-9A21F8C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0B5E-1B0C-4736-B64B-067F96D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2A39-5378-4C85-879C-C530D733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4727-027F-425E-A3A5-2360C9F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671-8C1E-40E8-ADA9-A361CF6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D3C1-689D-4C88-BC09-0CF5D8B5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232E-872D-422B-B1D6-58FE050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7B6B-3862-4A67-A9A3-00291F25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3D00-40C7-46C5-9533-B2FB30F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BA73-16B6-47B0-8B57-0C59F78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78CA-BCD8-4EEA-8924-318A3E4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CBE9-D7F6-4176-9A7C-65EA3F99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EECC-F301-4D15-9252-7B7F5CF1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467C-63C8-4C1C-BAEF-873CDA6E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81792-09A0-456F-852F-66E39EA2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8E8-2C97-4B97-91C5-D3D20ABD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7079F-54AB-4A5F-96A6-6E3E201A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12477-FF65-49AF-9B4C-11641799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C86F1-313F-40F5-A7AC-147A7C87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1165A-2903-41D1-A89A-ACB4979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6B278-04B6-45B4-99B7-709A7E1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EDE3B-3DD7-40AA-B1D9-B8CA800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5928D-4507-4D42-A8B9-D4DF932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9FCE6-2866-4ADB-9392-5455974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048F5-2C7A-423B-AD2C-03941F91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BFDF6-4D8D-49FB-AFEB-176709D2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BB7-F624-4C4F-AF71-527F7A28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5DD03-3F1A-4912-A938-8DA3146B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82F7B-D09B-4CFC-A550-B8F7FE67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3CAC4-1CB0-4FCE-A343-64991C5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0456A-4193-40BF-AF7F-A39C781E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FD69F-C1E9-4F78-9FA5-0EEFAD4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CEF75-4181-4F52-ADC5-7167A475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A8783-F5DB-4357-B159-F4342E56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ECDB5-0CCA-4622-B3A1-C126D67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9C7FB-5FD7-46EB-9556-235F415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5D927-0D81-420A-90DD-FEB7B84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580-CAAE-44DC-AA24-D113E3C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0E69E-BCD1-4542-80C4-79AA5F7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0F4B2-82B2-4AB4-B75B-646CD42A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F2BAF-EE98-4BD5-8240-7C0C4575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F34B1-E191-495A-A039-699CF8F4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89117-1142-4862-BC90-CEB3199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7E90B-EF85-484F-A2B3-3993A7F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9F835-D4B1-4F8A-9F86-9DCEB419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ACF2F-9906-464F-8523-8099E802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9210A-DA31-4A59-BCB8-81A3F26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056C2-6DEB-495F-BEAE-1104E1F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106-39AB-4143-ACDA-1EF8246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CA7F4-D800-4EB5-90D7-AE63920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415D8-7104-41B9-B190-5FBCE02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41417-C586-43C5-A4F5-C7FB7FA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724DA-DB2D-49FA-801D-8CEDC8A3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287A7-D5F1-40F4-864B-C5734FB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080-BE7C-407B-B829-6263C1D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6B5-6DFB-4B0D-9C03-1D08E87C24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5230-5641-4D82-9843-C523921364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5DC3-5FEC-4DC7-8E5D-0B1B4346FD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62A6-83D2-43CB-AD03-6C09BD6C53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9EE-EF81-4327-8281-7EAF75103E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3EC-9445-4843-8C33-79B77C34B6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1E0-5AFA-4B39-87EF-C5124A306B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71629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66"/>
                </a:solidFill>
                <a:latin typeface="Century Schoolbook"/>
              </a:rPr>
              <a:t>FREYTAG'S PYRAMID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38280" y="3733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d2"/>
                </a:solidFill>
                <a:latin typeface="Century Schoolbook"/>
              </a:rPr>
              <a:t>Michelle Tong (adapted from Mrs. Ba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CEPTIONS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5410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ries can start and stop at any point in the pyram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a story could start in the middle of the action, so it doesn’t have an exposition, but begins with rising ac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ader has to fill in his/her imagin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" descr="C:\Users\Michelle\AppData\Local\Microsoft\Windows\Temporary Internet Files\Content.IE5\AY3V7NY6\MPj04395270000[1].jpg"/>
          <p:cNvPicPr/>
          <p:nvPr/>
        </p:nvPicPr>
        <p:blipFill>
          <a:blip r:embed="rId1"/>
          <a:stretch/>
        </p:blipFill>
        <p:spPr>
          <a:xfrm>
            <a:off x="6019920" y="1752480"/>
            <a:ext cx="213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Schoolbook"/>
              </a:rPr>
              <a:t>WHAT IS FREYTAG'S PYRAMID?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ps the general plot structure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nted by Gustav Freyt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Nineteenth century   German noveli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Saw common plot patterns in stories and nove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Developed a diagram to analyze th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mrwieland.files.wordpress.com/2008/06/freytag.jpg"/>
          <p:cNvPicPr/>
          <p:nvPr/>
        </p:nvPicPr>
        <p:blipFill>
          <a:blip r:embed="rId1"/>
          <a:stretch/>
        </p:blipFill>
        <p:spPr>
          <a:xfrm>
            <a:off x="5410080" y="2362320"/>
            <a:ext cx="3095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POSI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tting, mood or atmosphere are developed at the beginning of the sto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et the main characters and learn about their circumstances, positions, and relationships to one anoth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0" t="64544" r="72004" b="2439"/>
          <a:stretch/>
        </p:blipFill>
        <p:spPr>
          <a:xfrm>
            <a:off x="5029200" y="2362320"/>
            <a:ext cx="31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INCITING INCID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t of the Exposi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so known as the “complication” or the “narrative hook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inciting incident is the event that sets off the conflict that continues throughout the whole story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4876920" y="3962520"/>
            <a:ext cx="1676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7"/>
          <p:cNvSpPr/>
          <p:nvPr/>
        </p:nvSpPr>
        <p:spPr>
          <a:xfrm flipH="1">
            <a:off x="6552720" y="3352680"/>
            <a:ext cx="1800" cy="91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1"/>
          <p:cNvSpPr/>
          <p:nvPr/>
        </p:nvSpPr>
        <p:spPr>
          <a:xfrm flipV="1">
            <a:off x="6553080" y="2057400"/>
            <a:ext cx="137160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334120" y="4267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IS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events, conflicts, and crises that lead up to the climax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s progressive intens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icates the confli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20003" t="16508" r="50002" b="21954"/>
          <a:stretch/>
        </p:blipFill>
        <p:spPr>
          <a:xfrm>
            <a:off x="5715000" y="18288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CLIMAX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rning point”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ucial event takes place that from this point on, moves the protagonist to an unavoidable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event may be a physical action or a mental dec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38003" t="1503" r="39004" b="72990"/>
          <a:stretch/>
        </p:blipFill>
        <p:spPr>
          <a:xfrm>
            <a:off x="4952880" y="1371600"/>
            <a:ext cx="381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FALL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s occurring from the time of the climax to the end of the stor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agonist may encounter other conflicts, but the end is inevita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50002" t="16508" r="19001" b="21954"/>
          <a:stretch/>
        </p:blipFill>
        <p:spPr>
          <a:xfrm>
            <a:off x="5486400" y="1828800"/>
            <a:ext cx="27432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ESOLU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ing up of loose e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agonist will either emerge triumphant or def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traight Connector 5"/>
          <p:cNvSpPr/>
          <p:nvPr/>
        </p:nvSpPr>
        <p:spPr>
          <a:xfrm>
            <a:off x="4572000" y="1828800"/>
            <a:ext cx="1295280" cy="19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7"/>
          <p:cNvSpPr/>
          <p:nvPr/>
        </p:nvSpPr>
        <p:spPr>
          <a:xfrm>
            <a:off x="5867280" y="3809880"/>
            <a:ext cx="251460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9"/>
          <p:cNvSpPr/>
          <p:nvPr/>
        </p:nvSpPr>
        <p:spPr>
          <a:xfrm flipH="1">
            <a:off x="5866920" y="3200400"/>
            <a:ext cx="1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81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DENOUEM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 of the Resolu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posite of the exposi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nd with a final explanation of what happened and how the characters think and fee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the climax affected the charact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74002" t="67544" r="0" b="0"/>
          <a:stretch/>
        </p:blipFill>
        <p:spPr>
          <a:xfrm>
            <a:off x="5410080" y="27432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27:26Z</dcterms:created>
  <dc:creator>Michelle Tong</dc:creator>
  <dc:description/>
  <dc:language>en-US</dc:language>
  <cp:lastModifiedBy>Owner</cp:lastModifiedBy>
  <dcterms:modified xsi:type="dcterms:W3CDTF">2009-06-03T05:11:55Z</dcterms:modified>
  <cp:revision>16</cp:revision>
  <dc:subject/>
  <dc:title>Freytag's Pyramid</dc:title>
</cp:coreProperties>
</file>