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033-7D47-4F18-930F-9392F56E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9CB-3F48-452D-B60D-DBD837DF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7EE-29AE-4B7F-89C1-2FA6DEB3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8E8-68FD-4628-9620-7D932AFA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5351-F6B6-4865-85DA-2CB2E68D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5291-B3BA-4F3A-809E-E201E4A9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23BC-7BAF-468E-8967-FB229AF7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A528-6A28-47B8-9001-74681BC7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BDFA-060F-4DCB-AD4F-756C7F0F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F343-C95B-437F-90F5-DD2F2697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2EB3-D5AE-4224-A497-DA0CD1B1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37D6-8AD4-4755-92F5-4F25976F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7EA1-EB9F-4BCC-B419-09384A88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9996-9F13-49BF-BB8B-5B968D88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DEEC-1109-4B4E-A5B4-F78772E6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4705-9C90-4E6C-9FD7-C1BAFED2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07FC-BC54-49D1-B5C5-E75E7A4C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D35D9-AE49-45E2-BB2D-1FDDE23C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3D6BA-399B-4F30-BB50-3670852C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0542B-1E87-4191-A0EC-E0C65497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E9DC4-3F25-45DE-9862-FEFD5C61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D431E-510A-413B-AC66-E7A30799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FE6-D798-4A89-B26B-484B2E07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883D5-69F1-4B25-8553-2E034890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379CF-698D-4A17-9973-E2C6362C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C08C4-934A-4C35-9B24-C89451D4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2AC30-91B5-476A-9370-CC0BC79B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A1E52-8622-44AC-BC8E-0A220505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CAA97-26A0-48C5-8C17-3C458B67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E7B01-C31C-4D32-95DA-CD4911C6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4A83F-107F-4932-8453-33CA33BA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ABDA3-307B-4263-81B5-83E16C47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5F1A2-C6F3-45BF-916A-5565A96D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F9EB-D860-4968-B81C-7CE213C0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EEBF5-1F2E-48DA-B712-A6D60564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7677-1E67-46C0-BC9B-59F4C189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D4B0A-0393-452A-A9CF-BD7614E7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42446-2090-46DD-88E4-1F63F711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951B1-F7BC-45F0-9C90-30FDB1F7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F5CB3-8484-4687-A521-0682A976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640AC-1100-4CFA-926C-C603C752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02619-0B0B-4CCD-9145-061DB27B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760AE-DC19-4B53-A107-CC5E731D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1D0F9-3945-43C5-B208-C632C734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CAF-6164-496B-A012-0A39FE24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CC7163-D893-4C90-8C99-1614AEFC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44CC5-D243-411F-8B20-B07D7526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751BDA-ADE2-4288-85D4-55B39E5E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8359B-AB4B-4611-8EC3-15CC308F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A927F-762C-470C-B41C-FC8D6584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E1FC3-8282-4470-9F60-40D5D3EE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72292-4542-467F-9ACB-2B05146F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5C150-0A6F-4805-B971-B598BADB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14BE3-96C2-443E-8C17-5FB9D8F4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12B49-1297-4CDD-9A31-B6D470DB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E88-3E9D-48B4-A52C-E785D3B8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5569B-CCFE-46A8-B41C-13048C94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726C68-4230-4060-8DBA-DB4DB9E8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656562-63EE-4AEB-8886-B99BE8A1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F66EE-C908-4A03-90A1-B8F3C6FE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5D78DC-4C60-429E-9581-582F0799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23E59-0236-41A0-814E-29E72534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AF1BFF-369B-4CF9-9126-98A985C0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BD983-AE2F-4ECE-AC32-F948416F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EB2BA-2769-4028-887B-44406E18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07A29-4949-40F0-B161-180C0E6B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B90-3965-4E6C-9540-18D1E511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71412-2279-4EDA-B88B-063BF570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8C6D20-372D-40DD-B4A4-B0FB8A33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7886A6-21B5-4D9C-9E5F-A55FB4F3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83768-2ABB-409A-ADF9-C76A0142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1F9749-0110-4A74-A913-BB5EF028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A87487-0A08-40AE-9F2C-19390086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BB8758-683F-4A07-913B-6F51A118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6190ED-BE38-47B5-9F3B-A122FEBE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FFB81-82E3-44EF-8CCC-967573B2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59C05-519F-44D5-9DED-B366FBBA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6AA-639D-4516-BBE0-2D2C2BC2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6D4C3A-6683-4BD7-B589-1CB8E2B9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9779CF-054D-4570-A9E5-CA489252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15DE3-026A-4D3D-8A85-2B0F5A6E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FB73CF-C241-4AA9-BD58-A74373B6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7E1F1B-E070-4CC4-97B9-4B69D32B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C09-F309-49B1-8CFA-F8033CF5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1158-6624-4AE1-95B0-59FA265415E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7319-1321-4A42-AABC-2AAAA8D669A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B3CC-196D-4B1A-9B2F-9F8DA644035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7200-24FD-4C92-B95C-908AB0C542D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BD5E-1BCE-448F-8647-CFF743C6331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246E-D9FD-413B-8DDA-8B5AD48FD8B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4FBB-3362-492A-9A29-930C10ED0B9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440" y="1752120"/>
            <a:ext cx="716292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66"/>
                </a:solidFill>
                <a:latin typeface="Century Schoolbook"/>
              </a:rPr>
              <a:t>FREYTAG'S PYRAMID</a:t>
            </a:r>
            <a:endParaRPr b="0" lang="en-US" sz="5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2438280" y="3733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2d2"/>
                </a:solidFill>
                <a:latin typeface="Century Schoolbook"/>
              </a:rPr>
              <a:t>Michelle Tong (adapted from Mrs. Ba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EXCEPTIONS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5410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ories can start and stop at any point in the pyrami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example, a story could start in the middle of the action, so it doesn’t have an exposition, but begins with rising ac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reader has to fill in his/her imagina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3" descr="C:\Users\Michelle\AppData\Local\Microsoft\Windows\Temporary Internet Files\Content.IE5\AY3V7NY6\MPj04395270000[1].jpg"/>
          <p:cNvPicPr/>
          <p:nvPr/>
        </p:nvPicPr>
        <p:blipFill>
          <a:blip r:embed="rId1"/>
          <a:stretch/>
        </p:blipFill>
        <p:spPr>
          <a:xfrm>
            <a:off x="6019920" y="1752480"/>
            <a:ext cx="2133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entury Schoolbook"/>
              </a:rPr>
              <a:t>WHAT IS FREYTAG'S PYRAMID?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ps the general plot structure of the stor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vented by Gustav Freyta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Nineteenth century   German novelis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Saw common plot patterns in stories and novel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Developed a diagram to analyze them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http://mrwieland.files.wordpress.com/2008/06/freytag.jpg"/>
          <p:cNvPicPr/>
          <p:nvPr/>
        </p:nvPicPr>
        <p:blipFill>
          <a:blip r:embed="rId1"/>
          <a:stretch/>
        </p:blipFill>
        <p:spPr>
          <a:xfrm>
            <a:off x="5410080" y="2362320"/>
            <a:ext cx="3095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EXPOSI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tting, mood or atmosphere are developed at the beginning of the stor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 meet the main characters and learn about their circumstances, positions, and relationships to one another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0" t="64544" r="72004" b="2439"/>
          <a:stretch/>
        </p:blipFill>
        <p:spPr>
          <a:xfrm>
            <a:off x="5029200" y="2362320"/>
            <a:ext cx="3103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INCITING INCIDENT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rt of the Exposition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lso known as the “complication” or the “narrative hook.”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 inciting incident is the event that sets off the conflict that continues throughout the whole story.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Straight Connector 5"/>
          <p:cNvSpPr/>
          <p:nvPr/>
        </p:nvSpPr>
        <p:spPr>
          <a:xfrm>
            <a:off x="4876920" y="3962520"/>
            <a:ext cx="16761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7"/>
          <p:cNvSpPr/>
          <p:nvPr/>
        </p:nvSpPr>
        <p:spPr>
          <a:xfrm flipH="1">
            <a:off x="6552720" y="3352680"/>
            <a:ext cx="1800" cy="914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1"/>
          <p:cNvSpPr/>
          <p:nvPr/>
        </p:nvSpPr>
        <p:spPr>
          <a:xfrm flipV="1">
            <a:off x="6553080" y="2057400"/>
            <a:ext cx="1371600" cy="19051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2"/>
          <p:cNvSpPr/>
          <p:nvPr/>
        </p:nvSpPr>
        <p:spPr>
          <a:xfrm>
            <a:off x="5334120" y="42670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Inciting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RISING AC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ries of events, conflicts, and crises that lead up to the climax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ides progressive intensit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licates the conflic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20003" t="16508" r="50002" b="21954"/>
          <a:stretch/>
        </p:blipFill>
        <p:spPr>
          <a:xfrm>
            <a:off x="5715000" y="182880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CLIMAX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urning point” of the stor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ucial event takes place that from this point on, moves the protagonist to an unavoidable en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event may be a physical action or a mental decis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38003" t="1503" r="39004" b="72990"/>
          <a:stretch/>
        </p:blipFill>
        <p:spPr>
          <a:xfrm>
            <a:off x="4952880" y="1371600"/>
            <a:ext cx="3814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FALLING AC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ents occurring from the time of the climax to the end of the stor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protagonist may encounter other conflicts, but the end is inevitabl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50002" t="16508" r="19001" b="21954"/>
          <a:stretch/>
        </p:blipFill>
        <p:spPr>
          <a:xfrm>
            <a:off x="5486400" y="1828800"/>
            <a:ext cx="27432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RESOLU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52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clus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ying up of loose end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tagonist will either emerge triumphant or defeat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Straight Connector 5"/>
          <p:cNvSpPr/>
          <p:nvPr/>
        </p:nvSpPr>
        <p:spPr>
          <a:xfrm>
            <a:off x="4572000" y="1828800"/>
            <a:ext cx="1295280" cy="1981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7"/>
          <p:cNvSpPr/>
          <p:nvPr/>
        </p:nvSpPr>
        <p:spPr>
          <a:xfrm>
            <a:off x="5867280" y="3809880"/>
            <a:ext cx="251460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9"/>
          <p:cNvSpPr/>
          <p:nvPr/>
        </p:nvSpPr>
        <p:spPr>
          <a:xfrm flipH="1">
            <a:off x="5866920" y="3200400"/>
            <a:ext cx="1800" cy="838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5181480" y="4191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DENOUEMENT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3160" y="1600200"/>
            <a:ext cx="4647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rt of the Resolu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pposite of the exposi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end with a final explanation of what happened and how the characters think and fee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the climax affected the character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74002" t="67544" r="0" b="0"/>
          <a:stretch/>
        </p:blipFill>
        <p:spPr>
          <a:xfrm>
            <a:off x="5410080" y="2743200"/>
            <a:ext cx="289584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0:27:26Z</dcterms:created>
  <dc:creator>Michelle Tong</dc:creator>
  <dc:description/>
  <dc:language>en-US</dc:language>
  <cp:lastModifiedBy>Owner</cp:lastModifiedBy>
  <dcterms:modified xsi:type="dcterms:W3CDTF">2009-06-03T05:11:55Z</dcterms:modified>
  <cp:revision>16</cp:revision>
  <dc:subject/>
  <dc:title>Freytag's Pyramid</dc:title>
</cp:coreProperties>
</file>