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275-43C5-4365-93BA-5D404603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F6C-1DA1-4397-BB9C-A1C68C2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EBD-DF8E-4A6A-8030-DDC5E4D7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D52-C6A9-42F4-85D3-13410D74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653A-48DC-44CB-814D-61DA9AEA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9585-0784-4F94-AD6D-6EC0ED28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A9BE-5719-497B-9310-1AA8B5A3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A61D-B1CD-486D-9A13-E379C1BC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B187-B650-4A60-8F24-4F1A3647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7F9E-670D-4EC2-93DD-17812F41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1A7D-F81A-4F6B-BBB3-99F6B26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8DF-A2ED-4F34-8D59-312C9A2D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A2FF-8164-4F30-8650-41F6375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08B2-4AC7-4A42-82FD-20B276B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8F69-8AB2-4BED-A522-8AFD6CD2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8766-EBAB-43D7-A383-FA5FB756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4B69-1F06-4E02-868E-898309D0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58ED7-FAAA-4588-A9DF-1EEEE3FE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69656-0207-4DF3-A3F1-C9C348AE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1AEFD-5726-4B5C-9C87-B4C749DB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1E9C0-481C-4D1D-8B4C-B0DF76B3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4C9A6-EF8A-4851-8591-E642E64D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B46-17FE-40BA-9DE3-9D5AB5D9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0BB86-3BAB-49B4-AC99-F0371EA2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99399-F819-455E-A866-0CD2619F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0251F-A111-44D8-BCA7-7ED5C938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35AEA-24C5-4642-B767-DC73CE9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012B5-C1EF-47D0-A672-0CBF19DD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6D86C-081A-43D5-8253-544DB33D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EA449-C95B-4CAD-93A5-344383D7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1620C-03AF-4DC1-91E7-DC5DECA9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6E3E-9BAD-471D-848C-2738ECC2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EA1D1-7EDB-40C4-8761-CDA95F6C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7AC-74BA-4B54-A7B9-1D743C7E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A388-909C-47E8-8288-132C5A93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AA468-C4EC-4A13-ACC2-2DF094AD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5C8F-D0D7-4518-B029-C3EC92E5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270D9-26BC-4521-9603-3972E3A1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3ED8-A72A-41DA-95C8-36FB9274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0CE69-8E9B-40D9-9B05-A92DB0B4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BB1CE-EE4E-4707-AB0B-0BB16A2A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EA2B-64DB-4553-979A-25FC7871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AC047-5074-41A9-A5F3-82C9B7A8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D6780-BF4C-4693-BA99-2B0D285C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486-4315-432D-80A0-D5699842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21F84-4CA5-4CA3-894C-F5F933F9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4A611-DFDB-48BF-8A77-B759E405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8F8D5-50C1-49A2-9801-734E1960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7EC76-DC36-49C6-A1F0-FF653A21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7EF27-75E3-430A-AF47-8A4391EC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D13B3-8ECB-44A8-9FF8-3EA7A429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9A5AB-A24B-44BF-8803-B1F94DD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DB3D3-FF95-4074-901E-18C1D6D9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78702-5E16-4CE9-AF6B-071A0A73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30A1B-4F00-4099-A570-7996B1C4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EC1-F57F-4B7B-A154-8E608CED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2AC9C-EB10-4CB6-9BEA-34A3F7B9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B1BCC-D946-49DC-AB7D-86C8F667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D3AD0-5A72-4595-B216-ABEA84CA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5A486-3E92-44FE-92F1-9227F573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97CC8-E1EF-425E-BA82-10BEE9FA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76048-8B31-4DF3-BD3E-F5C9FC5A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D09B5-9B43-4697-BD44-0A75AFBB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F133C-C484-4556-A5A3-D18F5B9F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E5175-056D-4AA3-859E-EE1CCC55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C3BC4-E923-4BE0-9E3C-4C5AC445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18B-0759-4C79-9A16-CFB2577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370A0-BDD3-4B3F-9C0D-6A39B4B1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D7AF4-E184-422A-A61B-267A8B55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8AB74-8417-470C-BB6C-8F33E8A2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29D40-5FF4-46A7-A4B5-809D1F42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3AC39-1F28-4497-B0A6-9F786EB0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B6DEB0-505E-41D4-96A3-81E15232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EE7B8-200C-4806-9969-2C05805E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B392B-2292-4BD2-8B0F-AACC26F3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889B5-4CD1-43A1-8E16-C64A5AE7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FE0B3-9CB1-455D-BFB4-26374980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6CC-5768-4495-B6D5-F7CDD679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3E711-B8D5-486D-95C0-31E0A8F8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0C600A-9EA8-4258-81EB-CA6F2E3C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AA57C-EDED-4FEC-8D42-1F26F3DA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E4B91-01E2-42F5-B34C-3B138C42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4EC3B4-D43A-4F66-A8C8-93E492CB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8FF-9361-4BAF-B4FA-075058E8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5DEA-3211-429E-8638-9C9C44847B3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7159-7696-485E-A133-D4D07F1873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5D20-A01F-48A8-AB81-B1C3B5C79FA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7AAC-873F-479C-8FE1-05AE8EFFEC7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1A40-BAED-455E-A6E9-C9DD8007FDE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5311-9571-405A-B379-F1F901BC49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4A2A-BAD9-479F-AB4A-525E9DAEE80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440" y="1752120"/>
            <a:ext cx="716292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66"/>
                </a:solidFill>
                <a:latin typeface="Century Schoolbook"/>
              </a:rPr>
              <a:t>FREYTAG'S PYRAMID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2438280" y="3733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2d2"/>
                </a:solidFill>
                <a:latin typeface="Century Schoolbook"/>
              </a:rPr>
              <a:t>Michelle Tong (adapted from Mrs. Ba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EXCEPTIONS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5410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ories can start and stop at any point in the pyrami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example, a story could start in the middle of the action, so it doesn’t have an exposition, but begins with rising ac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reader has to fill in his/her imagin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3" descr="C:\Users\Michelle\AppData\Local\Microsoft\Windows\Temporary Internet Files\Content.IE5\AY3V7NY6\MPj04395270000[1].jpg"/>
          <p:cNvPicPr/>
          <p:nvPr/>
        </p:nvPicPr>
        <p:blipFill>
          <a:blip r:embed="rId1"/>
          <a:stretch/>
        </p:blipFill>
        <p:spPr>
          <a:xfrm>
            <a:off x="6019920" y="1752480"/>
            <a:ext cx="2133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entury Schoolbook"/>
              </a:rPr>
              <a:t>WHAT IS FREYTAG'S PYRAMID?</a:t>
            </a:r>
            <a:endParaRPr b="0" lang="en-US" sz="4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ps the general plot structure of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vented by Gustav Freyta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Nineteenth century   German noveli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Saw common plot patterns in stories and nove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d2d2d2"/>
                </a:solidFill>
                <a:latin typeface="Century Schoolbook"/>
              </a:rPr>
              <a:t>Developed a diagram to analyze them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http://mrwieland.files.wordpress.com/2008/06/freytag.jpg"/>
          <p:cNvPicPr/>
          <p:nvPr/>
        </p:nvPicPr>
        <p:blipFill>
          <a:blip r:embed="rId1"/>
          <a:stretch/>
        </p:blipFill>
        <p:spPr>
          <a:xfrm>
            <a:off x="5410080" y="2362320"/>
            <a:ext cx="3095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EXPOSI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tting, mood or atmosphere are developed at the beginning of the sto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 meet the main characters and learn about their circumstances, positions, and relationships to one anothe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0" t="64544" r="72004" b="2439"/>
          <a:stretch/>
        </p:blipFill>
        <p:spPr>
          <a:xfrm>
            <a:off x="5029200" y="2362320"/>
            <a:ext cx="3103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INCITING INCIDENT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6002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rt of the Exposition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lso known as the “complication” or the “narrative hook.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inciting incident is the event that sets off the conflict that continues throughout the whole story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Straight Connector 5"/>
          <p:cNvSpPr/>
          <p:nvPr/>
        </p:nvSpPr>
        <p:spPr>
          <a:xfrm>
            <a:off x="4876920" y="3962520"/>
            <a:ext cx="1676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7"/>
          <p:cNvSpPr/>
          <p:nvPr/>
        </p:nvSpPr>
        <p:spPr>
          <a:xfrm flipH="1">
            <a:off x="6552720" y="3352680"/>
            <a:ext cx="1800" cy="914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1"/>
          <p:cNvSpPr/>
          <p:nvPr/>
        </p:nvSpPr>
        <p:spPr>
          <a:xfrm flipV="1">
            <a:off x="6553080" y="2057400"/>
            <a:ext cx="1371600" cy="19051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2"/>
          <p:cNvSpPr/>
          <p:nvPr/>
        </p:nvSpPr>
        <p:spPr>
          <a:xfrm>
            <a:off x="5334120" y="42670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Inciting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RISING AC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ries of events, conflicts, and crises that lead up to the climax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ides progressive intensit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licates the conflic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20003" t="16508" r="50002" b="21954"/>
          <a:stretch/>
        </p:blipFill>
        <p:spPr>
          <a:xfrm>
            <a:off x="5715000" y="18288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CLIMAX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urning point” of the sto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ucial event takes place that from this point on, moves the protagonist to an unavoidable e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event may be a physical action or a mental decis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38003" t="1503" r="39004" b="72990"/>
          <a:stretch/>
        </p:blipFill>
        <p:spPr>
          <a:xfrm>
            <a:off x="4952880" y="1371600"/>
            <a:ext cx="381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FALLING AC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nts occurring from the time of the climax to the end of the stor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rotagonist may encounter other conflicts, but the end is inevitab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50002" t="16508" r="19001" b="21954"/>
          <a:stretch/>
        </p:blipFill>
        <p:spPr>
          <a:xfrm>
            <a:off x="5486400" y="1828800"/>
            <a:ext cx="27432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RESOLU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52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clu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ying up of loose en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tagonist will either emerge triumphant or defeat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Straight Connector 5"/>
          <p:cNvSpPr/>
          <p:nvPr/>
        </p:nvSpPr>
        <p:spPr>
          <a:xfrm>
            <a:off x="4572000" y="1828800"/>
            <a:ext cx="1295280" cy="1981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7"/>
          <p:cNvSpPr/>
          <p:nvPr/>
        </p:nvSpPr>
        <p:spPr>
          <a:xfrm>
            <a:off x="5867280" y="3809880"/>
            <a:ext cx="251460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9"/>
          <p:cNvSpPr/>
          <p:nvPr/>
        </p:nvSpPr>
        <p:spPr>
          <a:xfrm flipH="1">
            <a:off x="5866920" y="3200400"/>
            <a:ext cx="1800" cy="838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5181480" y="4191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Century Schoolbook"/>
              </a:rPr>
              <a:t>DENOUEMENT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3160" y="16002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rt of the Resolu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posite of the exposi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end with a final explanation of what happened and how the characters think and fee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the climax affected the character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http://upload.wikimedia.org/wikipedia/commons/thumb/a/af/Freytags_pyramid.svg/800px-Freytags_pyramid.svg.png"/>
          <p:cNvPicPr/>
          <p:nvPr/>
        </p:nvPicPr>
        <p:blipFill>
          <a:blip r:embed="rId1"/>
          <a:srcRect l="74002" t="67544" r="0" b="0"/>
          <a:stretch/>
        </p:blipFill>
        <p:spPr>
          <a:xfrm>
            <a:off x="5410080" y="2743200"/>
            <a:ext cx="289584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0:27:26Z</dcterms:created>
  <dc:creator>Michelle Tong</dc:creator>
  <dc:description/>
  <dc:language>en-US</dc:language>
  <cp:lastModifiedBy>Owner</cp:lastModifiedBy>
  <dcterms:modified xsi:type="dcterms:W3CDTF">2009-06-03T05:11:55Z</dcterms:modified>
  <cp:revision>16</cp:revision>
  <dc:subject/>
  <dc:title>Freytag's Pyramid</dc:title>
</cp:coreProperties>
</file>