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73A853-67F3-4178-9658-8935FAB87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94AD2-74EA-4D8D-9DB5-8531F2AAD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36F8C8-2E58-4C7C-B75F-03321D76D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E79F18-D866-4E99-910E-19827D99CE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C16651-456C-46CE-BF49-1B62A01C25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812DCC-D502-46C4-8FD6-813CC043DD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E6656B-544C-41A0-8C45-712B542E4A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E97BE6-E96E-4C8D-A8FD-46D18B9E1D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558C99-085D-4518-9415-87DBC9C1FE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FF5CA5-1590-46A7-841D-D155CFBE1C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E9837-7B48-4816-8310-FBC39E5C4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FC6F4-DE2C-4F14-8E6E-1161334CA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265D4-2834-4269-B82D-7A1229CB1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39AE45-939E-42FB-B11E-125E9C368E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54FF54-6C20-4855-AD7A-8580376DBE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136E8E-8A78-46E8-A916-C392E66EBF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579DD0-9879-43B0-B764-EF8AD871E7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C54C49-C42D-461A-9427-62216F5A7D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1E3E17-3A2F-4966-96D7-C288D5D23A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E5C314-04E1-4CCA-9D6D-B5B3A0EAE5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C99EBB-9160-4163-878F-58432E7B53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57A5F9-6F46-4457-AABD-F88D778A41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8B900-0306-4138-A62A-E8CA02D18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7D54A3-D188-468C-9219-C39CDC799F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0E45A2-D3DD-4603-B108-02992C149F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D7F801-7CD3-45C0-BF8A-A376D74629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26503D-0338-459F-9484-EF452B87B5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51C9F1-7D2A-4AE2-B1E7-68C6200309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CA8D4A-23D7-4D4B-97D5-B696B0846E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382DFD-9DBE-478F-A8F4-C2A7EDE057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E7D6CE-60B5-4DE5-A0EB-93EFFE39FB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F1C3C5-6918-4325-A140-66D3604F51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A00AEF-6C5D-472A-A928-77E2F89BC9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5EF66-4AF2-4D5B-9888-F85C1865D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2F15C9-132C-44AC-9F94-4F1DF58E9B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7A4CB7-E08F-43C1-9DD8-55C65A9938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19A7E8-040E-4240-9FEE-D4CA5DF9C4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8E8802-7EFE-4419-A1D7-99F005796A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BE62C4-636E-4AFA-8841-3AB3067D4D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4BA17F-16D9-4BAD-99BD-BF7700D5C8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27B935-9914-4B26-B4B0-7FD0D69F39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B92C37-CB12-4CDD-938B-B63C5CE4B4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DF86BD-29F4-474F-A5A6-9A636A2138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C36A5-5599-4CFE-BBB6-16915AF39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29FF9-44C4-4B0C-B6E6-2083C51E4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7F3AD-9381-46FE-A594-2865A6EC5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6846C-3EF5-48B4-8FEF-C3234469E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FBCF6-BAFF-4539-B3F5-9658F30486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7CFD0-1DB5-44C1-8E35-F9A11FE3F456}" type="slidenum">
              <a:rPr b="0" lang="es-MX"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B50F0-4350-4F25-9FEF-390540FE3DBE}" type="slidenum">
              <a:rPr b="0" lang="es-MX"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5CA39-B0AA-496B-B136-EB5741C952AA}" type="slidenum">
              <a:rPr b="0" lang="es-MX"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B88C8-28CD-422C-9EA9-0A54818D6440}" type="slidenum">
              <a:rPr b="0" lang="es-MX"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755640" y="914400"/>
            <a:ext cx="7785000" cy="1158840"/>
          </a:xfrm>
          <a:prstGeom prst="rect">
            <a:avLst/>
          </a:prstGeom>
          <a:ln w="0">
            <a:noFill/>
          </a:ln>
        </p:spPr>
      </p:pic>
      <p:pic>
        <p:nvPicPr>
          <p:cNvPr id="196" name="Picture 3" descr="freytag.bmp"/>
          <p:cNvPicPr/>
          <p:nvPr/>
        </p:nvPicPr>
        <p:blipFill>
          <a:blip r:embed="rId2"/>
          <a:stretch/>
        </p:blipFill>
        <p:spPr>
          <a:xfrm>
            <a:off x="1828800" y="2514600"/>
            <a:ext cx="5486400" cy="2743200"/>
          </a:xfrm>
          <a:prstGeom prst="rect">
            <a:avLst/>
          </a:prstGeom>
          <a:ln w="0">
            <a:noFill/>
          </a:ln>
        </p:spPr>
      </p:pic>
      <p:sp>
        <p:nvSpPr>
          <p:cNvPr id="197" name="TextBox 5"/>
          <p:cNvSpPr/>
          <p:nvPr/>
        </p:nvSpPr>
        <p:spPr>
          <a:xfrm>
            <a:off x="7391520" y="15228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Kern Khan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Box 6"/>
          <p:cNvSpPr/>
          <p:nvPr/>
        </p:nvSpPr>
        <p:spPr>
          <a:xfrm>
            <a:off x="990720" y="152280"/>
            <a:ext cx="73911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Constantia"/>
              </a:rPr>
              <a:t>Parts of Freytag’s Pyramid</a:t>
            </a:r>
            <a:endParaRPr b="0" lang="en-US" sz="4800" spc="-1" strike="noStrike">
              <a:solidFill>
                <a:srgbClr val="000000"/>
              </a:solidFill>
              <a:latin typeface="Arial"/>
            </a:endParaRPr>
          </a:p>
        </p:txBody>
      </p:sp>
      <p:sp>
        <p:nvSpPr>
          <p:cNvPr id="199" name="TextBox 7"/>
          <p:cNvSpPr/>
          <p:nvPr/>
        </p:nvSpPr>
        <p:spPr>
          <a:xfrm>
            <a:off x="533520" y="914400"/>
            <a:ext cx="556236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reytag’s Pyramid is divided into seven par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expos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inciting incid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rising a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clim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falling a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resolu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dénou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reytag’s Pyramid is used to analyze a work such as short story like “The Cask of Amontilla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Gustav Freytag (1816-1895) discovered Freytag’s Pyramid. He was a 19</a:t>
            </a:r>
            <a:r>
              <a:rPr b="0" lang="en-US" sz="1800" spc="-1" strike="noStrike" baseline="30000">
                <a:solidFill>
                  <a:srgbClr val="000000"/>
                </a:solidFill>
                <a:latin typeface="Constantia"/>
              </a:rPr>
              <a:t>th</a:t>
            </a:r>
            <a:r>
              <a:rPr b="0" lang="en-US" sz="1800" spc="-1" strike="noStrike">
                <a:solidFill>
                  <a:srgbClr val="000000"/>
                </a:solidFill>
                <a:latin typeface="Constantia"/>
              </a:rPr>
              <a:t>   century novelist who saw patterns in books and developed a diagram called a Freytag’s Pyramid from his analysis.</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tories can stop and star in Freytag’s pyramid. Occasionally, there  is no Exposition or there could be no Resolution.  The reader must imagine what happens in this ca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Arial"/>
            </a:endParaRPr>
          </a:p>
        </p:txBody>
      </p:sp>
      <p:pic>
        <p:nvPicPr>
          <p:cNvPr id="200" name="Picture 2" descr="http://media-2.web.britannica.com/eb-media/20/19020-004-5A5DB074.jpg"/>
          <p:cNvPicPr/>
          <p:nvPr/>
        </p:nvPicPr>
        <p:blipFill>
          <a:blip r:embed="rId1"/>
          <a:stretch/>
        </p:blipFill>
        <p:spPr>
          <a:xfrm>
            <a:off x="6248520" y="1295280"/>
            <a:ext cx="2530440" cy="304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Box 6"/>
          <p:cNvSpPr/>
          <p:nvPr/>
        </p:nvSpPr>
        <p:spPr>
          <a:xfrm>
            <a:off x="304920" y="228600"/>
            <a:ext cx="86868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Constantia"/>
              </a:rPr>
              <a:t>Exposition-Freytag’s Pyramid</a:t>
            </a:r>
            <a:endParaRPr b="0" lang="en-US" sz="4800" spc="-1" strike="noStrike">
              <a:solidFill>
                <a:srgbClr val="000000"/>
              </a:solidFill>
              <a:latin typeface="Arial"/>
            </a:endParaRPr>
          </a:p>
        </p:txBody>
      </p:sp>
      <p:sp>
        <p:nvSpPr>
          <p:cNvPr id="202" name="TextBox 7"/>
          <p:cNvSpPr/>
          <p:nvPr/>
        </p:nvSpPr>
        <p:spPr>
          <a:xfrm>
            <a:off x="685800" y="1143000"/>
            <a:ext cx="83059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reytag’s Pyramid is divided into seven parts. The first part of Freytag’s Pyramid is called the Expos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e Exposition introduces the story . The setting and mood (atmosphere)  are  established at the beginning of the story.</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reader meets the protagonists (main characters) and learn more about the lives of the protagonists.  The reader usually knows the positions, circumstances, and relationships to one another  at the end of the Exposition.</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Exposition also includes the Inciting Incident . The Inciting Incident starts the conflict  and is referred to as the “complication” or narrative hook.” It sets off the conflict  of the sto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Arial"/>
            </a:endParaRPr>
          </a:p>
        </p:txBody>
      </p:sp>
      <p:pic>
        <p:nvPicPr>
          <p:cNvPr id="203" name="Picture 4" descr="freytag.bmp"/>
          <p:cNvPicPr/>
          <p:nvPr/>
        </p:nvPicPr>
        <p:blipFill>
          <a:blip r:embed="rId1"/>
          <a:stretch/>
        </p:blipFill>
        <p:spPr>
          <a:xfrm>
            <a:off x="990720" y="4876920"/>
            <a:ext cx="3352680" cy="1676160"/>
          </a:xfrm>
          <a:prstGeom prst="rect">
            <a:avLst/>
          </a:prstGeom>
          <a:ln w="0">
            <a:noFill/>
          </a:ln>
        </p:spPr>
      </p:pic>
      <p:sp>
        <p:nvSpPr>
          <p:cNvPr id="204" name="Ink 2"/>
          <p:cNvSpPr/>
          <p:nvPr/>
        </p:nvSpPr>
        <p:spPr>
          <a:xfrm>
            <a:off x="1393920" y="5514840"/>
            <a:ext cx="563400" cy="514440"/>
          </a:xfrm>
          <a:custGeom>
            <a:avLst/>
            <a:gdLst/>
            <a:ahLst/>
            <a:rect l="l" t="t" r="r" b="b"/>
            <a:pathLst>
              <a:path w="1568" h="1430">
                <a:moveTo>
                  <a:pt x="3870" y="15319"/>
                </a:moveTo>
                <a:cubicBezTo>
                  <a:pt x="3870" y="15524"/>
                  <a:pt x="3870" y="16100"/>
                  <a:pt x="3870" y="15895"/>
                </a:cubicBezTo>
                <a:cubicBezTo>
                  <a:pt x="3870" y="15850"/>
                  <a:pt x="3881" y="15816"/>
                  <a:pt x="3889" y="15796"/>
                </a:cubicBezTo>
                <a:cubicBezTo>
                  <a:pt x="3903" y="15763"/>
                  <a:pt x="3915" y="15757"/>
                  <a:pt x="3929" y="15736"/>
                </a:cubicBezTo>
                <a:cubicBezTo>
                  <a:pt x="3938" y="15722"/>
                  <a:pt x="3944" y="15689"/>
                  <a:pt x="3969" y="15677"/>
                </a:cubicBezTo>
                <a:cubicBezTo>
                  <a:pt x="3974" y="15675"/>
                  <a:pt x="4025" y="15661"/>
                  <a:pt x="4028" y="15657"/>
                </a:cubicBezTo>
                <a:cubicBezTo>
                  <a:pt x="4055" y="15622"/>
                  <a:pt x="4051" y="15637"/>
                  <a:pt x="4088" y="15617"/>
                </a:cubicBezTo>
                <a:cubicBezTo>
                  <a:pt x="4121" y="15599"/>
                  <a:pt x="4127" y="15597"/>
                  <a:pt x="4167" y="15597"/>
                </a:cubicBezTo>
                <a:cubicBezTo>
                  <a:pt x="4167" y="15635"/>
                  <a:pt x="4183" y="15660"/>
                  <a:pt x="4187" y="15696"/>
                </a:cubicBezTo>
                <a:cubicBezTo>
                  <a:pt x="4194" y="15767"/>
                  <a:pt x="4187" y="15843"/>
                  <a:pt x="4187" y="15915"/>
                </a:cubicBezTo>
              </a:path>
              <a:path w="1568" h="1430">
                <a:moveTo>
                  <a:pt x="4425" y="15696"/>
                </a:moveTo>
                <a:cubicBezTo>
                  <a:pt x="4425" y="15741"/>
                  <a:pt x="4409" y="15723"/>
                  <a:pt x="4405" y="15756"/>
                </a:cubicBezTo>
                <a:cubicBezTo>
                  <a:pt x="4401" y="15789"/>
                  <a:pt x="4385" y="15771"/>
                  <a:pt x="4385" y="15815"/>
                </a:cubicBezTo>
                <a:cubicBezTo>
                  <a:pt x="4385" y="15868"/>
                  <a:pt x="4385" y="15921"/>
                  <a:pt x="4385" y="15974"/>
                </a:cubicBezTo>
                <a:cubicBezTo>
                  <a:pt x="4447" y="15974"/>
                  <a:pt x="4492" y="15971"/>
                  <a:pt x="4544" y="15954"/>
                </a:cubicBezTo>
                <a:cubicBezTo>
                  <a:pt x="4564" y="15954"/>
                  <a:pt x="4571" y="15954"/>
                  <a:pt x="4584" y="15954"/>
                </a:cubicBezTo>
                <a:cubicBezTo>
                  <a:pt x="4584" y="15881"/>
                  <a:pt x="4586" y="15800"/>
                  <a:pt x="4564" y="15756"/>
                </a:cubicBezTo>
                <a:cubicBezTo>
                  <a:pt x="4548" y="15723"/>
                  <a:pt x="4541" y="15728"/>
                  <a:pt x="4524" y="15696"/>
                </a:cubicBezTo>
                <a:cubicBezTo>
                  <a:pt x="4513" y="15675"/>
                  <a:pt x="4499" y="15661"/>
                  <a:pt x="4465" y="15657"/>
                </a:cubicBezTo>
                <a:cubicBezTo>
                  <a:pt x="4458" y="15657"/>
                  <a:pt x="4452" y="15657"/>
                  <a:pt x="4445" y="15657"/>
                </a:cubicBezTo>
              </a:path>
              <a:path w="1568" h="1430">
                <a:moveTo>
                  <a:pt x="4862" y="15716"/>
                </a:moveTo>
                <a:cubicBezTo>
                  <a:pt x="4842" y="15716"/>
                  <a:pt x="4835" y="15716"/>
                  <a:pt x="4822" y="15716"/>
                </a:cubicBezTo>
                <a:cubicBezTo>
                  <a:pt x="4822" y="15751"/>
                  <a:pt x="4817" y="15756"/>
                  <a:pt x="4802" y="15776"/>
                </a:cubicBezTo>
                <a:cubicBezTo>
                  <a:pt x="4779" y="15806"/>
                  <a:pt x="4782" y="15816"/>
                  <a:pt x="4782" y="15855"/>
                </a:cubicBezTo>
                <a:cubicBezTo>
                  <a:pt x="4782" y="15888"/>
                  <a:pt x="4782" y="15921"/>
                  <a:pt x="4782" y="15954"/>
                </a:cubicBezTo>
                <a:cubicBezTo>
                  <a:pt x="4855" y="15954"/>
                  <a:pt x="4928" y="15954"/>
                  <a:pt x="5001" y="15954"/>
                </a:cubicBezTo>
                <a:cubicBezTo>
                  <a:pt x="5001" y="15881"/>
                  <a:pt x="5001" y="15809"/>
                  <a:pt x="5001" y="15736"/>
                </a:cubicBezTo>
                <a:cubicBezTo>
                  <a:pt x="4960" y="15736"/>
                  <a:pt x="4958" y="15724"/>
                  <a:pt x="4941" y="15716"/>
                </a:cubicBezTo>
                <a:cubicBezTo>
                  <a:pt x="4921" y="15716"/>
                  <a:pt x="4914" y="15716"/>
                  <a:pt x="4901" y="15716"/>
                </a:cubicBezTo>
              </a:path>
              <a:path w="1568" h="1430">
                <a:moveTo>
                  <a:pt x="5159" y="15518"/>
                </a:moveTo>
                <a:cubicBezTo>
                  <a:pt x="5159" y="15650"/>
                  <a:pt x="5159" y="15783"/>
                  <a:pt x="5159" y="15915"/>
                </a:cubicBezTo>
                <a:cubicBezTo>
                  <a:pt x="5159" y="15816"/>
                  <a:pt x="5159" y="15716"/>
                  <a:pt x="5159" y="15617"/>
                </a:cubicBezTo>
                <a:cubicBezTo>
                  <a:pt x="5205" y="15617"/>
                  <a:pt x="5252" y="15617"/>
                  <a:pt x="5298" y="15617"/>
                </a:cubicBezTo>
                <a:cubicBezTo>
                  <a:pt x="5298" y="15663"/>
                  <a:pt x="5298" y="15710"/>
                  <a:pt x="5298" y="15756"/>
                </a:cubicBezTo>
                <a:cubicBezTo>
                  <a:pt x="5263" y="15756"/>
                  <a:pt x="5132" y="15756"/>
                  <a:pt x="5159" y="15756"/>
                </a:cubicBezTo>
                <a:cubicBezTo>
                  <a:pt x="5217" y="15756"/>
                  <a:pt x="5314" y="15737"/>
                  <a:pt x="5358" y="15776"/>
                </a:cubicBezTo>
                <a:cubicBezTo>
                  <a:pt x="5386" y="15801"/>
                  <a:pt x="5400" y="15796"/>
                  <a:pt x="5437" y="15796"/>
                </a:cubicBezTo>
              </a:path>
              <a:path w="1568" h="1430">
                <a:moveTo>
                  <a:pt x="4981" y="15994"/>
                </a:moveTo>
                <a:cubicBezTo>
                  <a:pt x="4988" y="15994"/>
                  <a:pt x="4994" y="15994"/>
                  <a:pt x="5001" y="15994"/>
                </a:cubicBezTo>
                <a:cubicBezTo>
                  <a:pt x="5001" y="16033"/>
                  <a:pt x="5010" y="16042"/>
                  <a:pt x="5020" y="16073"/>
                </a:cubicBezTo>
                <a:cubicBezTo>
                  <a:pt x="5032" y="16112"/>
                  <a:pt x="5028" y="16156"/>
                  <a:pt x="5040" y="16192"/>
                </a:cubicBezTo>
                <a:cubicBezTo>
                  <a:pt x="5051" y="16225"/>
                  <a:pt x="5070" y="16262"/>
                  <a:pt x="5080" y="16292"/>
                </a:cubicBezTo>
                <a:cubicBezTo>
                  <a:pt x="5089" y="16318"/>
                  <a:pt x="5092" y="16347"/>
                  <a:pt x="5100" y="16371"/>
                </a:cubicBezTo>
                <a:cubicBezTo>
                  <a:pt x="5110" y="16400"/>
                  <a:pt x="5131" y="16423"/>
                  <a:pt x="5140" y="16450"/>
                </a:cubicBezTo>
                <a:cubicBezTo>
                  <a:pt x="5151" y="16481"/>
                  <a:pt x="5145" y="16481"/>
                  <a:pt x="5179" y="16490"/>
                </a:cubicBezTo>
                <a:cubicBezTo>
                  <a:pt x="5179" y="16524"/>
                  <a:pt x="5171" y="16521"/>
                  <a:pt x="5199" y="16530"/>
                </a:cubicBezTo>
                <a:cubicBezTo>
                  <a:pt x="5199" y="16564"/>
                  <a:pt x="5191" y="16561"/>
                  <a:pt x="5219" y="16570"/>
                </a:cubicBezTo>
                <a:cubicBezTo>
                  <a:pt x="5219" y="16596"/>
                  <a:pt x="5219" y="16623"/>
                  <a:pt x="5219" y="16649"/>
                </a:cubicBezTo>
                <a:cubicBezTo>
                  <a:pt x="5249" y="16659"/>
                  <a:pt x="5236" y="16669"/>
                  <a:pt x="5278" y="16669"/>
                </a:cubicBezTo>
                <a:cubicBezTo>
                  <a:pt x="5318" y="16669"/>
                  <a:pt x="5358" y="16669"/>
                  <a:pt x="5398" y="16669"/>
                </a:cubicBezTo>
                <a:cubicBezTo>
                  <a:pt x="5398" y="16710"/>
                  <a:pt x="5386" y="16711"/>
                  <a:pt x="5378" y="16728"/>
                </a:cubicBezTo>
                <a:cubicBezTo>
                  <a:pt x="5378" y="16735"/>
                  <a:pt x="5378" y="16741"/>
                  <a:pt x="5378" y="16748"/>
                </a:cubicBezTo>
                <a:cubicBezTo>
                  <a:pt x="5378" y="16722"/>
                  <a:pt x="5378" y="16695"/>
                  <a:pt x="5378" y="16669"/>
                </a:cubicBezTo>
                <a:cubicBezTo>
                  <a:pt x="5378" y="16689"/>
                  <a:pt x="5378" y="16708"/>
                  <a:pt x="5378" y="16728"/>
                </a:cubicBezTo>
                <a:cubicBezTo>
                  <a:pt x="5378" y="16708"/>
                  <a:pt x="5378" y="16689"/>
                  <a:pt x="5378" y="16669"/>
                </a:cubicBezTo>
                <a:cubicBezTo>
                  <a:pt x="5378" y="16695"/>
                  <a:pt x="5378" y="16722"/>
                  <a:pt x="5378" y="1674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Ink 3"/>
          <p:cNvSpPr/>
          <p:nvPr/>
        </p:nvSpPr>
        <p:spPr>
          <a:xfrm>
            <a:off x="1085760" y="6172200"/>
            <a:ext cx="514440" cy="1440"/>
          </a:xfrm>
          <a:custGeom>
            <a:avLst/>
            <a:gdLst/>
            <a:ahLst/>
            <a:rect l="l" t="t" r="r" b="b"/>
            <a:pathLst>
              <a:path w="1430" h="1">
                <a:moveTo>
                  <a:pt x="3016" y="17145"/>
                </a:moveTo>
                <a:lnTo>
                  <a:pt x="3492" y="17145"/>
                </a:lnTo>
                <a:lnTo>
                  <a:pt x="3969" y="17145"/>
                </a:lnTo>
                <a:lnTo>
                  <a:pt x="4445" y="17145"/>
                </a:lnTo>
                <a:close/>
              </a:path>
            </a:pathLst>
          </a:custGeom>
          <a:noFill/>
          <a:ln cap="sq" w="127080">
            <a:solidFill>
              <a:srgbClr val="ff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6" name="Ink 4"/>
          <p:cNvSpPr/>
          <p:nvPr/>
        </p:nvSpPr>
        <p:spPr>
          <a:xfrm>
            <a:off x="1514520" y="6392880"/>
            <a:ext cx="799920" cy="1440"/>
          </a:xfrm>
          <a:custGeom>
            <a:avLst/>
            <a:gdLst/>
            <a:ahLst/>
            <a:rect l="l" t="t" r="r" b="b"/>
            <a:pathLst>
              <a:path w="2223" h="1">
                <a:moveTo>
                  <a:pt x="4207" y="17760"/>
                </a:moveTo>
                <a:lnTo>
                  <a:pt x="4948" y="17760"/>
                </a:lnTo>
                <a:lnTo>
                  <a:pt x="5688" y="17760"/>
                </a:lnTo>
                <a:lnTo>
                  <a:pt x="6429" y="17760"/>
                </a:lnTo>
                <a:close/>
              </a:path>
            </a:pathLst>
          </a:custGeom>
          <a:noFill/>
          <a:ln cap="sq" w="127080">
            <a:solidFill>
              <a:srgbClr val="ff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7" name="Ink 5"/>
          <p:cNvSpPr/>
          <p:nvPr/>
        </p:nvSpPr>
        <p:spPr>
          <a:xfrm>
            <a:off x="1085760" y="5972040"/>
            <a:ext cx="828720" cy="22320"/>
          </a:xfrm>
          <a:custGeom>
            <a:avLst/>
            <a:gdLst/>
            <a:ahLst/>
            <a:rect l="l" t="t" r="r" b="b"/>
            <a:pathLst>
              <a:path w="2303" h="61">
                <a:moveTo>
                  <a:pt x="3016" y="16589"/>
                </a:moveTo>
                <a:lnTo>
                  <a:pt x="3208" y="16589"/>
                </a:lnTo>
                <a:lnTo>
                  <a:pt x="3407" y="16578"/>
                </a:lnTo>
                <a:lnTo>
                  <a:pt x="3592" y="16609"/>
                </a:lnTo>
                <a:lnTo>
                  <a:pt x="3668" y="16622"/>
                </a:lnTo>
                <a:lnTo>
                  <a:pt x="3756" y="16619"/>
                </a:lnTo>
                <a:lnTo>
                  <a:pt x="3830" y="16629"/>
                </a:lnTo>
                <a:lnTo>
                  <a:pt x="4012" y="16653"/>
                </a:lnTo>
                <a:lnTo>
                  <a:pt x="4204" y="16628"/>
                </a:lnTo>
                <a:lnTo>
                  <a:pt x="4385" y="16649"/>
                </a:lnTo>
                <a:lnTo>
                  <a:pt x="4687" y="16684"/>
                </a:lnTo>
                <a:lnTo>
                  <a:pt x="5013" y="16649"/>
                </a:lnTo>
                <a:lnTo>
                  <a:pt x="5318" y="16649"/>
                </a:lnTo>
                <a:close/>
              </a:path>
            </a:pathLst>
          </a:custGeom>
          <a:noFill/>
          <a:ln cap="sq" w="127080">
            <a:solidFill>
              <a:srgbClr val="ffff00">
                <a:alpha val="33000"/>
              </a:srgbClr>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Box 6"/>
          <p:cNvSpPr/>
          <p:nvPr/>
        </p:nvSpPr>
        <p:spPr>
          <a:xfrm>
            <a:off x="304920" y="228600"/>
            <a:ext cx="86868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Constantia"/>
              </a:rPr>
              <a:t>Rising Action-Freytag’s Pyramid</a:t>
            </a:r>
            <a:endParaRPr b="0" lang="en-US" sz="4800" spc="-1" strike="noStrike">
              <a:solidFill>
                <a:srgbClr val="000000"/>
              </a:solidFill>
              <a:latin typeface="Arial"/>
            </a:endParaRPr>
          </a:p>
        </p:txBody>
      </p:sp>
      <p:sp>
        <p:nvSpPr>
          <p:cNvPr id="209" name="TextBox 7"/>
          <p:cNvSpPr/>
          <p:nvPr/>
        </p:nvSpPr>
        <p:spPr>
          <a:xfrm>
            <a:off x="685800" y="1143000"/>
            <a:ext cx="83059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reytag’s Pyramid is divided into seven parts. The third part of Freytag’s Pyramid is called the Rising A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e Rising Action  is the series of events of event that help lead to the dramatic climax. It is the series of events, conflicts, and crises in the story that lead up to the climax, providing the progressive intensity, and complicate the conflict</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reader knows more about the conflict. In a short time, the conflict is about to end and the final event is supposed to occur.</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Inciting Incident in “The Cask of Amontillado” could be the time when Montresor and Fortunado are walking to the Amontillado in Montresor’s vaul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Arial"/>
            </a:endParaRPr>
          </a:p>
        </p:txBody>
      </p:sp>
      <p:pic>
        <p:nvPicPr>
          <p:cNvPr id="210" name="Picture 5" descr="freytag.bmp"/>
          <p:cNvPicPr/>
          <p:nvPr/>
        </p:nvPicPr>
        <p:blipFill>
          <a:blip r:embed="rId1"/>
          <a:stretch/>
        </p:blipFill>
        <p:spPr>
          <a:xfrm>
            <a:off x="990720" y="4876920"/>
            <a:ext cx="3352680" cy="1676160"/>
          </a:xfrm>
          <a:prstGeom prst="rect">
            <a:avLst/>
          </a:prstGeom>
          <a:ln w="0">
            <a:noFill/>
          </a:ln>
        </p:spPr>
      </p:pic>
      <p:sp>
        <p:nvSpPr>
          <p:cNvPr id="211" name="Ink 7"/>
          <p:cNvSpPr/>
          <p:nvPr/>
        </p:nvSpPr>
        <p:spPr>
          <a:xfrm>
            <a:off x="1963800" y="5200560"/>
            <a:ext cx="730080" cy="785880"/>
          </a:xfrm>
          <a:custGeom>
            <a:avLst/>
            <a:gdLst/>
            <a:ahLst/>
            <a:rect l="l" t="t" r="r" b="b"/>
            <a:pathLst>
              <a:path w="2025" h="2184">
                <a:moveTo>
                  <a:pt x="5457" y="16629"/>
                </a:moveTo>
                <a:lnTo>
                  <a:pt x="5506" y="16626"/>
                </a:lnTo>
                <a:lnTo>
                  <a:pt x="5535" y="16621"/>
                </a:lnTo>
                <a:lnTo>
                  <a:pt x="5576" y="16609"/>
                </a:lnTo>
                <a:lnTo>
                  <a:pt x="5598" y="16602"/>
                </a:lnTo>
                <a:lnTo>
                  <a:pt x="5614" y="16596"/>
                </a:lnTo>
                <a:lnTo>
                  <a:pt x="5636" y="16589"/>
                </a:lnTo>
                <a:lnTo>
                  <a:pt x="5649" y="16567"/>
                </a:lnTo>
                <a:lnTo>
                  <a:pt x="5662" y="16531"/>
                </a:lnTo>
                <a:lnTo>
                  <a:pt x="5675" y="16510"/>
                </a:lnTo>
                <a:lnTo>
                  <a:pt x="5697" y="16505"/>
                </a:lnTo>
                <a:lnTo>
                  <a:pt x="5698" y="16502"/>
                </a:lnTo>
                <a:lnTo>
                  <a:pt x="5715" y="16490"/>
                </a:lnTo>
                <a:lnTo>
                  <a:pt x="5726" y="16480"/>
                </a:lnTo>
                <a:lnTo>
                  <a:pt x="5747" y="16445"/>
                </a:lnTo>
                <a:lnTo>
                  <a:pt x="5775" y="16431"/>
                </a:lnTo>
                <a:lnTo>
                  <a:pt x="5781" y="16431"/>
                </a:lnTo>
                <a:lnTo>
                  <a:pt x="5788" y="16431"/>
                </a:lnTo>
                <a:lnTo>
                  <a:pt x="5794" y="16431"/>
                </a:lnTo>
                <a:lnTo>
                  <a:pt x="5819" y="16423"/>
                </a:lnTo>
                <a:lnTo>
                  <a:pt x="5829" y="16419"/>
                </a:lnTo>
                <a:lnTo>
                  <a:pt x="5854" y="16411"/>
                </a:lnTo>
                <a:lnTo>
                  <a:pt x="5859" y="16389"/>
                </a:lnTo>
                <a:lnTo>
                  <a:pt x="5862" y="16388"/>
                </a:lnTo>
                <a:lnTo>
                  <a:pt x="5874" y="16371"/>
                </a:lnTo>
                <a:lnTo>
                  <a:pt x="5875" y="16368"/>
                </a:lnTo>
                <a:lnTo>
                  <a:pt x="5889" y="16336"/>
                </a:lnTo>
                <a:lnTo>
                  <a:pt x="5894" y="16312"/>
                </a:lnTo>
                <a:lnTo>
                  <a:pt x="5894" y="16305"/>
                </a:lnTo>
                <a:lnTo>
                  <a:pt x="5894" y="16299"/>
                </a:lnTo>
                <a:lnTo>
                  <a:pt x="5894" y="16292"/>
                </a:lnTo>
                <a:lnTo>
                  <a:pt x="5920" y="16274"/>
                </a:lnTo>
                <a:lnTo>
                  <a:pt x="5907" y="16291"/>
                </a:lnTo>
                <a:lnTo>
                  <a:pt x="5913" y="16252"/>
                </a:lnTo>
                <a:lnTo>
                  <a:pt x="5922" y="16240"/>
                </a:lnTo>
                <a:lnTo>
                  <a:pt x="5933" y="16212"/>
                </a:lnTo>
                <a:lnTo>
                  <a:pt x="5953" y="16192"/>
                </a:lnTo>
                <a:lnTo>
                  <a:pt x="5960" y="16192"/>
                </a:lnTo>
                <a:lnTo>
                  <a:pt x="5966" y="16192"/>
                </a:lnTo>
                <a:lnTo>
                  <a:pt x="5973" y="16192"/>
                </a:lnTo>
                <a:lnTo>
                  <a:pt x="5973" y="16126"/>
                </a:lnTo>
                <a:lnTo>
                  <a:pt x="5973" y="16060"/>
                </a:lnTo>
                <a:lnTo>
                  <a:pt x="5973" y="15994"/>
                </a:lnTo>
                <a:lnTo>
                  <a:pt x="5987" y="15976"/>
                </a:lnTo>
                <a:lnTo>
                  <a:pt x="6020" y="15968"/>
                </a:lnTo>
                <a:lnTo>
                  <a:pt x="6032" y="15935"/>
                </a:lnTo>
                <a:lnTo>
                  <a:pt x="6032" y="15915"/>
                </a:lnTo>
                <a:lnTo>
                  <a:pt x="6032" y="15908"/>
                </a:lnTo>
                <a:lnTo>
                  <a:pt x="6032" y="15895"/>
                </a:lnTo>
                <a:lnTo>
                  <a:pt x="6054" y="15882"/>
                </a:lnTo>
                <a:lnTo>
                  <a:pt x="6090" y="15868"/>
                </a:lnTo>
                <a:lnTo>
                  <a:pt x="6112" y="15855"/>
                </a:lnTo>
                <a:lnTo>
                  <a:pt x="6129" y="15818"/>
                </a:lnTo>
                <a:lnTo>
                  <a:pt x="6129" y="15822"/>
                </a:lnTo>
                <a:lnTo>
                  <a:pt x="6152" y="15796"/>
                </a:lnTo>
                <a:lnTo>
                  <a:pt x="6163" y="15765"/>
                </a:lnTo>
                <a:lnTo>
                  <a:pt x="6180" y="15745"/>
                </a:lnTo>
                <a:lnTo>
                  <a:pt x="6191" y="15716"/>
                </a:lnTo>
                <a:lnTo>
                  <a:pt x="6191" y="15709"/>
                </a:lnTo>
                <a:lnTo>
                  <a:pt x="6191" y="15703"/>
                </a:lnTo>
                <a:lnTo>
                  <a:pt x="6191" y="15696"/>
                </a:lnTo>
                <a:lnTo>
                  <a:pt x="6204" y="15685"/>
                </a:lnTo>
                <a:lnTo>
                  <a:pt x="6234" y="15671"/>
                </a:lnTo>
                <a:lnTo>
                  <a:pt x="6251" y="15657"/>
                </a:lnTo>
                <a:lnTo>
                  <a:pt x="6276" y="15649"/>
                </a:lnTo>
                <a:lnTo>
                  <a:pt x="6285" y="15645"/>
                </a:lnTo>
                <a:lnTo>
                  <a:pt x="6310" y="15637"/>
                </a:lnTo>
                <a:lnTo>
                  <a:pt x="6321" y="15624"/>
                </a:lnTo>
                <a:lnTo>
                  <a:pt x="6336" y="15594"/>
                </a:lnTo>
                <a:lnTo>
                  <a:pt x="6350" y="15577"/>
                </a:lnTo>
                <a:lnTo>
                  <a:pt x="6372" y="15570"/>
                </a:lnTo>
                <a:lnTo>
                  <a:pt x="6388" y="15565"/>
                </a:lnTo>
                <a:lnTo>
                  <a:pt x="6410" y="15558"/>
                </a:lnTo>
                <a:lnTo>
                  <a:pt x="6428" y="15535"/>
                </a:lnTo>
                <a:lnTo>
                  <a:pt x="6438" y="15500"/>
                </a:lnTo>
                <a:lnTo>
                  <a:pt x="6469" y="15478"/>
                </a:lnTo>
                <a:lnTo>
                  <a:pt x="6476" y="15478"/>
                </a:lnTo>
                <a:lnTo>
                  <a:pt x="6482" y="15478"/>
                </a:lnTo>
                <a:lnTo>
                  <a:pt x="6489" y="15478"/>
                </a:lnTo>
                <a:lnTo>
                  <a:pt x="6501" y="15467"/>
                </a:lnTo>
                <a:lnTo>
                  <a:pt x="6521" y="15436"/>
                </a:lnTo>
                <a:lnTo>
                  <a:pt x="6548" y="15419"/>
                </a:lnTo>
                <a:lnTo>
                  <a:pt x="6566" y="15401"/>
                </a:lnTo>
                <a:lnTo>
                  <a:pt x="6570" y="15394"/>
                </a:lnTo>
                <a:lnTo>
                  <a:pt x="6588" y="15399"/>
                </a:lnTo>
                <a:lnTo>
                  <a:pt x="6601" y="15384"/>
                </a:lnTo>
                <a:lnTo>
                  <a:pt x="6622" y="15362"/>
                </a:lnTo>
                <a:lnTo>
                  <a:pt x="6648" y="15339"/>
                </a:lnTo>
                <a:lnTo>
                  <a:pt x="6654" y="15334"/>
                </a:lnTo>
                <a:lnTo>
                  <a:pt x="6679" y="15307"/>
                </a:lnTo>
                <a:lnTo>
                  <a:pt x="6687" y="15300"/>
                </a:lnTo>
                <a:lnTo>
                  <a:pt x="6696" y="15272"/>
                </a:lnTo>
                <a:lnTo>
                  <a:pt x="6697" y="15277"/>
                </a:lnTo>
                <a:lnTo>
                  <a:pt x="6707" y="15240"/>
                </a:lnTo>
                <a:lnTo>
                  <a:pt x="6718" y="15201"/>
                </a:lnTo>
                <a:lnTo>
                  <a:pt x="6702" y="15196"/>
                </a:lnTo>
                <a:lnTo>
                  <a:pt x="6727" y="15161"/>
                </a:lnTo>
                <a:lnTo>
                  <a:pt x="6764" y="15109"/>
                </a:lnTo>
                <a:lnTo>
                  <a:pt x="6801" y="15104"/>
                </a:lnTo>
                <a:lnTo>
                  <a:pt x="6846" y="15081"/>
                </a:lnTo>
                <a:lnTo>
                  <a:pt x="6858" y="15073"/>
                </a:lnTo>
                <a:lnTo>
                  <a:pt x="6896" y="15036"/>
                </a:lnTo>
                <a:lnTo>
                  <a:pt x="6925" y="15022"/>
                </a:lnTo>
                <a:lnTo>
                  <a:pt x="6943" y="15013"/>
                </a:lnTo>
                <a:lnTo>
                  <a:pt x="6966" y="15010"/>
                </a:lnTo>
                <a:lnTo>
                  <a:pt x="6985" y="15002"/>
                </a:lnTo>
                <a:lnTo>
                  <a:pt x="6998" y="14986"/>
                </a:lnTo>
                <a:lnTo>
                  <a:pt x="6997" y="14960"/>
                </a:lnTo>
                <a:lnTo>
                  <a:pt x="7025" y="14942"/>
                </a:lnTo>
                <a:lnTo>
                  <a:pt x="7032" y="14942"/>
                </a:lnTo>
                <a:lnTo>
                  <a:pt x="7038" y="14942"/>
                </a:lnTo>
                <a:lnTo>
                  <a:pt x="7045" y="14942"/>
                </a:lnTo>
                <a:lnTo>
                  <a:pt x="7063" y="14914"/>
                </a:lnTo>
                <a:lnTo>
                  <a:pt x="7044" y="14929"/>
                </a:lnTo>
                <a:lnTo>
                  <a:pt x="7084" y="14922"/>
                </a:lnTo>
                <a:lnTo>
                  <a:pt x="7100" y="14909"/>
                </a:lnTo>
                <a:lnTo>
                  <a:pt x="7114" y="14896"/>
                </a:lnTo>
                <a:lnTo>
                  <a:pt x="7144" y="14883"/>
                </a:lnTo>
                <a:lnTo>
                  <a:pt x="7160" y="14871"/>
                </a:lnTo>
                <a:lnTo>
                  <a:pt x="7168" y="14853"/>
                </a:lnTo>
                <a:lnTo>
                  <a:pt x="7203" y="14843"/>
                </a:lnTo>
                <a:lnTo>
                  <a:pt x="7210" y="14843"/>
                </a:lnTo>
                <a:lnTo>
                  <a:pt x="7216" y="14843"/>
                </a:lnTo>
                <a:lnTo>
                  <a:pt x="7223" y="14843"/>
                </a:lnTo>
                <a:lnTo>
                  <a:pt x="7223" y="14778"/>
                </a:lnTo>
                <a:lnTo>
                  <a:pt x="7218" y="14719"/>
                </a:lnTo>
                <a:lnTo>
                  <a:pt x="7243" y="14665"/>
                </a:lnTo>
                <a:lnTo>
                  <a:pt x="7258" y="14632"/>
                </a:lnTo>
                <a:lnTo>
                  <a:pt x="7285" y="14624"/>
                </a:lnTo>
                <a:lnTo>
                  <a:pt x="7302" y="14605"/>
                </a:lnTo>
                <a:lnTo>
                  <a:pt x="7314" y="14594"/>
                </a:lnTo>
                <a:lnTo>
                  <a:pt x="7336" y="14563"/>
                </a:lnTo>
                <a:lnTo>
                  <a:pt x="7362" y="14545"/>
                </a:lnTo>
                <a:lnTo>
                  <a:pt x="7390" y="14525"/>
                </a:lnTo>
                <a:lnTo>
                  <a:pt x="7436" y="14513"/>
                </a:lnTo>
                <a:lnTo>
                  <a:pt x="7461" y="14486"/>
                </a:lnTo>
                <a:lnTo>
                  <a:pt x="7471" y="14475"/>
                </a:lnTo>
                <a:lnTo>
                  <a:pt x="7471" y="14455"/>
                </a:lnTo>
                <a:lnTo>
                  <a:pt x="7481" y="14446"/>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Ink 8"/>
          <p:cNvSpPr/>
          <p:nvPr/>
        </p:nvSpPr>
        <p:spPr>
          <a:xfrm>
            <a:off x="2049480" y="5692680"/>
            <a:ext cx="173160" cy="179640"/>
          </a:xfrm>
          <a:custGeom>
            <a:avLst/>
            <a:gdLst/>
            <a:ahLst/>
            <a:rect l="l" t="t" r="r" b="b"/>
            <a:pathLst>
              <a:path w="477" h="498">
                <a:moveTo>
                  <a:pt x="5695" y="16312"/>
                </a:moveTo>
                <a:lnTo>
                  <a:pt x="5735" y="16302"/>
                </a:lnTo>
                <a:lnTo>
                  <a:pt x="5735" y="16293"/>
                </a:lnTo>
                <a:lnTo>
                  <a:pt x="5735" y="16252"/>
                </a:lnTo>
                <a:lnTo>
                  <a:pt x="5735" y="16232"/>
                </a:lnTo>
                <a:lnTo>
                  <a:pt x="5735" y="16225"/>
                </a:lnTo>
                <a:lnTo>
                  <a:pt x="5735" y="16212"/>
                </a:lnTo>
                <a:lnTo>
                  <a:pt x="5763" y="16203"/>
                </a:lnTo>
                <a:lnTo>
                  <a:pt x="5760" y="16175"/>
                </a:lnTo>
                <a:lnTo>
                  <a:pt x="5794" y="16153"/>
                </a:lnTo>
                <a:lnTo>
                  <a:pt x="5825" y="16133"/>
                </a:lnTo>
                <a:lnTo>
                  <a:pt x="5868" y="16111"/>
                </a:lnTo>
                <a:lnTo>
                  <a:pt x="5894" y="16093"/>
                </a:lnTo>
                <a:lnTo>
                  <a:pt x="5921" y="16075"/>
                </a:lnTo>
                <a:lnTo>
                  <a:pt x="5950" y="16049"/>
                </a:lnTo>
                <a:lnTo>
                  <a:pt x="5973" y="16034"/>
                </a:lnTo>
                <a:lnTo>
                  <a:pt x="6005" y="16012"/>
                </a:lnTo>
                <a:lnTo>
                  <a:pt x="6015" y="15979"/>
                </a:lnTo>
                <a:lnTo>
                  <a:pt x="6032" y="15954"/>
                </a:lnTo>
                <a:lnTo>
                  <a:pt x="6051" y="15927"/>
                </a:lnTo>
                <a:lnTo>
                  <a:pt x="6064" y="15927"/>
                </a:lnTo>
                <a:lnTo>
                  <a:pt x="6072" y="15895"/>
                </a:lnTo>
                <a:lnTo>
                  <a:pt x="6110" y="15885"/>
                </a:lnTo>
                <a:lnTo>
                  <a:pt x="6117" y="15851"/>
                </a:lnTo>
                <a:lnTo>
                  <a:pt x="6152" y="15835"/>
                </a:lnTo>
                <a:lnTo>
                  <a:pt x="6171" y="15835"/>
                </a:lnTo>
                <a:lnTo>
                  <a:pt x="6178" y="15835"/>
                </a:lnTo>
                <a:lnTo>
                  <a:pt x="6171" y="15815"/>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Ink 9"/>
          <p:cNvSpPr/>
          <p:nvPr/>
        </p:nvSpPr>
        <p:spPr>
          <a:xfrm>
            <a:off x="2165400" y="5421240"/>
            <a:ext cx="377640" cy="430200"/>
          </a:xfrm>
          <a:custGeom>
            <a:avLst/>
            <a:gdLst/>
            <a:ahLst/>
            <a:rect l="l" t="t" r="r" b="b"/>
            <a:pathLst>
              <a:path w="1052" h="1192">
                <a:moveTo>
                  <a:pt x="6013" y="16252"/>
                </a:moveTo>
                <a:lnTo>
                  <a:pt x="6030" y="16234"/>
                </a:lnTo>
                <a:lnTo>
                  <a:pt x="6034" y="16227"/>
                </a:lnTo>
                <a:lnTo>
                  <a:pt x="6052" y="16232"/>
                </a:lnTo>
                <a:lnTo>
                  <a:pt x="6052" y="16186"/>
                </a:lnTo>
                <a:lnTo>
                  <a:pt x="6055" y="16171"/>
                </a:lnTo>
                <a:lnTo>
                  <a:pt x="6072" y="16133"/>
                </a:lnTo>
                <a:lnTo>
                  <a:pt x="6090" y="16115"/>
                </a:lnTo>
                <a:lnTo>
                  <a:pt x="6097" y="16111"/>
                </a:lnTo>
                <a:lnTo>
                  <a:pt x="6092" y="16093"/>
                </a:lnTo>
                <a:lnTo>
                  <a:pt x="6126" y="16065"/>
                </a:lnTo>
                <a:lnTo>
                  <a:pt x="6115" y="16076"/>
                </a:lnTo>
                <a:lnTo>
                  <a:pt x="6132" y="16034"/>
                </a:lnTo>
                <a:lnTo>
                  <a:pt x="6139" y="16018"/>
                </a:lnTo>
                <a:lnTo>
                  <a:pt x="6144" y="15968"/>
                </a:lnTo>
                <a:lnTo>
                  <a:pt x="6152" y="15954"/>
                </a:lnTo>
                <a:lnTo>
                  <a:pt x="6168" y="15927"/>
                </a:lnTo>
                <a:lnTo>
                  <a:pt x="6193" y="15928"/>
                </a:lnTo>
                <a:lnTo>
                  <a:pt x="6211" y="15915"/>
                </a:lnTo>
                <a:lnTo>
                  <a:pt x="6231" y="15886"/>
                </a:lnTo>
                <a:lnTo>
                  <a:pt x="6236" y="15876"/>
                </a:lnTo>
                <a:lnTo>
                  <a:pt x="6271" y="15855"/>
                </a:lnTo>
                <a:lnTo>
                  <a:pt x="6296" y="15840"/>
                </a:lnTo>
                <a:lnTo>
                  <a:pt x="6323" y="15844"/>
                </a:lnTo>
                <a:lnTo>
                  <a:pt x="6350" y="15835"/>
                </a:lnTo>
                <a:lnTo>
                  <a:pt x="6390" y="15822"/>
                </a:lnTo>
                <a:lnTo>
                  <a:pt x="6378" y="15822"/>
                </a:lnTo>
                <a:lnTo>
                  <a:pt x="6429" y="15815"/>
                </a:lnTo>
                <a:lnTo>
                  <a:pt x="6442" y="15805"/>
                </a:lnTo>
                <a:lnTo>
                  <a:pt x="6465" y="15790"/>
                </a:lnTo>
                <a:lnTo>
                  <a:pt x="6489" y="15776"/>
                </a:lnTo>
                <a:lnTo>
                  <a:pt x="6501" y="15751"/>
                </a:lnTo>
                <a:lnTo>
                  <a:pt x="6517" y="15721"/>
                </a:lnTo>
                <a:lnTo>
                  <a:pt x="6529" y="15696"/>
                </a:lnTo>
                <a:lnTo>
                  <a:pt x="6580" y="15679"/>
                </a:lnTo>
                <a:lnTo>
                  <a:pt x="6547" y="15704"/>
                </a:lnTo>
                <a:lnTo>
                  <a:pt x="6568" y="15657"/>
                </a:lnTo>
                <a:lnTo>
                  <a:pt x="6589" y="15610"/>
                </a:lnTo>
                <a:lnTo>
                  <a:pt x="6615" y="15615"/>
                </a:lnTo>
                <a:lnTo>
                  <a:pt x="6648" y="15577"/>
                </a:lnTo>
                <a:lnTo>
                  <a:pt x="6666" y="15560"/>
                </a:lnTo>
                <a:lnTo>
                  <a:pt x="6673" y="15556"/>
                </a:lnTo>
                <a:lnTo>
                  <a:pt x="6668" y="15538"/>
                </a:lnTo>
                <a:lnTo>
                  <a:pt x="6699" y="15512"/>
                </a:lnTo>
                <a:lnTo>
                  <a:pt x="6701" y="15527"/>
                </a:lnTo>
                <a:lnTo>
                  <a:pt x="6707" y="15478"/>
                </a:lnTo>
                <a:lnTo>
                  <a:pt x="6712" y="15433"/>
                </a:lnTo>
                <a:lnTo>
                  <a:pt x="6693" y="15393"/>
                </a:lnTo>
                <a:lnTo>
                  <a:pt x="6727" y="15359"/>
                </a:lnTo>
                <a:lnTo>
                  <a:pt x="6734" y="15359"/>
                </a:lnTo>
                <a:lnTo>
                  <a:pt x="6740" y="15359"/>
                </a:lnTo>
                <a:lnTo>
                  <a:pt x="6747" y="15359"/>
                </a:lnTo>
                <a:lnTo>
                  <a:pt x="6767" y="15331"/>
                </a:lnTo>
                <a:lnTo>
                  <a:pt x="6771" y="15320"/>
                </a:lnTo>
                <a:lnTo>
                  <a:pt x="6806" y="15300"/>
                </a:lnTo>
                <a:lnTo>
                  <a:pt x="6824" y="15282"/>
                </a:lnTo>
                <a:lnTo>
                  <a:pt x="6828" y="15275"/>
                </a:lnTo>
                <a:lnTo>
                  <a:pt x="6846" y="15280"/>
                </a:lnTo>
                <a:lnTo>
                  <a:pt x="6858" y="15263"/>
                </a:lnTo>
                <a:lnTo>
                  <a:pt x="6854" y="15257"/>
                </a:lnTo>
                <a:lnTo>
                  <a:pt x="6866" y="15240"/>
                </a:lnTo>
                <a:lnTo>
                  <a:pt x="6882" y="15227"/>
                </a:lnTo>
                <a:lnTo>
                  <a:pt x="6901" y="15214"/>
                </a:lnTo>
                <a:lnTo>
                  <a:pt x="6925" y="15200"/>
                </a:lnTo>
                <a:lnTo>
                  <a:pt x="6939" y="15189"/>
                </a:lnTo>
                <a:lnTo>
                  <a:pt x="6959" y="15175"/>
                </a:lnTo>
                <a:lnTo>
                  <a:pt x="6985" y="15161"/>
                </a:lnTo>
                <a:lnTo>
                  <a:pt x="7001" y="15136"/>
                </a:lnTo>
                <a:lnTo>
                  <a:pt x="7000" y="15137"/>
                </a:lnTo>
                <a:lnTo>
                  <a:pt x="7025" y="15121"/>
                </a:lnTo>
                <a:lnTo>
                  <a:pt x="7037" y="15104"/>
                </a:lnTo>
                <a:lnTo>
                  <a:pt x="7033" y="15098"/>
                </a:lnTo>
                <a:lnTo>
                  <a:pt x="7045" y="15081"/>
                </a:lnTo>
                <a:lnTo>
                  <a:pt x="7064" y="15081"/>
                </a:lnTo>
                <a:lnTo>
                  <a:pt x="7071" y="15081"/>
                </a:lnTo>
                <a:lnTo>
                  <a:pt x="7064" y="15061"/>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Ink 10"/>
          <p:cNvSpPr/>
          <p:nvPr/>
        </p:nvSpPr>
        <p:spPr>
          <a:xfrm>
            <a:off x="1992240" y="5315040"/>
            <a:ext cx="444600" cy="422280"/>
          </a:xfrm>
          <a:custGeom>
            <a:avLst/>
            <a:gdLst/>
            <a:ahLst/>
            <a:rect l="l" t="t" r="r" b="b"/>
            <a:pathLst>
              <a:path w="1232" h="1172">
                <a:moveTo>
                  <a:pt x="5536" y="15935"/>
                </a:moveTo>
                <a:lnTo>
                  <a:pt x="5540" y="15906"/>
                </a:lnTo>
                <a:lnTo>
                  <a:pt x="5539" y="15888"/>
                </a:lnTo>
                <a:lnTo>
                  <a:pt x="5556" y="15875"/>
                </a:lnTo>
                <a:lnTo>
                  <a:pt x="5586" y="15852"/>
                </a:lnTo>
                <a:lnTo>
                  <a:pt x="5593" y="15849"/>
                </a:lnTo>
                <a:lnTo>
                  <a:pt x="5616" y="15835"/>
                </a:lnTo>
                <a:lnTo>
                  <a:pt x="5654" y="15812"/>
                </a:lnTo>
                <a:lnTo>
                  <a:pt x="5691" y="15798"/>
                </a:lnTo>
                <a:lnTo>
                  <a:pt x="5735" y="15776"/>
                </a:lnTo>
                <a:lnTo>
                  <a:pt x="5763" y="15762"/>
                </a:lnTo>
                <a:lnTo>
                  <a:pt x="5786" y="15755"/>
                </a:lnTo>
                <a:lnTo>
                  <a:pt x="5814" y="15736"/>
                </a:lnTo>
                <a:lnTo>
                  <a:pt x="5834" y="15722"/>
                </a:lnTo>
                <a:lnTo>
                  <a:pt x="5838" y="15708"/>
                </a:lnTo>
                <a:lnTo>
                  <a:pt x="5854" y="15677"/>
                </a:lnTo>
                <a:lnTo>
                  <a:pt x="5874" y="15640"/>
                </a:lnTo>
                <a:lnTo>
                  <a:pt x="5882" y="15643"/>
                </a:lnTo>
                <a:lnTo>
                  <a:pt x="5913" y="15617"/>
                </a:lnTo>
                <a:lnTo>
                  <a:pt x="5923" y="15608"/>
                </a:lnTo>
                <a:lnTo>
                  <a:pt x="5957" y="15590"/>
                </a:lnTo>
                <a:lnTo>
                  <a:pt x="5973" y="15577"/>
                </a:lnTo>
                <a:lnTo>
                  <a:pt x="5989" y="15564"/>
                </a:lnTo>
                <a:lnTo>
                  <a:pt x="6024" y="15517"/>
                </a:lnTo>
                <a:lnTo>
                  <a:pt x="6052" y="15498"/>
                </a:lnTo>
                <a:lnTo>
                  <a:pt x="6076" y="15482"/>
                </a:lnTo>
                <a:lnTo>
                  <a:pt x="6118" y="15463"/>
                </a:lnTo>
                <a:lnTo>
                  <a:pt x="6132" y="15438"/>
                </a:lnTo>
                <a:lnTo>
                  <a:pt x="6134" y="15434"/>
                </a:lnTo>
                <a:lnTo>
                  <a:pt x="6152" y="15359"/>
                </a:lnTo>
                <a:lnTo>
                  <a:pt x="6152" y="15359"/>
                </a:lnTo>
                <a:lnTo>
                  <a:pt x="6159" y="15318"/>
                </a:lnTo>
                <a:lnTo>
                  <a:pt x="6160" y="15300"/>
                </a:lnTo>
                <a:lnTo>
                  <a:pt x="6171" y="15280"/>
                </a:lnTo>
                <a:lnTo>
                  <a:pt x="6185" y="15253"/>
                </a:lnTo>
                <a:lnTo>
                  <a:pt x="6220" y="15228"/>
                </a:lnTo>
                <a:lnTo>
                  <a:pt x="6231" y="15200"/>
                </a:lnTo>
                <a:lnTo>
                  <a:pt x="6244" y="15167"/>
                </a:lnTo>
                <a:lnTo>
                  <a:pt x="6237" y="15167"/>
                </a:lnTo>
                <a:lnTo>
                  <a:pt x="6251" y="15141"/>
                </a:lnTo>
                <a:lnTo>
                  <a:pt x="6265" y="15114"/>
                </a:lnTo>
                <a:lnTo>
                  <a:pt x="6278" y="15101"/>
                </a:lnTo>
                <a:lnTo>
                  <a:pt x="6290" y="15081"/>
                </a:lnTo>
                <a:lnTo>
                  <a:pt x="6302" y="15062"/>
                </a:lnTo>
                <a:lnTo>
                  <a:pt x="6318" y="15031"/>
                </a:lnTo>
                <a:lnTo>
                  <a:pt x="6330" y="15022"/>
                </a:lnTo>
                <a:lnTo>
                  <a:pt x="6354" y="15005"/>
                </a:lnTo>
                <a:lnTo>
                  <a:pt x="6391" y="14997"/>
                </a:lnTo>
                <a:lnTo>
                  <a:pt x="6410" y="14982"/>
                </a:lnTo>
                <a:lnTo>
                  <a:pt x="6437" y="14961"/>
                </a:lnTo>
                <a:lnTo>
                  <a:pt x="6476" y="14927"/>
                </a:lnTo>
                <a:lnTo>
                  <a:pt x="6489" y="14922"/>
                </a:lnTo>
                <a:lnTo>
                  <a:pt x="6525" y="14906"/>
                </a:lnTo>
                <a:lnTo>
                  <a:pt x="6550" y="14899"/>
                </a:lnTo>
                <a:lnTo>
                  <a:pt x="6568" y="14883"/>
                </a:lnTo>
                <a:lnTo>
                  <a:pt x="6582" y="14871"/>
                </a:lnTo>
                <a:lnTo>
                  <a:pt x="6609" y="14858"/>
                </a:lnTo>
                <a:lnTo>
                  <a:pt x="6628" y="14843"/>
                </a:lnTo>
                <a:lnTo>
                  <a:pt x="6644" y="14831"/>
                </a:lnTo>
                <a:lnTo>
                  <a:pt x="6670" y="14817"/>
                </a:lnTo>
                <a:lnTo>
                  <a:pt x="6687" y="14803"/>
                </a:lnTo>
                <a:lnTo>
                  <a:pt x="6693" y="14798"/>
                </a:lnTo>
                <a:lnTo>
                  <a:pt x="6726" y="14764"/>
                </a:lnTo>
                <a:lnTo>
                  <a:pt x="6727" y="14764"/>
                </a:lnTo>
                <a:lnTo>
                  <a:pt x="6734" y="14764"/>
                </a:lnTo>
                <a:lnTo>
                  <a:pt x="6740" y="14764"/>
                </a:lnTo>
                <a:lnTo>
                  <a:pt x="6747" y="14764"/>
                </a:lnTo>
                <a:lnTo>
                  <a:pt x="6759" y="14783"/>
                </a:lnTo>
                <a:lnTo>
                  <a:pt x="6765" y="14781"/>
                </a:lnTo>
                <a:lnTo>
                  <a:pt x="6767" y="14823"/>
                </a:lnTo>
                <a:lnTo>
                  <a:pt x="6770" y="14869"/>
                </a:lnTo>
                <a:lnTo>
                  <a:pt x="6764" y="14882"/>
                </a:lnTo>
                <a:lnTo>
                  <a:pt x="6747" y="14903"/>
                </a:lnTo>
                <a:lnTo>
                  <a:pt x="6732" y="14921"/>
                </a:lnTo>
                <a:lnTo>
                  <a:pt x="6723" y="14926"/>
                </a:lnTo>
                <a:lnTo>
                  <a:pt x="6707" y="14942"/>
                </a:lnTo>
                <a:lnTo>
                  <a:pt x="6693" y="14956"/>
                </a:lnTo>
                <a:lnTo>
                  <a:pt x="6663" y="14948"/>
                </a:lnTo>
                <a:lnTo>
                  <a:pt x="6648" y="14962"/>
                </a:lnTo>
                <a:lnTo>
                  <a:pt x="6624" y="14984"/>
                </a:lnTo>
                <a:lnTo>
                  <a:pt x="6618" y="14985"/>
                </a:lnTo>
                <a:lnTo>
                  <a:pt x="6588" y="15002"/>
                </a:lnTo>
                <a:lnTo>
                  <a:pt x="6587" y="15003"/>
                </a:lnTo>
                <a:lnTo>
                  <a:pt x="6538" y="15035"/>
                </a:lnTo>
                <a:lnTo>
                  <a:pt x="6529" y="15042"/>
                </a:lnTo>
                <a:lnTo>
                  <a:pt x="6513" y="15055"/>
                </a:lnTo>
                <a:lnTo>
                  <a:pt x="6433" y="15114"/>
                </a:lnTo>
                <a:lnTo>
                  <a:pt x="6429" y="15121"/>
                </a:lnTo>
                <a:lnTo>
                  <a:pt x="6410" y="15157"/>
                </a:lnTo>
                <a:lnTo>
                  <a:pt x="6420" y="15153"/>
                </a:lnTo>
                <a:lnTo>
                  <a:pt x="6390" y="15180"/>
                </a:lnTo>
                <a:lnTo>
                  <a:pt x="6387" y="15183"/>
                </a:lnTo>
                <a:lnTo>
                  <a:pt x="6353" y="15238"/>
                </a:lnTo>
                <a:lnTo>
                  <a:pt x="6350" y="15240"/>
                </a:lnTo>
                <a:lnTo>
                  <a:pt x="6316" y="15257"/>
                </a:lnTo>
                <a:lnTo>
                  <a:pt x="6303" y="15241"/>
                </a:lnTo>
                <a:lnTo>
                  <a:pt x="6271" y="15280"/>
                </a:lnTo>
                <a:lnTo>
                  <a:pt x="6251" y="15305"/>
                </a:lnTo>
                <a:lnTo>
                  <a:pt x="6225" y="15310"/>
                </a:lnTo>
                <a:lnTo>
                  <a:pt x="6211" y="15339"/>
                </a:lnTo>
                <a:lnTo>
                  <a:pt x="6183" y="15399"/>
                </a:lnTo>
                <a:lnTo>
                  <a:pt x="6205" y="15369"/>
                </a:lnTo>
                <a:lnTo>
                  <a:pt x="6171" y="15419"/>
                </a:lnTo>
                <a:lnTo>
                  <a:pt x="6146" y="15455"/>
                </a:lnTo>
                <a:lnTo>
                  <a:pt x="6146" y="15450"/>
                </a:lnTo>
                <a:lnTo>
                  <a:pt x="6112" y="15478"/>
                </a:lnTo>
                <a:lnTo>
                  <a:pt x="6101" y="15487"/>
                </a:lnTo>
                <a:lnTo>
                  <a:pt x="6065" y="15525"/>
                </a:lnTo>
                <a:lnTo>
                  <a:pt x="6052" y="15538"/>
                </a:lnTo>
                <a:lnTo>
                  <a:pt x="6040" y="15550"/>
                </a:lnTo>
                <a:lnTo>
                  <a:pt x="6039" y="15584"/>
                </a:lnTo>
                <a:lnTo>
                  <a:pt x="6013" y="15597"/>
                </a:lnTo>
                <a:lnTo>
                  <a:pt x="5996" y="15605"/>
                </a:lnTo>
                <a:lnTo>
                  <a:pt x="5908" y="15615"/>
                </a:lnTo>
                <a:lnTo>
                  <a:pt x="5894" y="15617"/>
                </a:lnTo>
                <a:lnTo>
                  <a:pt x="5850" y="15624"/>
                </a:lnTo>
                <a:lnTo>
                  <a:pt x="5850" y="15626"/>
                </a:lnTo>
                <a:lnTo>
                  <a:pt x="5814" y="15657"/>
                </a:lnTo>
                <a:lnTo>
                  <a:pt x="5795" y="15673"/>
                </a:lnTo>
                <a:lnTo>
                  <a:pt x="5793" y="15692"/>
                </a:lnTo>
                <a:lnTo>
                  <a:pt x="5775" y="15716"/>
                </a:lnTo>
                <a:lnTo>
                  <a:pt x="5761" y="15734"/>
                </a:lnTo>
                <a:lnTo>
                  <a:pt x="5770" y="15747"/>
                </a:lnTo>
                <a:lnTo>
                  <a:pt x="5755" y="15776"/>
                </a:lnTo>
                <a:lnTo>
                  <a:pt x="5741" y="15803"/>
                </a:lnTo>
                <a:lnTo>
                  <a:pt x="5738" y="15795"/>
                </a:lnTo>
                <a:lnTo>
                  <a:pt x="5735" y="15835"/>
                </a:lnTo>
                <a:lnTo>
                  <a:pt x="5735" y="15842"/>
                </a:lnTo>
                <a:lnTo>
                  <a:pt x="5735" y="15848"/>
                </a:lnTo>
                <a:lnTo>
                  <a:pt x="5735" y="15855"/>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Ink 11"/>
          <p:cNvSpPr/>
          <p:nvPr/>
        </p:nvSpPr>
        <p:spPr>
          <a:xfrm>
            <a:off x="1943280" y="5757840"/>
            <a:ext cx="93600" cy="128520"/>
          </a:xfrm>
          <a:custGeom>
            <a:avLst/>
            <a:gdLst/>
            <a:ahLst/>
            <a:rect l="l" t="t" r="r" b="b"/>
            <a:pathLst>
              <a:path w="258" h="358">
                <a:moveTo>
                  <a:pt x="5576" y="15994"/>
                </a:moveTo>
                <a:lnTo>
                  <a:pt x="5576" y="16039"/>
                </a:lnTo>
                <a:lnTo>
                  <a:pt x="5560" y="16021"/>
                </a:lnTo>
                <a:lnTo>
                  <a:pt x="5556" y="16054"/>
                </a:lnTo>
                <a:lnTo>
                  <a:pt x="5553" y="16075"/>
                </a:lnTo>
                <a:lnTo>
                  <a:pt x="5551" y="16122"/>
                </a:lnTo>
                <a:lnTo>
                  <a:pt x="5536" y="16133"/>
                </a:lnTo>
                <a:lnTo>
                  <a:pt x="5529" y="16138"/>
                </a:lnTo>
                <a:lnTo>
                  <a:pt x="5478" y="16189"/>
                </a:lnTo>
                <a:lnTo>
                  <a:pt x="5477" y="16192"/>
                </a:lnTo>
                <a:lnTo>
                  <a:pt x="5462" y="16238"/>
                </a:lnTo>
                <a:lnTo>
                  <a:pt x="5436" y="16250"/>
                </a:lnTo>
                <a:lnTo>
                  <a:pt x="5417" y="16292"/>
                </a:lnTo>
                <a:lnTo>
                  <a:pt x="5406" y="16316"/>
                </a:lnTo>
                <a:lnTo>
                  <a:pt x="5398" y="16377"/>
                </a:lnTo>
                <a:lnTo>
                  <a:pt x="5398" y="16351"/>
                </a:lnTo>
                <a:lnTo>
                  <a:pt x="5398" y="16294"/>
                </a:lnTo>
                <a:lnTo>
                  <a:pt x="5415" y="16336"/>
                </a:lnTo>
                <a:lnTo>
                  <a:pt x="5437" y="16292"/>
                </a:lnTo>
                <a:lnTo>
                  <a:pt x="5456" y="16254"/>
                </a:lnTo>
                <a:lnTo>
                  <a:pt x="5465" y="16261"/>
                </a:lnTo>
                <a:lnTo>
                  <a:pt x="5497" y="16232"/>
                </a:lnTo>
                <a:lnTo>
                  <a:pt x="5520" y="16211"/>
                </a:lnTo>
                <a:lnTo>
                  <a:pt x="5547" y="16166"/>
                </a:lnTo>
                <a:lnTo>
                  <a:pt x="5576" y="16153"/>
                </a:lnTo>
                <a:lnTo>
                  <a:pt x="5598" y="16143"/>
                </a:lnTo>
                <a:lnTo>
                  <a:pt x="5644" y="16151"/>
                </a:lnTo>
                <a:lnTo>
                  <a:pt x="5655" y="16173"/>
                </a:lnTo>
                <a:lnTo>
                  <a:pt x="5672" y="16207"/>
                </a:lnTo>
                <a:lnTo>
                  <a:pt x="5669" y="16275"/>
                </a:lnTo>
                <a:lnTo>
                  <a:pt x="5636" y="16252"/>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Ink 12"/>
          <p:cNvSpPr/>
          <p:nvPr/>
        </p:nvSpPr>
        <p:spPr>
          <a:xfrm>
            <a:off x="2443320" y="5229360"/>
            <a:ext cx="179280" cy="50760"/>
          </a:xfrm>
          <a:custGeom>
            <a:avLst/>
            <a:gdLst/>
            <a:ahLst/>
            <a:rect l="l" t="t" r="r" b="b"/>
            <a:pathLst>
              <a:path w="497" h="140">
                <a:moveTo>
                  <a:pt x="6787" y="14665"/>
                </a:moveTo>
                <a:lnTo>
                  <a:pt x="6806" y="14665"/>
                </a:lnTo>
                <a:lnTo>
                  <a:pt x="6813" y="14665"/>
                </a:lnTo>
                <a:lnTo>
                  <a:pt x="6826" y="14665"/>
                </a:lnTo>
                <a:lnTo>
                  <a:pt x="6837" y="14633"/>
                </a:lnTo>
                <a:lnTo>
                  <a:pt x="6835" y="14657"/>
                </a:lnTo>
                <a:lnTo>
                  <a:pt x="6846" y="14625"/>
                </a:lnTo>
                <a:lnTo>
                  <a:pt x="6885" y="14615"/>
                </a:lnTo>
                <a:lnTo>
                  <a:pt x="6908" y="14577"/>
                </a:lnTo>
                <a:lnTo>
                  <a:pt x="6945" y="14565"/>
                </a:lnTo>
                <a:lnTo>
                  <a:pt x="6977" y="14554"/>
                </a:lnTo>
                <a:lnTo>
                  <a:pt x="7011" y="14547"/>
                </a:lnTo>
                <a:lnTo>
                  <a:pt x="7045" y="14545"/>
                </a:lnTo>
                <a:lnTo>
                  <a:pt x="7096" y="14542"/>
                </a:lnTo>
                <a:lnTo>
                  <a:pt x="7123" y="14539"/>
                </a:lnTo>
                <a:lnTo>
                  <a:pt x="7164" y="14526"/>
                </a:lnTo>
                <a:lnTo>
                  <a:pt x="7196" y="14516"/>
                </a:lnTo>
                <a:lnTo>
                  <a:pt x="7249" y="14526"/>
                </a:lnTo>
                <a:lnTo>
                  <a:pt x="7283" y="14526"/>
                </a:lnTo>
                <a:close/>
              </a:path>
            </a:pathLst>
          </a:custGeom>
          <a:noFill/>
          <a:ln cap="sq" w="127080">
            <a:solidFill>
              <a:srgbClr val="ffff00">
                <a:alpha val="33000"/>
              </a:srgbClr>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7" name="Ink 13"/>
          <p:cNvSpPr/>
          <p:nvPr/>
        </p:nvSpPr>
        <p:spPr>
          <a:xfrm>
            <a:off x="1986120" y="5494320"/>
            <a:ext cx="257040" cy="135000"/>
          </a:xfrm>
          <a:custGeom>
            <a:avLst/>
            <a:gdLst/>
            <a:ahLst/>
            <a:rect l="l" t="t" r="r" b="b"/>
            <a:pathLst>
              <a:path w="715" h="378">
                <a:moveTo>
                  <a:pt x="5517" y="15637"/>
                </a:moveTo>
                <a:lnTo>
                  <a:pt x="5573" y="15637"/>
                </a:lnTo>
                <a:lnTo>
                  <a:pt x="5609" y="15633"/>
                </a:lnTo>
                <a:lnTo>
                  <a:pt x="5655" y="15617"/>
                </a:lnTo>
                <a:lnTo>
                  <a:pt x="5684" y="15607"/>
                </a:lnTo>
                <a:lnTo>
                  <a:pt x="5708" y="15586"/>
                </a:lnTo>
                <a:lnTo>
                  <a:pt x="5735" y="15577"/>
                </a:lnTo>
                <a:lnTo>
                  <a:pt x="5776" y="15563"/>
                </a:lnTo>
                <a:lnTo>
                  <a:pt x="5816" y="15551"/>
                </a:lnTo>
                <a:lnTo>
                  <a:pt x="5854" y="15538"/>
                </a:lnTo>
                <a:lnTo>
                  <a:pt x="5901" y="15522"/>
                </a:lnTo>
                <a:lnTo>
                  <a:pt x="5945" y="15509"/>
                </a:lnTo>
                <a:lnTo>
                  <a:pt x="5993" y="15498"/>
                </a:lnTo>
                <a:lnTo>
                  <a:pt x="6027" y="15490"/>
                </a:lnTo>
                <a:lnTo>
                  <a:pt x="6062" y="15481"/>
                </a:lnTo>
                <a:lnTo>
                  <a:pt x="6092" y="15478"/>
                </a:lnTo>
                <a:lnTo>
                  <a:pt x="6099" y="15478"/>
                </a:lnTo>
                <a:lnTo>
                  <a:pt x="6105" y="15478"/>
                </a:lnTo>
                <a:lnTo>
                  <a:pt x="6112" y="15478"/>
                </a:lnTo>
                <a:lnTo>
                  <a:pt x="6120" y="15445"/>
                </a:lnTo>
                <a:lnTo>
                  <a:pt x="6119" y="15446"/>
                </a:lnTo>
                <a:lnTo>
                  <a:pt x="6152" y="15438"/>
                </a:lnTo>
                <a:lnTo>
                  <a:pt x="6160" y="15406"/>
                </a:lnTo>
                <a:lnTo>
                  <a:pt x="6159" y="15407"/>
                </a:lnTo>
                <a:lnTo>
                  <a:pt x="6191" y="15399"/>
                </a:lnTo>
                <a:lnTo>
                  <a:pt x="6199" y="15366"/>
                </a:lnTo>
                <a:lnTo>
                  <a:pt x="6198" y="15367"/>
                </a:lnTo>
                <a:lnTo>
                  <a:pt x="6231" y="15359"/>
                </a:lnTo>
                <a:lnTo>
                  <a:pt x="6231" y="15326"/>
                </a:lnTo>
                <a:lnTo>
                  <a:pt x="6231" y="15293"/>
                </a:lnTo>
                <a:lnTo>
                  <a:pt x="6231" y="15260"/>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Ink 14"/>
          <p:cNvSpPr/>
          <p:nvPr/>
        </p:nvSpPr>
        <p:spPr>
          <a:xfrm>
            <a:off x="2035080" y="5300640"/>
            <a:ext cx="322200" cy="243000"/>
          </a:xfrm>
          <a:custGeom>
            <a:avLst/>
            <a:gdLst/>
            <a:ahLst/>
            <a:rect l="l" t="t" r="r" b="b"/>
            <a:pathLst>
              <a:path w="894" h="676">
                <a:moveTo>
                  <a:pt x="5655" y="15399"/>
                </a:moveTo>
                <a:lnTo>
                  <a:pt x="5673" y="15381"/>
                </a:lnTo>
                <a:lnTo>
                  <a:pt x="5677" y="15374"/>
                </a:lnTo>
                <a:lnTo>
                  <a:pt x="5695" y="15379"/>
                </a:lnTo>
                <a:lnTo>
                  <a:pt x="5709" y="15330"/>
                </a:lnTo>
                <a:lnTo>
                  <a:pt x="5696" y="15357"/>
                </a:lnTo>
                <a:lnTo>
                  <a:pt x="5735" y="15319"/>
                </a:lnTo>
                <a:lnTo>
                  <a:pt x="5753" y="15302"/>
                </a:lnTo>
                <a:lnTo>
                  <a:pt x="5757" y="15295"/>
                </a:lnTo>
                <a:lnTo>
                  <a:pt x="5775" y="15300"/>
                </a:lnTo>
                <a:lnTo>
                  <a:pt x="5791" y="15283"/>
                </a:lnTo>
                <a:lnTo>
                  <a:pt x="5805" y="15276"/>
                </a:lnTo>
                <a:lnTo>
                  <a:pt x="5834" y="15260"/>
                </a:lnTo>
                <a:lnTo>
                  <a:pt x="5843" y="15255"/>
                </a:lnTo>
                <a:lnTo>
                  <a:pt x="5891" y="15234"/>
                </a:lnTo>
                <a:lnTo>
                  <a:pt x="5913" y="15220"/>
                </a:lnTo>
                <a:lnTo>
                  <a:pt x="5941" y="15203"/>
                </a:lnTo>
                <a:lnTo>
                  <a:pt x="5965" y="15194"/>
                </a:lnTo>
                <a:lnTo>
                  <a:pt x="5993" y="15180"/>
                </a:lnTo>
                <a:lnTo>
                  <a:pt x="6016" y="15169"/>
                </a:lnTo>
                <a:lnTo>
                  <a:pt x="6050" y="15172"/>
                </a:lnTo>
                <a:lnTo>
                  <a:pt x="6072" y="15161"/>
                </a:lnTo>
                <a:lnTo>
                  <a:pt x="6090" y="15143"/>
                </a:lnTo>
                <a:lnTo>
                  <a:pt x="6094" y="15136"/>
                </a:lnTo>
                <a:lnTo>
                  <a:pt x="6112" y="15141"/>
                </a:lnTo>
                <a:lnTo>
                  <a:pt x="6119" y="15100"/>
                </a:lnTo>
                <a:lnTo>
                  <a:pt x="6116" y="15122"/>
                </a:lnTo>
                <a:lnTo>
                  <a:pt x="6132" y="15101"/>
                </a:lnTo>
                <a:lnTo>
                  <a:pt x="6149" y="15084"/>
                </a:lnTo>
                <a:lnTo>
                  <a:pt x="6156" y="15073"/>
                </a:lnTo>
                <a:lnTo>
                  <a:pt x="6191" y="15061"/>
                </a:lnTo>
                <a:lnTo>
                  <a:pt x="6198" y="15061"/>
                </a:lnTo>
                <a:lnTo>
                  <a:pt x="6204" y="15061"/>
                </a:lnTo>
                <a:lnTo>
                  <a:pt x="6211" y="15061"/>
                </a:lnTo>
                <a:lnTo>
                  <a:pt x="6238" y="15029"/>
                </a:lnTo>
                <a:lnTo>
                  <a:pt x="6234" y="15041"/>
                </a:lnTo>
                <a:lnTo>
                  <a:pt x="6271" y="15022"/>
                </a:lnTo>
                <a:lnTo>
                  <a:pt x="6288" y="15004"/>
                </a:lnTo>
                <a:lnTo>
                  <a:pt x="6292" y="14997"/>
                </a:lnTo>
                <a:lnTo>
                  <a:pt x="6310" y="15002"/>
                </a:lnTo>
                <a:lnTo>
                  <a:pt x="6325" y="14990"/>
                </a:lnTo>
                <a:lnTo>
                  <a:pt x="6343" y="14974"/>
                </a:lnTo>
                <a:lnTo>
                  <a:pt x="6370" y="14962"/>
                </a:lnTo>
                <a:lnTo>
                  <a:pt x="6391" y="14946"/>
                </a:lnTo>
                <a:lnTo>
                  <a:pt x="6369" y="14949"/>
                </a:lnTo>
                <a:lnTo>
                  <a:pt x="6410" y="14942"/>
                </a:lnTo>
                <a:lnTo>
                  <a:pt x="6422" y="14925"/>
                </a:lnTo>
                <a:lnTo>
                  <a:pt x="6417" y="14919"/>
                </a:lnTo>
                <a:lnTo>
                  <a:pt x="6429" y="14903"/>
                </a:lnTo>
                <a:lnTo>
                  <a:pt x="6470" y="14896"/>
                </a:lnTo>
                <a:lnTo>
                  <a:pt x="6448" y="14899"/>
                </a:lnTo>
                <a:lnTo>
                  <a:pt x="6469" y="14883"/>
                </a:lnTo>
                <a:lnTo>
                  <a:pt x="6499" y="14858"/>
                </a:lnTo>
                <a:lnTo>
                  <a:pt x="6506" y="14873"/>
                </a:lnTo>
                <a:lnTo>
                  <a:pt x="6509" y="14823"/>
                </a:lnTo>
                <a:lnTo>
                  <a:pt x="6511" y="14797"/>
                </a:lnTo>
                <a:lnTo>
                  <a:pt x="6509" y="14770"/>
                </a:lnTo>
                <a:lnTo>
                  <a:pt x="6509" y="14744"/>
                </a:lnTo>
                <a:lnTo>
                  <a:pt x="6532" y="14744"/>
                </a:lnTo>
                <a:lnTo>
                  <a:pt x="6540" y="14742"/>
                </a:lnTo>
                <a:lnTo>
                  <a:pt x="6548" y="14724"/>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Box 6"/>
          <p:cNvSpPr/>
          <p:nvPr/>
        </p:nvSpPr>
        <p:spPr>
          <a:xfrm>
            <a:off x="304920" y="228600"/>
            <a:ext cx="8686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Constantia"/>
              </a:rPr>
              <a:t>Climax-Freytag’s Pyramid</a:t>
            </a:r>
            <a:endParaRPr b="0" lang="en-US" sz="4800" spc="-1" strike="noStrike">
              <a:solidFill>
                <a:srgbClr val="000000"/>
              </a:solidFill>
              <a:latin typeface="Arial"/>
            </a:endParaRPr>
          </a:p>
        </p:txBody>
      </p:sp>
      <p:sp>
        <p:nvSpPr>
          <p:cNvPr id="220" name="TextBox 7"/>
          <p:cNvSpPr/>
          <p:nvPr/>
        </p:nvSpPr>
        <p:spPr>
          <a:xfrm>
            <a:off x="685800" y="1143000"/>
            <a:ext cx="8305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reytag’s Pyramid is divided into seven parts. The fourth part of Freytag’s Pyramid is called the Clima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e Climax is the main event of the story. Usually, it is when the conflict/crucial event takes place.  The protagonist now moves towards the unavoidable end. It can be either an action OR a decision. It is the deciding event of the story where the plot usually ends. It is like “the hinge of a do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Climax in “The Fall of the House of Usher” could be when Madeline returns from the dead and fights Roderic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Arial"/>
            </a:endParaRPr>
          </a:p>
        </p:txBody>
      </p:sp>
      <p:pic>
        <p:nvPicPr>
          <p:cNvPr id="221" name="Picture 5" descr="freytag.bmp"/>
          <p:cNvPicPr/>
          <p:nvPr/>
        </p:nvPicPr>
        <p:blipFill>
          <a:blip r:embed="rId1"/>
          <a:stretch/>
        </p:blipFill>
        <p:spPr>
          <a:xfrm>
            <a:off x="990720" y="4495680"/>
            <a:ext cx="3352680" cy="1676520"/>
          </a:xfrm>
          <a:prstGeom prst="rect">
            <a:avLst/>
          </a:prstGeom>
          <a:ln w="0">
            <a:noFill/>
          </a:ln>
        </p:spPr>
      </p:pic>
      <p:sp>
        <p:nvSpPr>
          <p:cNvPr id="222" name="Ink 10"/>
          <p:cNvSpPr/>
          <p:nvPr/>
        </p:nvSpPr>
        <p:spPr>
          <a:xfrm>
            <a:off x="2438280" y="4648320"/>
            <a:ext cx="457200" cy="1440"/>
          </a:xfrm>
          <a:custGeom>
            <a:avLst/>
            <a:gdLst/>
            <a:ahLst/>
            <a:rect l="l" t="t" r="r" b="b"/>
            <a:pathLst>
              <a:path w="1271" h="1">
                <a:moveTo>
                  <a:pt x="6767" y="14030"/>
                </a:moveTo>
                <a:lnTo>
                  <a:pt x="7190" y="14030"/>
                </a:lnTo>
                <a:lnTo>
                  <a:pt x="7614" y="14030"/>
                </a:lnTo>
                <a:lnTo>
                  <a:pt x="8037" y="14030"/>
                </a:lnTo>
                <a:close/>
              </a:path>
            </a:pathLst>
          </a:custGeom>
          <a:noFill/>
          <a:ln cap="sq" w="127080">
            <a:solidFill>
              <a:srgbClr val="ff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 name="Ink 11"/>
          <p:cNvSpPr/>
          <p:nvPr/>
        </p:nvSpPr>
        <p:spPr>
          <a:xfrm>
            <a:off x="2666880" y="4724280"/>
            <a:ext cx="1800" cy="171720"/>
          </a:xfrm>
          <a:custGeom>
            <a:avLst/>
            <a:gdLst/>
            <a:ahLst/>
            <a:rect l="l" t="t" r="r" b="b"/>
            <a:pathLst>
              <a:path w="1" h="478">
                <a:moveTo>
                  <a:pt x="7422" y="14168"/>
                </a:moveTo>
                <a:lnTo>
                  <a:pt x="7422" y="14327"/>
                </a:lnTo>
                <a:lnTo>
                  <a:pt x="7422" y="14486"/>
                </a:lnTo>
                <a:lnTo>
                  <a:pt x="7422" y="14645"/>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Ink 12"/>
          <p:cNvSpPr/>
          <p:nvPr/>
        </p:nvSpPr>
        <p:spPr>
          <a:xfrm>
            <a:off x="2949480" y="4521240"/>
            <a:ext cx="1216080" cy="450720"/>
          </a:xfrm>
          <a:custGeom>
            <a:avLst/>
            <a:gdLst/>
            <a:ahLst/>
            <a:rect l="l" t="t" r="r" b="b"/>
            <a:pathLst>
              <a:path w="3375" h="1251">
                <a:moveTo>
                  <a:pt x="8195" y="12720"/>
                </a:moveTo>
                <a:cubicBezTo>
                  <a:pt x="8195" y="12846"/>
                  <a:pt x="8195" y="12971"/>
                  <a:pt x="8195" y="13097"/>
                </a:cubicBezTo>
                <a:cubicBezTo>
                  <a:pt x="8195" y="13151"/>
                  <a:pt x="8195" y="13066"/>
                  <a:pt x="8195" y="13057"/>
                </a:cubicBezTo>
                <a:cubicBezTo>
                  <a:pt x="8195" y="12971"/>
                  <a:pt x="8155" y="12646"/>
                  <a:pt x="8215" y="12601"/>
                </a:cubicBezTo>
                <a:cubicBezTo>
                  <a:pt x="8253" y="12572"/>
                  <a:pt x="8221" y="12561"/>
                  <a:pt x="8275" y="12561"/>
                </a:cubicBezTo>
                <a:cubicBezTo>
                  <a:pt x="8312" y="12561"/>
                  <a:pt x="8326" y="12556"/>
                  <a:pt x="8354" y="12581"/>
                </a:cubicBezTo>
                <a:cubicBezTo>
                  <a:pt x="8368" y="12594"/>
                  <a:pt x="8430" y="12634"/>
                  <a:pt x="8434" y="12640"/>
                </a:cubicBezTo>
                <a:cubicBezTo>
                  <a:pt x="8447" y="12659"/>
                  <a:pt x="8451" y="12698"/>
                  <a:pt x="8453" y="12720"/>
                </a:cubicBezTo>
                <a:cubicBezTo>
                  <a:pt x="8460" y="12806"/>
                  <a:pt x="8461" y="12942"/>
                  <a:pt x="8434" y="12998"/>
                </a:cubicBezTo>
                <a:cubicBezTo>
                  <a:pt x="8419" y="13029"/>
                  <a:pt x="8402" y="13049"/>
                  <a:pt x="8374" y="13077"/>
                </a:cubicBezTo>
                <a:cubicBezTo>
                  <a:pt x="8342" y="13109"/>
                  <a:pt x="8364" y="13117"/>
                  <a:pt x="8315" y="13117"/>
                </a:cubicBezTo>
                <a:cubicBezTo>
                  <a:pt x="8275" y="13117"/>
                  <a:pt x="8235" y="13117"/>
                  <a:pt x="8195" y="13117"/>
                </a:cubicBezTo>
              </a:path>
              <a:path w="3375" h="1251">
                <a:moveTo>
                  <a:pt x="8632" y="12958"/>
                </a:moveTo>
                <a:cubicBezTo>
                  <a:pt x="8697" y="12958"/>
                  <a:pt x="8755" y="12956"/>
                  <a:pt x="8791" y="12938"/>
                </a:cubicBezTo>
                <a:cubicBezTo>
                  <a:pt x="8813" y="12927"/>
                  <a:pt x="8848" y="12933"/>
                  <a:pt x="8870" y="12918"/>
                </a:cubicBezTo>
                <a:cubicBezTo>
                  <a:pt x="8895" y="12901"/>
                  <a:pt x="8942" y="12895"/>
                  <a:pt x="8950" y="12879"/>
                </a:cubicBezTo>
                <a:cubicBezTo>
                  <a:pt x="8963" y="12854"/>
                  <a:pt x="8969" y="12830"/>
                  <a:pt x="8969" y="12799"/>
                </a:cubicBezTo>
                <a:cubicBezTo>
                  <a:pt x="8969" y="12773"/>
                  <a:pt x="8969" y="12746"/>
                  <a:pt x="8969" y="12720"/>
                </a:cubicBezTo>
                <a:cubicBezTo>
                  <a:pt x="8903" y="12720"/>
                  <a:pt x="8837" y="12720"/>
                  <a:pt x="8771" y="12720"/>
                </a:cubicBezTo>
                <a:cubicBezTo>
                  <a:pt x="8771" y="12765"/>
                  <a:pt x="8755" y="12747"/>
                  <a:pt x="8751" y="12779"/>
                </a:cubicBezTo>
                <a:cubicBezTo>
                  <a:pt x="8748" y="12805"/>
                  <a:pt x="8752" y="12822"/>
                  <a:pt x="8731" y="12839"/>
                </a:cubicBezTo>
                <a:cubicBezTo>
                  <a:pt x="8712" y="12854"/>
                  <a:pt x="8696" y="12848"/>
                  <a:pt x="8692" y="12879"/>
                </a:cubicBezTo>
                <a:cubicBezTo>
                  <a:pt x="8688" y="12911"/>
                  <a:pt x="8672" y="12893"/>
                  <a:pt x="8672" y="12938"/>
                </a:cubicBezTo>
                <a:cubicBezTo>
                  <a:pt x="8672" y="12988"/>
                  <a:pt x="8647" y="13153"/>
                  <a:pt x="8692" y="13176"/>
                </a:cubicBezTo>
                <a:cubicBezTo>
                  <a:pt x="8763" y="13212"/>
                  <a:pt x="8969" y="13176"/>
                  <a:pt x="9049" y="13176"/>
                </a:cubicBezTo>
              </a:path>
              <a:path w="3375" h="1251">
                <a:moveTo>
                  <a:pt x="9565" y="12799"/>
                </a:moveTo>
                <a:cubicBezTo>
                  <a:pt x="9478" y="12799"/>
                  <a:pt x="9363" y="12791"/>
                  <a:pt x="9307" y="12819"/>
                </a:cubicBezTo>
                <a:cubicBezTo>
                  <a:pt x="9285" y="12830"/>
                  <a:pt x="9271" y="12844"/>
                  <a:pt x="9267" y="12879"/>
                </a:cubicBezTo>
                <a:cubicBezTo>
                  <a:pt x="9263" y="12911"/>
                  <a:pt x="9247" y="12893"/>
                  <a:pt x="9247" y="12938"/>
                </a:cubicBezTo>
                <a:cubicBezTo>
                  <a:pt x="9247" y="13015"/>
                  <a:pt x="9243" y="13108"/>
                  <a:pt x="9267" y="13156"/>
                </a:cubicBezTo>
                <a:cubicBezTo>
                  <a:pt x="9268" y="13158"/>
                  <a:pt x="9307" y="13216"/>
                  <a:pt x="9307" y="13216"/>
                </a:cubicBezTo>
                <a:cubicBezTo>
                  <a:pt x="9344" y="13230"/>
                  <a:pt x="9390" y="13245"/>
                  <a:pt x="9426" y="13256"/>
                </a:cubicBezTo>
                <a:cubicBezTo>
                  <a:pt x="9468" y="13268"/>
                  <a:pt x="9456" y="13240"/>
                  <a:pt x="9485" y="13236"/>
                </a:cubicBezTo>
                <a:cubicBezTo>
                  <a:pt x="9496" y="13235"/>
                  <a:pt x="9535" y="13215"/>
                  <a:pt x="9545" y="13196"/>
                </a:cubicBezTo>
                <a:cubicBezTo>
                  <a:pt x="9562" y="13162"/>
                  <a:pt x="9525" y="13169"/>
                  <a:pt x="9565" y="13156"/>
                </a:cubicBezTo>
              </a:path>
              <a:path w="3375" h="1251">
                <a:moveTo>
                  <a:pt x="9803" y="12978"/>
                </a:moveTo>
                <a:cubicBezTo>
                  <a:pt x="9803" y="13077"/>
                  <a:pt x="9803" y="13176"/>
                  <a:pt x="9803" y="13275"/>
                </a:cubicBezTo>
                <a:cubicBezTo>
                  <a:pt x="9803" y="13249"/>
                  <a:pt x="9803" y="13236"/>
                  <a:pt x="9803" y="13216"/>
                </a:cubicBezTo>
              </a:path>
              <a:path w="3375" h="1251">
                <a:moveTo>
                  <a:pt x="9803" y="12700"/>
                </a:moveTo>
                <a:cubicBezTo>
                  <a:pt x="9803" y="12720"/>
                  <a:pt x="9803" y="12740"/>
                  <a:pt x="9803" y="12760"/>
                </a:cubicBezTo>
              </a:path>
              <a:path w="3375" h="1251">
                <a:moveTo>
                  <a:pt x="10180" y="13117"/>
                </a:moveTo>
                <a:cubicBezTo>
                  <a:pt x="10180" y="13159"/>
                  <a:pt x="10184" y="13158"/>
                  <a:pt x="10160" y="13176"/>
                </a:cubicBezTo>
                <a:cubicBezTo>
                  <a:pt x="10131" y="13198"/>
                  <a:pt x="10140" y="13224"/>
                  <a:pt x="10140" y="13256"/>
                </a:cubicBezTo>
                <a:cubicBezTo>
                  <a:pt x="10140" y="13289"/>
                  <a:pt x="10140" y="13322"/>
                  <a:pt x="10140" y="13355"/>
                </a:cubicBezTo>
                <a:cubicBezTo>
                  <a:pt x="10181" y="13355"/>
                  <a:pt x="10183" y="13343"/>
                  <a:pt x="10200" y="13335"/>
                </a:cubicBezTo>
                <a:cubicBezTo>
                  <a:pt x="10221" y="13324"/>
                  <a:pt x="10236" y="13323"/>
                  <a:pt x="10239" y="13295"/>
                </a:cubicBezTo>
                <a:cubicBezTo>
                  <a:pt x="10256" y="13154"/>
                  <a:pt x="10270" y="12865"/>
                  <a:pt x="10220" y="12760"/>
                </a:cubicBezTo>
                <a:cubicBezTo>
                  <a:pt x="10214" y="12748"/>
                  <a:pt x="10220" y="12714"/>
                  <a:pt x="10220" y="12700"/>
                </a:cubicBezTo>
                <a:cubicBezTo>
                  <a:pt x="10188" y="12721"/>
                  <a:pt x="10200" y="12768"/>
                  <a:pt x="10200" y="12819"/>
                </a:cubicBezTo>
                <a:cubicBezTo>
                  <a:pt x="10200" y="12899"/>
                  <a:pt x="10165" y="13377"/>
                  <a:pt x="10220" y="13395"/>
                </a:cubicBezTo>
              </a:path>
              <a:path w="3375" h="1251">
                <a:moveTo>
                  <a:pt x="10478" y="13176"/>
                </a:moveTo>
                <a:cubicBezTo>
                  <a:pt x="10478" y="13275"/>
                  <a:pt x="10478" y="13533"/>
                  <a:pt x="10478" y="13434"/>
                </a:cubicBezTo>
              </a:path>
              <a:path w="3375" h="1251">
                <a:moveTo>
                  <a:pt x="10458" y="12799"/>
                </a:moveTo>
                <a:cubicBezTo>
                  <a:pt x="10458" y="12819"/>
                  <a:pt x="10458" y="12826"/>
                  <a:pt x="10458" y="12839"/>
                </a:cubicBezTo>
              </a:path>
              <a:path w="3375" h="1251">
                <a:moveTo>
                  <a:pt x="10160" y="13176"/>
                </a:moveTo>
                <a:cubicBezTo>
                  <a:pt x="10123" y="13176"/>
                  <a:pt x="10020" y="13158"/>
                  <a:pt x="10001" y="13196"/>
                </a:cubicBezTo>
                <a:cubicBezTo>
                  <a:pt x="9991" y="13215"/>
                  <a:pt x="9985" y="13249"/>
                  <a:pt x="9981" y="13256"/>
                </a:cubicBezTo>
                <a:cubicBezTo>
                  <a:pt x="9973" y="13272"/>
                  <a:pt x="9981" y="13317"/>
                  <a:pt x="9981" y="13335"/>
                </a:cubicBezTo>
                <a:cubicBezTo>
                  <a:pt x="10041" y="13335"/>
                  <a:pt x="10100" y="13335"/>
                  <a:pt x="10160" y="13335"/>
                </a:cubicBezTo>
              </a:path>
              <a:path w="3375" h="1251">
                <a:moveTo>
                  <a:pt x="10775" y="13156"/>
                </a:moveTo>
                <a:cubicBezTo>
                  <a:pt x="10775" y="13195"/>
                  <a:pt x="10792" y="13244"/>
                  <a:pt x="10795" y="13256"/>
                </a:cubicBezTo>
                <a:cubicBezTo>
                  <a:pt x="10824" y="13371"/>
                  <a:pt x="10795" y="13692"/>
                  <a:pt x="10795" y="13573"/>
                </a:cubicBezTo>
                <a:cubicBezTo>
                  <a:pt x="10795" y="13529"/>
                  <a:pt x="10768" y="13339"/>
                  <a:pt x="10815" y="13315"/>
                </a:cubicBezTo>
                <a:cubicBezTo>
                  <a:pt x="10851" y="13297"/>
                  <a:pt x="10849" y="13289"/>
                  <a:pt x="10874" y="13256"/>
                </a:cubicBezTo>
                <a:cubicBezTo>
                  <a:pt x="10877" y="13257"/>
                  <a:pt x="10934" y="13295"/>
                  <a:pt x="10934" y="13295"/>
                </a:cubicBezTo>
                <a:cubicBezTo>
                  <a:pt x="10952" y="13345"/>
                  <a:pt x="10991" y="13346"/>
                  <a:pt x="11013" y="13395"/>
                </a:cubicBezTo>
                <a:cubicBezTo>
                  <a:pt x="11025" y="13422"/>
                  <a:pt x="11033" y="13441"/>
                  <a:pt x="11033" y="13474"/>
                </a:cubicBezTo>
                <a:cubicBezTo>
                  <a:pt x="11033" y="13516"/>
                  <a:pt x="11014" y="13628"/>
                  <a:pt x="11053" y="13633"/>
                </a:cubicBezTo>
                <a:cubicBezTo>
                  <a:pt x="11060" y="13633"/>
                  <a:pt x="11066" y="13633"/>
                  <a:pt x="11073" y="13633"/>
                </a:cubicBezTo>
              </a:path>
              <a:path w="3375" h="1251">
                <a:moveTo>
                  <a:pt x="11569" y="13315"/>
                </a:moveTo>
                <a:cubicBezTo>
                  <a:pt x="11518" y="13315"/>
                  <a:pt x="11492" y="13321"/>
                  <a:pt x="11450" y="13335"/>
                </a:cubicBezTo>
                <a:cubicBezTo>
                  <a:pt x="11404" y="13350"/>
                  <a:pt x="11431" y="13355"/>
                  <a:pt x="11390" y="13375"/>
                </a:cubicBezTo>
                <a:cubicBezTo>
                  <a:pt x="11367" y="13386"/>
                  <a:pt x="11369" y="13422"/>
                  <a:pt x="11351" y="13434"/>
                </a:cubicBezTo>
                <a:cubicBezTo>
                  <a:pt x="11323" y="13453"/>
                  <a:pt x="11331" y="13465"/>
                  <a:pt x="11331" y="13514"/>
                </a:cubicBezTo>
                <a:cubicBezTo>
                  <a:pt x="11331" y="13534"/>
                  <a:pt x="11331" y="13553"/>
                  <a:pt x="11331" y="13573"/>
                </a:cubicBezTo>
                <a:cubicBezTo>
                  <a:pt x="11389" y="13573"/>
                  <a:pt x="11439" y="13569"/>
                  <a:pt x="11470" y="13553"/>
                </a:cubicBezTo>
                <a:cubicBezTo>
                  <a:pt x="11505" y="13536"/>
                  <a:pt x="11509" y="13539"/>
                  <a:pt x="11509" y="13494"/>
                </a:cubicBezTo>
                <a:cubicBezTo>
                  <a:pt x="11509" y="13421"/>
                  <a:pt x="11509" y="13348"/>
                  <a:pt x="11509" y="13275"/>
                </a:cubicBezTo>
                <a:cubicBezTo>
                  <a:pt x="11539" y="13285"/>
                  <a:pt x="11529" y="13299"/>
                  <a:pt x="11529" y="13335"/>
                </a:cubicBezTo>
                <a:cubicBezTo>
                  <a:pt x="11529" y="13373"/>
                  <a:pt x="11549" y="13407"/>
                  <a:pt x="11549" y="13454"/>
                </a:cubicBezTo>
                <a:cubicBezTo>
                  <a:pt x="11549" y="13509"/>
                  <a:pt x="11580" y="13706"/>
                  <a:pt x="11529" y="13732"/>
                </a:cubicBezTo>
                <a:cubicBezTo>
                  <a:pt x="11520" y="13736"/>
                  <a:pt x="11453" y="13748"/>
                  <a:pt x="11450" y="13752"/>
                </a:cubicBezTo>
                <a:cubicBezTo>
                  <a:pt x="11432" y="13775"/>
                  <a:pt x="11432" y="13772"/>
                  <a:pt x="11390" y="13772"/>
                </a:cubicBezTo>
                <a:cubicBezTo>
                  <a:pt x="11343" y="13772"/>
                  <a:pt x="11349" y="13794"/>
                  <a:pt x="11311" y="13811"/>
                </a:cubicBezTo>
                <a:cubicBezTo>
                  <a:pt x="11298" y="13817"/>
                  <a:pt x="11265" y="13811"/>
                  <a:pt x="11251" y="1381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Ink 13"/>
          <p:cNvSpPr/>
          <p:nvPr/>
        </p:nvSpPr>
        <p:spPr>
          <a:xfrm>
            <a:off x="3314880" y="4921200"/>
            <a:ext cx="885600" cy="308160"/>
          </a:xfrm>
          <a:custGeom>
            <a:avLst/>
            <a:gdLst/>
            <a:ahLst/>
            <a:rect l="l" t="t" r="r" b="b"/>
            <a:pathLst>
              <a:path w="2461" h="855">
                <a:moveTo>
                  <a:pt x="9208" y="13672"/>
                </a:moveTo>
                <a:cubicBezTo>
                  <a:pt x="9208" y="13806"/>
                  <a:pt x="9189" y="13968"/>
                  <a:pt x="9227" y="14089"/>
                </a:cubicBezTo>
                <a:cubicBezTo>
                  <a:pt x="9232" y="14105"/>
                  <a:pt x="9227" y="14132"/>
                  <a:pt x="9227" y="14149"/>
                </a:cubicBezTo>
                <a:cubicBezTo>
                  <a:pt x="9247" y="14149"/>
                  <a:pt x="9253" y="14149"/>
                  <a:pt x="9247" y="14168"/>
                </a:cubicBezTo>
              </a:path>
              <a:path w="2461" h="855">
                <a:moveTo>
                  <a:pt x="9227" y="13712"/>
                </a:moveTo>
                <a:cubicBezTo>
                  <a:pt x="9283" y="13733"/>
                  <a:pt x="9325" y="13732"/>
                  <a:pt x="9386" y="13732"/>
                </a:cubicBezTo>
                <a:cubicBezTo>
                  <a:pt x="9419" y="13732"/>
                  <a:pt x="9452" y="13732"/>
                  <a:pt x="9485" y="13732"/>
                </a:cubicBezTo>
              </a:path>
              <a:path w="2461" h="855">
                <a:moveTo>
                  <a:pt x="9208" y="13970"/>
                </a:moveTo>
                <a:cubicBezTo>
                  <a:pt x="9286" y="13970"/>
                  <a:pt x="9359" y="13970"/>
                  <a:pt x="9426" y="13990"/>
                </a:cubicBezTo>
                <a:cubicBezTo>
                  <a:pt x="9448" y="13996"/>
                  <a:pt x="9482" y="13990"/>
                  <a:pt x="9505" y="13990"/>
                </a:cubicBezTo>
              </a:path>
              <a:path w="2461" h="855">
                <a:moveTo>
                  <a:pt x="9208" y="14129"/>
                </a:moveTo>
                <a:cubicBezTo>
                  <a:pt x="9228" y="14160"/>
                  <a:pt x="9278" y="14149"/>
                  <a:pt x="9327" y="14149"/>
                </a:cubicBezTo>
                <a:cubicBezTo>
                  <a:pt x="9387" y="14149"/>
                  <a:pt x="9441" y="14168"/>
                  <a:pt x="9505" y="14168"/>
                </a:cubicBezTo>
                <a:cubicBezTo>
                  <a:pt x="9538" y="14168"/>
                  <a:pt x="9571" y="14168"/>
                  <a:pt x="9604" y="14168"/>
                </a:cubicBezTo>
              </a:path>
              <a:path w="2461" h="855">
                <a:moveTo>
                  <a:pt x="9803" y="13990"/>
                </a:moveTo>
                <a:cubicBezTo>
                  <a:pt x="9803" y="14069"/>
                  <a:pt x="9803" y="14149"/>
                  <a:pt x="9803" y="14228"/>
                </a:cubicBezTo>
                <a:cubicBezTo>
                  <a:pt x="9803" y="14178"/>
                  <a:pt x="9821" y="14194"/>
                  <a:pt x="9842" y="14168"/>
                </a:cubicBezTo>
                <a:cubicBezTo>
                  <a:pt x="9867" y="14138"/>
                  <a:pt x="9926" y="14106"/>
                  <a:pt x="9942" y="14069"/>
                </a:cubicBezTo>
                <a:cubicBezTo>
                  <a:pt x="9955" y="14041"/>
                  <a:pt x="9978" y="14034"/>
                  <a:pt x="9981" y="14010"/>
                </a:cubicBezTo>
                <a:cubicBezTo>
                  <a:pt x="9981" y="14003"/>
                  <a:pt x="9981" y="13997"/>
                  <a:pt x="9981" y="13990"/>
                </a:cubicBezTo>
              </a:path>
              <a:path w="2461" h="855">
                <a:moveTo>
                  <a:pt x="10021" y="14149"/>
                </a:moveTo>
                <a:cubicBezTo>
                  <a:pt x="10061" y="14149"/>
                  <a:pt x="10100" y="14149"/>
                  <a:pt x="10140" y="14149"/>
                </a:cubicBezTo>
                <a:cubicBezTo>
                  <a:pt x="10140" y="14118"/>
                  <a:pt x="10153" y="14093"/>
                  <a:pt x="10120" y="14089"/>
                </a:cubicBezTo>
                <a:cubicBezTo>
                  <a:pt x="10095" y="14086"/>
                  <a:pt x="10084" y="14125"/>
                  <a:pt x="10081" y="14149"/>
                </a:cubicBezTo>
                <a:cubicBezTo>
                  <a:pt x="10072" y="14230"/>
                  <a:pt x="10082" y="14311"/>
                  <a:pt x="10100" y="14387"/>
                </a:cubicBezTo>
                <a:cubicBezTo>
                  <a:pt x="10104" y="14404"/>
                  <a:pt x="10100" y="14429"/>
                  <a:pt x="10100" y="14446"/>
                </a:cubicBezTo>
                <a:cubicBezTo>
                  <a:pt x="10160" y="14446"/>
                  <a:pt x="10219" y="14446"/>
                  <a:pt x="10279" y="14446"/>
                </a:cubicBezTo>
              </a:path>
              <a:path w="2461" h="855">
                <a:moveTo>
                  <a:pt x="10537" y="14208"/>
                </a:moveTo>
                <a:cubicBezTo>
                  <a:pt x="10537" y="14268"/>
                  <a:pt x="10533" y="14334"/>
                  <a:pt x="10557" y="14367"/>
                </a:cubicBezTo>
                <a:cubicBezTo>
                  <a:pt x="10586" y="14406"/>
                  <a:pt x="10568" y="14432"/>
                  <a:pt x="10597" y="14466"/>
                </a:cubicBezTo>
                <a:cubicBezTo>
                  <a:pt x="10622" y="14496"/>
                  <a:pt x="10606" y="14496"/>
                  <a:pt x="10636" y="14506"/>
                </a:cubicBezTo>
                <a:cubicBezTo>
                  <a:pt x="10636" y="14567"/>
                  <a:pt x="10636" y="14457"/>
                  <a:pt x="10636" y="14446"/>
                </a:cubicBezTo>
                <a:cubicBezTo>
                  <a:pt x="10636" y="14414"/>
                  <a:pt x="10656" y="14403"/>
                  <a:pt x="10656" y="14367"/>
                </a:cubicBezTo>
                <a:cubicBezTo>
                  <a:pt x="10656" y="14326"/>
                  <a:pt x="10649" y="14299"/>
                  <a:pt x="10676" y="14268"/>
                </a:cubicBezTo>
                <a:cubicBezTo>
                  <a:pt x="10689" y="14253"/>
                  <a:pt x="10731" y="14210"/>
                  <a:pt x="10735" y="14208"/>
                </a:cubicBezTo>
                <a:cubicBezTo>
                  <a:pt x="10763" y="14194"/>
                  <a:pt x="10801" y="14188"/>
                  <a:pt x="10835" y="14188"/>
                </a:cubicBezTo>
                <a:cubicBezTo>
                  <a:pt x="10841" y="14188"/>
                  <a:pt x="10891" y="14223"/>
                  <a:pt x="10894" y="14228"/>
                </a:cubicBezTo>
                <a:cubicBezTo>
                  <a:pt x="10903" y="14241"/>
                  <a:pt x="10913" y="14278"/>
                  <a:pt x="10914" y="14288"/>
                </a:cubicBezTo>
                <a:cubicBezTo>
                  <a:pt x="10922" y="14352"/>
                  <a:pt x="10914" y="14422"/>
                  <a:pt x="10914" y="14486"/>
                </a:cubicBezTo>
                <a:cubicBezTo>
                  <a:pt x="10960" y="14486"/>
                  <a:pt x="11007" y="14486"/>
                  <a:pt x="11053" y="14486"/>
                </a:cubicBezTo>
              </a:path>
              <a:path w="2461" h="855">
                <a:moveTo>
                  <a:pt x="11410" y="14149"/>
                </a:moveTo>
                <a:cubicBezTo>
                  <a:pt x="11410" y="14275"/>
                  <a:pt x="11410" y="14400"/>
                  <a:pt x="11410" y="14526"/>
                </a:cubicBezTo>
                <a:cubicBezTo>
                  <a:pt x="11494" y="14526"/>
                  <a:pt x="11575" y="14528"/>
                  <a:pt x="11648" y="14506"/>
                </a:cubicBezTo>
                <a:cubicBezTo>
                  <a:pt x="11677" y="14497"/>
                  <a:pt x="11668" y="14500"/>
                  <a:pt x="11668" y="14466"/>
                </a:cubicBezTo>
              </a:path>
              <a:path w="2461" h="855">
                <a:moveTo>
                  <a:pt x="11271" y="14288"/>
                </a:moveTo>
                <a:cubicBezTo>
                  <a:pt x="11390" y="14288"/>
                  <a:pt x="11509" y="14288"/>
                  <a:pt x="11628" y="14288"/>
                </a:cubicBezTo>
              </a:path>
              <a:path w="2461" h="855">
                <a:moveTo>
                  <a:pt x="10081" y="14268"/>
                </a:moveTo>
                <a:cubicBezTo>
                  <a:pt x="10117" y="14268"/>
                  <a:pt x="10128" y="14252"/>
                  <a:pt x="10160" y="14248"/>
                </a:cubicBezTo>
                <a:cubicBezTo>
                  <a:pt x="10209" y="14243"/>
                  <a:pt x="10237" y="14242"/>
                  <a:pt x="10279" y="14228"/>
                </a:cubicBezTo>
                <a:cubicBezTo>
                  <a:pt x="10318" y="14215"/>
                  <a:pt x="10319" y="14211"/>
                  <a:pt x="10319" y="14168"/>
                </a:cubicBezTo>
                <a:cubicBezTo>
                  <a:pt x="10319" y="14148"/>
                  <a:pt x="10319" y="14129"/>
                  <a:pt x="10319" y="14109"/>
                </a:cubicBezTo>
                <a:cubicBezTo>
                  <a:pt x="10273" y="14109"/>
                  <a:pt x="10226" y="14109"/>
                  <a:pt x="10180" y="1410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Box 6"/>
          <p:cNvSpPr/>
          <p:nvPr/>
        </p:nvSpPr>
        <p:spPr>
          <a:xfrm>
            <a:off x="0" y="228600"/>
            <a:ext cx="9144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Constantia"/>
              </a:rPr>
              <a:t>Falling Action-Freytag’s Pyramid</a:t>
            </a:r>
            <a:endParaRPr b="0" lang="en-US" sz="4800" spc="-1" strike="noStrike">
              <a:solidFill>
                <a:srgbClr val="000000"/>
              </a:solidFill>
              <a:latin typeface="Arial"/>
            </a:endParaRPr>
          </a:p>
        </p:txBody>
      </p:sp>
      <p:sp>
        <p:nvSpPr>
          <p:cNvPr id="227" name="TextBox 7"/>
          <p:cNvSpPr/>
          <p:nvPr/>
        </p:nvSpPr>
        <p:spPr>
          <a:xfrm>
            <a:off x="685800" y="1143000"/>
            <a:ext cx="83059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reytag’s Pyramid is divided into seven parts. The fifth part of Freytag’s Pyramid is called the Clima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e Falling Action is the time from the climax  to the end. The end is inevitable. Occasionally, the protagonist is involved with a few other conflicts  as the story closes to the end. is the main event of the story.  The end is about to be explained and a final explanation is about to be given about the sto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Arial"/>
            </a:endParaRPr>
          </a:p>
        </p:txBody>
      </p:sp>
      <p:pic>
        <p:nvPicPr>
          <p:cNvPr id="228" name="Picture 5" descr="freytag.bmp"/>
          <p:cNvPicPr/>
          <p:nvPr/>
        </p:nvPicPr>
        <p:blipFill>
          <a:blip r:embed="rId1"/>
          <a:stretch/>
        </p:blipFill>
        <p:spPr>
          <a:xfrm>
            <a:off x="914400" y="3657600"/>
            <a:ext cx="4572000" cy="2286000"/>
          </a:xfrm>
          <a:prstGeom prst="rect">
            <a:avLst/>
          </a:prstGeom>
          <a:ln w="0">
            <a:noFill/>
          </a:ln>
        </p:spPr>
      </p:pic>
      <p:sp>
        <p:nvSpPr>
          <p:cNvPr id="229" name="Ink 4"/>
          <p:cNvSpPr/>
          <p:nvPr/>
        </p:nvSpPr>
        <p:spPr>
          <a:xfrm>
            <a:off x="3579840" y="4165560"/>
            <a:ext cx="592200" cy="642960"/>
          </a:xfrm>
          <a:custGeom>
            <a:avLst/>
            <a:gdLst/>
            <a:ahLst/>
            <a:rect l="l" t="t" r="r" b="b"/>
            <a:pathLst>
              <a:path w="1648" h="1787">
                <a:moveTo>
                  <a:pt x="9942" y="11569"/>
                </a:moveTo>
                <a:lnTo>
                  <a:pt x="9942" y="11595"/>
                </a:lnTo>
                <a:lnTo>
                  <a:pt x="9942" y="11622"/>
                </a:lnTo>
                <a:lnTo>
                  <a:pt x="9942" y="11648"/>
                </a:lnTo>
                <a:lnTo>
                  <a:pt x="9949" y="11658"/>
                </a:lnTo>
                <a:lnTo>
                  <a:pt x="9963" y="11690"/>
                </a:lnTo>
                <a:lnTo>
                  <a:pt x="9981" y="11708"/>
                </a:lnTo>
                <a:lnTo>
                  <a:pt x="9988" y="11708"/>
                </a:lnTo>
                <a:lnTo>
                  <a:pt x="9994" y="11708"/>
                </a:lnTo>
                <a:lnTo>
                  <a:pt x="10001" y="11708"/>
                </a:lnTo>
                <a:lnTo>
                  <a:pt x="10008" y="11721"/>
                </a:lnTo>
                <a:lnTo>
                  <a:pt x="10020" y="11747"/>
                </a:lnTo>
                <a:lnTo>
                  <a:pt x="10021" y="11748"/>
                </a:lnTo>
                <a:lnTo>
                  <a:pt x="10036" y="11768"/>
                </a:lnTo>
                <a:lnTo>
                  <a:pt x="10036" y="11780"/>
                </a:lnTo>
                <a:lnTo>
                  <a:pt x="10061" y="11807"/>
                </a:lnTo>
                <a:lnTo>
                  <a:pt x="10066" y="11812"/>
                </a:lnTo>
                <a:lnTo>
                  <a:pt x="10094" y="11841"/>
                </a:lnTo>
                <a:lnTo>
                  <a:pt x="10100" y="11847"/>
                </a:lnTo>
                <a:lnTo>
                  <a:pt x="10136" y="11863"/>
                </a:lnTo>
                <a:lnTo>
                  <a:pt x="10135" y="11865"/>
                </a:lnTo>
                <a:lnTo>
                  <a:pt x="10160" y="11886"/>
                </a:lnTo>
                <a:lnTo>
                  <a:pt x="10196" y="11896"/>
                </a:lnTo>
                <a:lnTo>
                  <a:pt x="10223" y="11896"/>
                </a:lnTo>
                <a:lnTo>
                  <a:pt x="10259" y="11906"/>
                </a:lnTo>
                <a:lnTo>
                  <a:pt x="10272" y="11920"/>
                </a:lnTo>
                <a:lnTo>
                  <a:pt x="10307" y="11948"/>
                </a:lnTo>
                <a:lnTo>
                  <a:pt x="10319" y="11966"/>
                </a:lnTo>
                <a:lnTo>
                  <a:pt x="10328" y="11980"/>
                </a:lnTo>
                <a:lnTo>
                  <a:pt x="10331" y="12010"/>
                </a:lnTo>
                <a:lnTo>
                  <a:pt x="10339" y="12025"/>
                </a:lnTo>
                <a:lnTo>
                  <a:pt x="10346" y="12035"/>
                </a:lnTo>
                <a:lnTo>
                  <a:pt x="10360" y="12067"/>
                </a:lnTo>
                <a:lnTo>
                  <a:pt x="10378" y="12085"/>
                </a:lnTo>
                <a:lnTo>
                  <a:pt x="10385" y="12085"/>
                </a:lnTo>
                <a:lnTo>
                  <a:pt x="10391" y="12085"/>
                </a:lnTo>
                <a:lnTo>
                  <a:pt x="10398" y="12085"/>
                </a:lnTo>
                <a:lnTo>
                  <a:pt x="10408" y="12092"/>
                </a:lnTo>
                <a:lnTo>
                  <a:pt x="10439" y="12107"/>
                </a:lnTo>
                <a:lnTo>
                  <a:pt x="10458" y="12125"/>
                </a:lnTo>
                <a:lnTo>
                  <a:pt x="10458" y="12131"/>
                </a:lnTo>
                <a:lnTo>
                  <a:pt x="10458" y="12138"/>
                </a:lnTo>
                <a:lnTo>
                  <a:pt x="10458" y="12144"/>
                </a:lnTo>
                <a:lnTo>
                  <a:pt x="10478" y="12160"/>
                </a:lnTo>
                <a:lnTo>
                  <a:pt x="10498" y="12186"/>
                </a:lnTo>
                <a:lnTo>
                  <a:pt x="10537" y="12204"/>
                </a:lnTo>
                <a:lnTo>
                  <a:pt x="10544" y="12204"/>
                </a:lnTo>
                <a:lnTo>
                  <a:pt x="10550" y="12204"/>
                </a:lnTo>
                <a:lnTo>
                  <a:pt x="10557" y="12204"/>
                </a:lnTo>
                <a:lnTo>
                  <a:pt x="10564" y="12211"/>
                </a:lnTo>
                <a:lnTo>
                  <a:pt x="10590" y="12237"/>
                </a:lnTo>
                <a:lnTo>
                  <a:pt x="10597" y="12244"/>
                </a:lnTo>
                <a:lnTo>
                  <a:pt x="10622" y="12279"/>
                </a:lnTo>
                <a:lnTo>
                  <a:pt x="10640" y="12291"/>
                </a:lnTo>
                <a:lnTo>
                  <a:pt x="10676" y="12323"/>
                </a:lnTo>
                <a:lnTo>
                  <a:pt x="10682" y="12329"/>
                </a:lnTo>
                <a:lnTo>
                  <a:pt x="10708" y="12356"/>
                </a:lnTo>
                <a:lnTo>
                  <a:pt x="10716" y="12363"/>
                </a:lnTo>
                <a:lnTo>
                  <a:pt x="10726" y="12370"/>
                </a:lnTo>
                <a:lnTo>
                  <a:pt x="10757" y="12384"/>
                </a:lnTo>
                <a:lnTo>
                  <a:pt x="10775" y="12402"/>
                </a:lnTo>
                <a:lnTo>
                  <a:pt x="10775" y="12409"/>
                </a:lnTo>
                <a:lnTo>
                  <a:pt x="10775" y="12415"/>
                </a:lnTo>
                <a:lnTo>
                  <a:pt x="10775" y="12422"/>
                </a:lnTo>
                <a:lnTo>
                  <a:pt x="10782" y="12429"/>
                </a:lnTo>
                <a:lnTo>
                  <a:pt x="10808" y="12455"/>
                </a:lnTo>
                <a:lnTo>
                  <a:pt x="10815" y="12462"/>
                </a:lnTo>
                <a:lnTo>
                  <a:pt x="10836" y="12476"/>
                </a:lnTo>
                <a:lnTo>
                  <a:pt x="10869" y="12507"/>
                </a:lnTo>
                <a:lnTo>
                  <a:pt x="10894" y="12521"/>
                </a:lnTo>
                <a:lnTo>
                  <a:pt x="10901" y="12521"/>
                </a:lnTo>
                <a:lnTo>
                  <a:pt x="10907" y="12521"/>
                </a:lnTo>
                <a:lnTo>
                  <a:pt x="10914" y="12521"/>
                </a:lnTo>
                <a:lnTo>
                  <a:pt x="10943" y="12564"/>
                </a:lnTo>
                <a:lnTo>
                  <a:pt x="10911" y="12532"/>
                </a:lnTo>
                <a:lnTo>
                  <a:pt x="10954" y="12561"/>
                </a:lnTo>
                <a:lnTo>
                  <a:pt x="10961" y="12568"/>
                </a:lnTo>
                <a:lnTo>
                  <a:pt x="10987" y="12594"/>
                </a:lnTo>
                <a:lnTo>
                  <a:pt x="10993" y="12601"/>
                </a:lnTo>
                <a:lnTo>
                  <a:pt x="11018" y="12622"/>
                </a:lnTo>
                <a:lnTo>
                  <a:pt x="11016" y="12624"/>
                </a:lnTo>
                <a:lnTo>
                  <a:pt x="11053" y="12640"/>
                </a:lnTo>
                <a:lnTo>
                  <a:pt x="11070" y="12664"/>
                </a:lnTo>
                <a:lnTo>
                  <a:pt x="11083" y="12696"/>
                </a:lnTo>
                <a:lnTo>
                  <a:pt x="11112" y="12720"/>
                </a:lnTo>
                <a:lnTo>
                  <a:pt x="11144" y="12747"/>
                </a:lnTo>
                <a:lnTo>
                  <a:pt x="11153" y="12745"/>
                </a:lnTo>
                <a:lnTo>
                  <a:pt x="11172" y="12779"/>
                </a:lnTo>
                <a:lnTo>
                  <a:pt x="11186" y="12805"/>
                </a:lnTo>
                <a:lnTo>
                  <a:pt x="11187" y="12828"/>
                </a:lnTo>
                <a:lnTo>
                  <a:pt x="11192" y="12859"/>
                </a:lnTo>
                <a:lnTo>
                  <a:pt x="11201" y="12918"/>
                </a:lnTo>
                <a:lnTo>
                  <a:pt x="11179" y="12968"/>
                </a:lnTo>
                <a:lnTo>
                  <a:pt x="11212" y="13018"/>
                </a:lnTo>
                <a:lnTo>
                  <a:pt x="11219" y="13018"/>
                </a:lnTo>
                <a:lnTo>
                  <a:pt x="11225" y="13018"/>
                </a:lnTo>
                <a:lnTo>
                  <a:pt x="11232" y="13018"/>
                </a:lnTo>
                <a:lnTo>
                  <a:pt x="11245" y="13028"/>
                </a:lnTo>
                <a:lnTo>
                  <a:pt x="11268" y="13043"/>
                </a:lnTo>
                <a:lnTo>
                  <a:pt x="11291" y="13057"/>
                </a:lnTo>
                <a:lnTo>
                  <a:pt x="11322" y="13075"/>
                </a:lnTo>
                <a:lnTo>
                  <a:pt x="11332" y="13100"/>
                </a:lnTo>
                <a:lnTo>
                  <a:pt x="11351" y="13117"/>
                </a:lnTo>
                <a:lnTo>
                  <a:pt x="11374" y="13127"/>
                </a:lnTo>
                <a:lnTo>
                  <a:pt x="11377" y="13145"/>
                </a:lnTo>
                <a:lnTo>
                  <a:pt x="11410" y="13156"/>
                </a:lnTo>
                <a:lnTo>
                  <a:pt x="11430" y="13156"/>
                </a:lnTo>
                <a:lnTo>
                  <a:pt x="11437" y="13156"/>
                </a:lnTo>
                <a:lnTo>
                  <a:pt x="11450" y="13156"/>
                </a:lnTo>
                <a:lnTo>
                  <a:pt x="11457" y="13163"/>
                </a:lnTo>
                <a:lnTo>
                  <a:pt x="11483" y="13189"/>
                </a:lnTo>
                <a:lnTo>
                  <a:pt x="11490" y="13196"/>
                </a:lnTo>
                <a:lnTo>
                  <a:pt x="11497" y="13203"/>
                </a:lnTo>
                <a:lnTo>
                  <a:pt x="11523" y="13230"/>
                </a:lnTo>
                <a:lnTo>
                  <a:pt x="11529" y="13236"/>
                </a:lnTo>
                <a:lnTo>
                  <a:pt x="11538" y="13264"/>
                </a:lnTo>
                <a:lnTo>
                  <a:pt x="11541" y="13288"/>
                </a:lnTo>
                <a:lnTo>
                  <a:pt x="11549" y="13315"/>
                </a:lnTo>
                <a:lnTo>
                  <a:pt x="11592" y="13344"/>
                </a:lnTo>
                <a:lnTo>
                  <a:pt x="11560" y="13312"/>
                </a:lnTo>
                <a:lnTo>
                  <a:pt x="11589" y="13355"/>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Ink 5"/>
          <p:cNvSpPr/>
          <p:nvPr/>
        </p:nvSpPr>
        <p:spPr>
          <a:xfrm>
            <a:off x="3657600" y="4086360"/>
            <a:ext cx="479520" cy="736560"/>
          </a:xfrm>
          <a:custGeom>
            <a:avLst/>
            <a:gdLst/>
            <a:ahLst/>
            <a:rect l="l" t="t" r="r" b="b"/>
            <a:pathLst>
              <a:path w="1331" h="2045">
                <a:moveTo>
                  <a:pt x="10160" y="11351"/>
                </a:moveTo>
                <a:lnTo>
                  <a:pt x="10160" y="11423"/>
                </a:lnTo>
                <a:lnTo>
                  <a:pt x="10161" y="11486"/>
                </a:lnTo>
                <a:lnTo>
                  <a:pt x="10180" y="11549"/>
                </a:lnTo>
                <a:lnTo>
                  <a:pt x="10190" y="11583"/>
                </a:lnTo>
                <a:lnTo>
                  <a:pt x="10230" y="11615"/>
                </a:lnTo>
                <a:lnTo>
                  <a:pt x="10239" y="11648"/>
                </a:lnTo>
                <a:lnTo>
                  <a:pt x="10253" y="11698"/>
                </a:lnTo>
                <a:lnTo>
                  <a:pt x="10239" y="11774"/>
                </a:lnTo>
                <a:lnTo>
                  <a:pt x="10239" y="11827"/>
                </a:lnTo>
                <a:lnTo>
                  <a:pt x="10245" y="11837"/>
                </a:lnTo>
                <a:lnTo>
                  <a:pt x="10263" y="11865"/>
                </a:lnTo>
                <a:lnTo>
                  <a:pt x="10279" y="11886"/>
                </a:lnTo>
                <a:lnTo>
                  <a:pt x="10298" y="11912"/>
                </a:lnTo>
                <a:lnTo>
                  <a:pt x="10323" y="11945"/>
                </a:lnTo>
                <a:lnTo>
                  <a:pt x="10339" y="11966"/>
                </a:lnTo>
                <a:lnTo>
                  <a:pt x="10346" y="11973"/>
                </a:lnTo>
                <a:lnTo>
                  <a:pt x="10371" y="11998"/>
                </a:lnTo>
                <a:lnTo>
                  <a:pt x="10378" y="12005"/>
                </a:lnTo>
                <a:lnTo>
                  <a:pt x="10381" y="12015"/>
                </a:lnTo>
                <a:lnTo>
                  <a:pt x="10397" y="12030"/>
                </a:lnTo>
                <a:lnTo>
                  <a:pt x="10398" y="12065"/>
                </a:lnTo>
                <a:lnTo>
                  <a:pt x="10400" y="12111"/>
                </a:lnTo>
                <a:lnTo>
                  <a:pt x="10398" y="12158"/>
                </a:lnTo>
                <a:lnTo>
                  <a:pt x="10398" y="12204"/>
                </a:lnTo>
                <a:lnTo>
                  <a:pt x="10385" y="12227"/>
                </a:lnTo>
                <a:lnTo>
                  <a:pt x="10356" y="12213"/>
                </a:lnTo>
                <a:lnTo>
                  <a:pt x="10358" y="12263"/>
                </a:lnTo>
                <a:lnTo>
                  <a:pt x="10359" y="12288"/>
                </a:lnTo>
                <a:lnTo>
                  <a:pt x="10371" y="12316"/>
                </a:lnTo>
                <a:lnTo>
                  <a:pt x="10378" y="12343"/>
                </a:lnTo>
                <a:lnTo>
                  <a:pt x="10383" y="12355"/>
                </a:lnTo>
                <a:lnTo>
                  <a:pt x="10390" y="12371"/>
                </a:lnTo>
                <a:lnTo>
                  <a:pt x="10398" y="12402"/>
                </a:lnTo>
                <a:lnTo>
                  <a:pt x="10406" y="12434"/>
                </a:lnTo>
                <a:lnTo>
                  <a:pt x="10418" y="12455"/>
                </a:lnTo>
                <a:lnTo>
                  <a:pt x="10438" y="12482"/>
                </a:lnTo>
                <a:lnTo>
                  <a:pt x="10467" y="12521"/>
                </a:lnTo>
                <a:lnTo>
                  <a:pt x="10481" y="12507"/>
                </a:lnTo>
                <a:lnTo>
                  <a:pt x="10517" y="12521"/>
                </a:lnTo>
                <a:lnTo>
                  <a:pt x="10546" y="12532"/>
                </a:lnTo>
                <a:lnTo>
                  <a:pt x="10569" y="12549"/>
                </a:lnTo>
                <a:lnTo>
                  <a:pt x="10597" y="12561"/>
                </a:lnTo>
                <a:lnTo>
                  <a:pt x="10626" y="12573"/>
                </a:lnTo>
                <a:lnTo>
                  <a:pt x="10643" y="12576"/>
                </a:lnTo>
                <a:lnTo>
                  <a:pt x="10676" y="12581"/>
                </a:lnTo>
                <a:lnTo>
                  <a:pt x="10726" y="12589"/>
                </a:lnTo>
                <a:lnTo>
                  <a:pt x="10752" y="12576"/>
                </a:lnTo>
                <a:lnTo>
                  <a:pt x="10795" y="12601"/>
                </a:lnTo>
                <a:lnTo>
                  <a:pt x="10827" y="12617"/>
                </a:lnTo>
                <a:lnTo>
                  <a:pt x="10841" y="12615"/>
                </a:lnTo>
                <a:lnTo>
                  <a:pt x="10835" y="12640"/>
                </a:lnTo>
                <a:lnTo>
                  <a:pt x="10855" y="12640"/>
                </a:lnTo>
                <a:lnTo>
                  <a:pt x="10874" y="12640"/>
                </a:lnTo>
                <a:lnTo>
                  <a:pt x="10894" y="12640"/>
                </a:lnTo>
                <a:lnTo>
                  <a:pt x="10904" y="12670"/>
                </a:lnTo>
                <a:lnTo>
                  <a:pt x="10907" y="12659"/>
                </a:lnTo>
                <a:lnTo>
                  <a:pt x="10914" y="12700"/>
                </a:lnTo>
                <a:lnTo>
                  <a:pt x="10914" y="12720"/>
                </a:lnTo>
                <a:lnTo>
                  <a:pt x="10914" y="12727"/>
                </a:lnTo>
                <a:lnTo>
                  <a:pt x="10914" y="12740"/>
                </a:lnTo>
                <a:lnTo>
                  <a:pt x="10936" y="12760"/>
                </a:lnTo>
                <a:lnTo>
                  <a:pt x="10950" y="12773"/>
                </a:lnTo>
                <a:lnTo>
                  <a:pt x="10974" y="12799"/>
                </a:lnTo>
                <a:lnTo>
                  <a:pt x="11009" y="12837"/>
                </a:lnTo>
                <a:lnTo>
                  <a:pt x="11053" y="12864"/>
                </a:lnTo>
                <a:lnTo>
                  <a:pt x="11093" y="12898"/>
                </a:lnTo>
                <a:lnTo>
                  <a:pt x="11130" y="12930"/>
                </a:lnTo>
                <a:lnTo>
                  <a:pt x="11164" y="12993"/>
                </a:lnTo>
                <a:lnTo>
                  <a:pt x="11192" y="13018"/>
                </a:lnTo>
                <a:lnTo>
                  <a:pt x="11210" y="13035"/>
                </a:lnTo>
                <a:lnTo>
                  <a:pt x="11214" y="13042"/>
                </a:lnTo>
                <a:lnTo>
                  <a:pt x="11232" y="13037"/>
                </a:lnTo>
                <a:lnTo>
                  <a:pt x="11239" y="13044"/>
                </a:lnTo>
                <a:lnTo>
                  <a:pt x="11265" y="13071"/>
                </a:lnTo>
                <a:lnTo>
                  <a:pt x="11271" y="13077"/>
                </a:lnTo>
                <a:lnTo>
                  <a:pt x="11275" y="13123"/>
                </a:lnTo>
                <a:lnTo>
                  <a:pt x="11272" y="13138"/>
                </a:lnTo>
                <a:lnTo>
                  <a:pt x="11291" y="13176"/>
                </a:lnTo>
                <a:lnTo>
                  <a:pt x="11303" y="13200"/>
                </a:lnTo>
                <a:lnTo>
                  <a:pt x="11318" y="13233"/>
                </a:lnTo>
                <a:lnTo>
                  <a:pt x="11331" y="13256"/>
                </a:lnTo>
                <a:lnTo>
                  <a:pt x="11345" y="13272"/>
                </a:lnTo>
                <a:lnTo>
                  <a:pt x="11356" y="13283"/>
                </a:lnTo>
                <a:lnTo>
                  <a:pt x="11370" y="13315"/>
                </a:lnTo>
                <a:lnTo>
                  <a:pt x="11383" y="13322"/>
                </a:lnTo>
                <a:lnTo>
                  <a:pt x="11409" y="13334"/>
                </a:lnTo>
                <a:lnTo>
                  <a:pt x="11410" y="13335"/>
                </a:lnTo>
                <a:lnTo>
                  <a:pt x="11418" y="13344"/>
                </a:lnTo>
                <a:lnTo>
                  <a:pt x="11430" y="13382"/>
                </a:lnTo>
                <a:lnTo>
                  <a:pt x="11450" y="13395"/>
                </a:lnTo>
                <a:lnTo>
                  <a:pt x="11470" y="13395"/>
                </a:lnTo>
                <a:lnTo>
                  <a:pt x="11477" y="13395"/>
                </a:lnTo>
                <a:lnTo>
                  <a:pt x="11490" y="13395"/>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Ink 6"/>
          <p:cNvSpPr/>
          <p:nvPr/>
        </p:nvSpPr>
        <p:spPr>
          <a:xfrm>
            <a:off x="3543480" y="4079880"/>
            <a:ext cx="114120" cy="106200"/>
          </a:xfrm>
          <a:custGeom>
            <a:avLst/>
            <a:gdLst/>
            <a:ahLst/>
            <a:rect l="l" t="t" r="r" b="b"/>
            <a:pathLst>
              <a:path w="319" h="298">
                <a:moveTo>
                  <a:pt x="9842" y="11628"/>
                </a:moveTo>
                <a:lnTo>
                  <a:pt x="9860" y="11611"/>
                </a:lnTo>
                <a:lnTo>
                  <a:pt x="9867" y="11607"/>
                </a:lnTo>
                <a:lnTo>
                  <a:pt x="9862" y="11589"/>
                </a:lnTo>
                <a:lnTo>
                  <a:pt x="9871" y="11586"/>
                </a:lnTo>
                <a:lnTo>
                  <a:pt x="9931" y="11543"/>
                </a:lnTo>
                <a:lnTo>
                  <a:pt x="9942" y="11529"/>
                </a:lnTo>
                <a:lnTo>
                  <a:pt x="9954" y="11514"/>
                </a:lnTo>
                <a:lnTo>
                  <a:pt x="9979" y="11472"/>
                </a:lnTo>
                <a:lnTo>
                  <a:pt x="9981" y="11450"/>
                </a:lnTo>
                <a:lnTo>
                  <a:pt x="9985" y="11410"/>
                </a:lnTo>
                <a:lnTo>
                  <a:pt x="9978" y="11401"/>
                </a:lnTo>
                <a:lnTo>
                  <a:pt x="10021" y="11390"/>
                </a:lnTo>
                <a:lnTo>
                  <a:pt x="10030" y="11362"/>
                </a:lnTo>
                <a:lnTo>
                  <a:pt x="10027" y="11370"/>
                </a:lnTo>
                <a:lnTo>
                  <a:pt x="10061" y="11370"/>
                </a:lnTo>
                <a:lnTo>
                  <a:pt x="10067" y="11354"/>
                </a:lnTo>
                <a:lnTo>
                  <a:pt x="10096" y="11339"/>
                </a:lnTo>
                <a:lnTo>
                  <a:pt x="10120" y="11331"/>
                </a:lnTo>
                <a:lnTo>
                  <a:pt x="10140" y="11331"/>
                </a:lnTo>
                <a:lnTo>
                  <a:pt x="10147" y="11331"/>
                </a:lnTo>
                <a:lnTo>
                  <a:pt x="10160" y="11331"/>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Ink 7"/>
          <p:cNvSpPr/>
          <p:nvPr/>
        </p:nvSpPr>
        <p:spPr>
          <a:xfrm>
            <a:off x="3592440" y="4292640"/>
            <a:ext cx="679680" cy="822240"/>
          </a:xfrm>
          <a:custGeom>
            <a:avLst/>
            <a:gdLst/>
            <a:ahLst/>
            <a:rect l="l" t="t" r="r" b="b"/>
            <a:pathLst>
              <a:path w="1887" h="2283">
                <a:moveTo>
                  <a:pt x="9981" y="11926"/>
                </a:moveTo>
                <a:lnTo>
                  <a:pt x="9992" y="11969"/>
                </a:lnTo>
                <a:lnTo>
                  <a:pt x="10004" y="12001"/>
                </a:lnTo>
                <a:lnTo>
                  <a:pt x="10021" y="12045"/>
                </a:lnTo>
                <a:lnTo>
                  <a:pt x="10032" y="12075"/>
                </a:lnTo>
                <a:lnTo>
                  <a:pt x="10038" y="12120"/>
                </a:lnTo>
                <a:lnTo>
                  <a:pt x="10061" y="12144"/>
                </a:lnTo>
                <a:lnTo>
                  <a:pt x="10084" y="12168"/>
                </a:lnTo>
                <a:lnTo>
                  <a:pt x="10102" y="12183"/>
                </a:lnTo>
                <a:lnTo>
                  <a:pt x="10120" y="12204"/>
                </a:lnTo>
                <a:lnTo>
                  <a:pt x="10127" y="12211"/>
                </a:lnTo>
                <a:lnTo>
                  <a:pt x="10153" y="12237"/>
                </a:lnTo>
                <a:lnTo>
                  <a:pt x="10160" y="12244"/>
                </a:lnTo>
                <a:lnTo>
                  <a:pt x="10184" y="12262"/>
                </a:lnTo>
                <a:lnTo>
                  <a:pt x="10214" y="12273"/>
                </a:lnTo>
                <a:lnTo>
                  <a:pt x="10239" y="12303"/>
                </a:lnTo>
                <a:lnTo>
                  <a:pt x="10258" y="12325"/>
                </a:lnTo>
                <a:lnTo>
                  <a:pt x="10278" y="12369"/>
                </a:lnTo>
                <a:lnTo>
                  <a:pt x="10299" y="12382"/>
                </a:lnTo>
                <a:lnTo>
                  <a:pt x="10319" y="12382"/>
                </a:lnTo>
                <a:lnTo>
                  <a:pt x="10326" y="12382"/>
                </a:lnTo>
                <a:lnTo>
                  <a:pt x="10339" y="12382"/>
                </a:lnTo>
                <a:lnTo>
                  <a:pt x="10339" y="12409"/>
                </a:lnTo>
                <a:lnTo>
                  <a:pt x="10339" y="12435"/>
                </a:lnTo>
                <a:lnTo>
                  <a:pt x="10339" y="12462"/>
                </a:lnTo>
                <a:lnTo>
                  <a:pt x="10350" y="12472"/>
                </a:lnTo>
                <a:lnTo>
                  <a:pt x="10384" y="12489"/>
                </a:lnTo>
                <a:lnTo>
                  <a:pt x="10398" y="12502"/>
                </a:lnTo>
                <a:lnTo>
                  <a:pt x="10445" y="12546"/>
                </a:lnTo>
                <a:lnTo>
                  <a:pt x="10492" y="12603"/>
                </a:lnTo>
                <a:lnTo>
                  <a:pt x="10537" y="12640"/>
                </a:lnTo>
                <a:lnTo>
                  <a:pt x="10565" y="12662"/>
                </a:lnTo>
                <a:lnTo>
                  <a:pt x="10612" y="12682"/>
                </a:lnTo>
                <a:lnTo>
                  <a:pt x="10636" y="12700"/>
                </a:lnTo>
                <a:lnTo>
                  <a:pt x="10641" y="12722"/>
                </a:lnTo>
                <a:lnTo>
                  <a:pt x="10644" y="12723"/>
                </a:lnTo>
                <a:lnTo>
                  <a:pt x="10656" y="12740"/>
                </a:lnTo>
                <a:lnTo>
                  <a:pt x="10684" y="12758"/>
                </a:lnTo>
                <a:lnTo>
                  <a:pt x="10669" y="12740"/>
                </a:lnTo>
                <a:lnTo>
                  <a:pt x="10676" y="12779"/>
                </a:lnTo>
                <a:lnTo>
                  <a:pt x="10697" y="12794"/>
                </a:lnTo>
                <a:lnTo>
                  <a:pt x="10708" y="12793"/>
                </a:lnTo>
                <a:lnTo>
                  <a:pt x="10735" y="12819"/>
                </a:lnTo>
                <a:lnTo>
                  <a:pt x="10749" y="12833"/>
                </a:lnTo>
                <a:lnTo>
                  <a:pt x="10785" y="12884"/>
                </a:lnTo>
                <a:lnTo>
                  <a:pt x="10815" y="12898"/>
                </a:lnTo>
                <a:lnTo>
                  <a:pt x="10835" y="12898"/>
                </a:lnTo>
                <a:lnTo>
                  <a:pt x="10842" y="12898"/>
                </a:lnTo>
                <a:lnTo>
                  <a:pt x="10855" y="12898"/>
                </a:lnTo>
                <a:lnTo>
                  <a:pt x="10868" y="12912"/>
                </a:lnTo>
                <a:lnTo>
                  <a:pt x="10881" y="12925"/>
                </a:lnTo>
                <a:lnTo>
                  <a:pt x="10894" y="12938"/>
                </a:lnTo>
                <a:lnTo>
                  <a:pt x="10904" y="12977"/>
                </a:lnTo>
                <a:lnTo>
                  <a:pt x="10898" y="12957"/>
                </a:lnTo>
                <a:lnTo>
                  <a:pt x="10914" y="12978"/>
                </a:lnTo>
                <a:lnTo>
                  <a:pt x="10924" y="13017"/>
                </a:lnTo>
                <a:lnTo>
                  <a:pt x="10918" y="12997"/>
                </a:lnTo>
                <a:lnTo>
                  <a:pt x="10934" y="13018"/>
                </a:lnTo>
                <a:lnTo>
                  <a:pt x="10948" y="13040"/>
                </a:lnTo>
                <a:lnTo>
                  <a:pt x="10962" y="13053"/>
                </a:lnTo>
                <a:lnTo>
                  <a:pt x="10974" y="13077"/>
                </a:lnTo>
                <a:lnTo>
                  <a:pt x="10974" y="13084"/>
                </a:lnTo>
                <a:lnTo>
                  <a:pt x="10974" y="13090"/>
                </a:lnTo>
                <a:lnTo>
                  <a:pt x="10974" y="13097"/>
                </a:lnTo>
                <a:lnTo>
                  <a:pt x="11004" y="13108"/>
                </a:lnTo>
                <a:lnTo>
                  <a:pt x="11024" y="13125"/>
                </a:lnTo>
                <a:lnTo>
                  <a:pt x="11053" y="13137"/>
                </a:lnTo>
                <a:lnTo>
                  <a:pt x="11060" y="13137"/>
                </a:lnTo>
                <a:lnTo>
                  <a:pt x="11066" y="13137"/>
                </a:lnTo>
                <a:lnTo>
                  <a:pt x="11073" y="13137"/>
                </a:lnTo>
                <a:lnTo>
                  <a:pt x="11097" y="13159"/>
                </a:lnTo>
                <a:lnTo>
                  <a:pt x="11114" y="13177"/>
                </a:lnTo>
                <a:lnTo>
                  <a:pt x="11152" y="13196"/>
                </a:lnTo>
                <a:lnTo>
                  <a:pt x="11174" y="13226"/>
                </a:lnTo>
                <a:lnTo>
                  <a:pt x="11160" y="13222"/>
                </a:lnTo>
                <a:lnTo>
                  <a:pt x="11192" y="13256"/>
                </a:lnTo>
                <a:lnTo>
                  <a:pt x="11212" y="13277"/>
                </a:lnTo>
                <a:lnTo>
                  <a:pt x="11242" y="13293"/>
                </a:lnTo>
                <a:lnTo>
                  <a:pt x="11271" y="13315"/>
                </a:lnTo>
                <a:lnTo>
                  <a:pt x="11282" y="13324"/>
                </a:lnTo>
                <a:lnTo>
                  <a:pt x="11304" y="13350"/>
                </a:lnTo>
                <a:lnTo>
                  <a:pt x="11311" y="13355"/>
                </a:lnTo>
                <a:lnTo>
                  <a:pt x="11335" y="13377"/>
                </a:lnTo>
                <a:lnTo>
                  <a:pt x="11365" y="13367"/>
                </a:lnTo>
                <a:lnTo>
                  <a:pt x="11390" y="13414"/>
                </a:lnTo>
                <a:lnTo>
                  <a:pt x="11405" y="13441"/>
                </a:lnTo>
                <a:lnTo>
                  <a:pt x="11414" y="13488"/>
                </a:lnTo>
                <a:lnTo>
                  <a:pt x="11430" y="13514"/>
                </a:lnTo>
                <a:lnTo>
                  <a:pt x="11440" y="13530"/>
                </a:lnTo>
                <a:lnTo>
                  <a:pt x="11463" y="13585"/>
                </a:lnTo>
                <a:lnTo>
                  <a:pt x="11470" y="13593"/>
                </a:lnTo>
                <a:lnTo>
                  <a:pt x="11488" y="13611"/>
                </a:lnTo>
                <a:lnTo>
                  <a:pt x="11491" y="13617"/>
                </a:lnTo>
                <a:lnTo>
                  <a:pt x="11509" y="13613"/>
                </a:lnTo>
                <a:lnTo>
                  <a:pt x="11520" y="13647"/>
                </a:lnTo>
                <a:lnTo>
                  <a:pt x="11535" y="13660"/>
                </a:lnTo>
                <a:lnTo>
                  <a:pt x="11549" y="13692"/>
                </a:lnTo>
                <a:lnTo>
                  <a:pt x="11566" y="13729"/>
                </a:lnTo>
                <a:lnTo>
                  <a:pt x="11566" y="13726"/>
                </a:lnTo>
                <a:lnTo>
                  <a:pt x="11589" y="13752"/>
                </a:lnTo>
                <a:lnTo>
                  <a:pt x="11601" y="13780"/>
                </a:lnTo>
                <a:lnTo>
                  <a:pt x="11616" y="13803"/>
                </a:lnTo>
                <a:lnTo>
                  <a:pt x="11628" y="13831"/>
                </a:lnTo>
                <a:lnTo>
                  <a:pt x="11640" y="13859"/>
                </a:lnTo>
                <a:lnTo>
                  <a:pt x="11643" y="13887"/>
                </a:lnTo>
                <a:lnTo>
                  <a:pt x="11668" y="13910"/>
                </a:lnTo>
                <a:lnTo>
                  <a:pt x="11675" y="13910"/>
                </a:lnTo>
                <a:lnTo>
                  <a:pt x="11681" y="13910"/>
                </a:lnTo>
                <a:lnTo>
                  <a:pt x="11688" y="13910"/>
                </a:lnTo>
                <a:lnTo>
                  <a:pt x="11706" y="13938"/>
                </a:lnTo>
                <a:lnTo>
                  <a:pt x="11688" y="13923"/>
                </a:lnTo>
                <a:lnTo>
                  <a:pt x="11728" y="13930"/>
                </a:lnTo>
                <a:lnTo>
                  <a:pt x="11739" y="13943"/>
                </a:lnTo>
                <a:lnTo>
                  <a:pt x="11753" y="13973"/>
                </a:lnTo>
                <a:lnTo>
                  <a:pt x="11767" y="13990"/>
                </a:lnTo>
                <a:lnTo>
                  <a:pt x="11787" y="14012"/>
                </a:lnTo>
                <a:lnTo>
                  <a:pt x="11813" y="13980"/>
                </a:lnTo>
                <a:lnTo>
                  <a:pt x="11827" y="14030"/>
                </a:lnTo>
                <a:lnTo>
                  <a:pt x="11842" y="14087"/>
                </a:lnTo>
                <a:lnTo>
                  <a:pt x="11824" y="14136"/>
                </a:lnTo>
                <a:lnTo>
                  <a:pt x="11847" y="14188"/>
                </a:lnTo>
                <a:lnTo>
                  <a:pt x="11854" y="14195"/>
                </a:lnTo>
                <a:lnTo>
                  <a:pt x="11860" y="14201"/>
                </a:lnTo>
                <a:lnTo>
                  <a:pt x="11867" y="14208"/>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Ink 8"/>
          <p:cNvSpPr/>
          <p:nvPr/>
        </p:nvSpPr>
        <p:spPr>
          <a:xfrm>
            <a:off x="3335400" y="4114800"/>
            <a:ext cx="844560" cy="965160"/>
          </a:xfrm>
          <a:custGeom>
            <a:avLst/>
            <a:gdLst/>
            <a:ahLst/>
            <a:rect l="l" t="t" r="r" b="b"/>
            <a:pathLst>
              <a:path w="2343" h="2680">
                <a:moveTo>
                  <a:pt x="9267" y="11430"/>
                </a:moveTo>
                <a:lnTo>
                  <a:pt x="9304" y="11463"/>
                </a:lnTo>
                <a:lnTo>
                  <a:pt x="9318" y="11472"/>
                </a:lnTo>
                <a:lnTo>
                  <a:pt x="9346" y="11509"/>
                </a:lnTo>
                <a:lnTo>
                  <a:pt x="9364" y="11527"/>
                </a:lnTo>
                <a:lnTo>
                  <a:pt x="9371" y="11531"/>
                </a:lnTo>
                <a:lnTo>
                  <a:pt x="9366" y="11549"/>
                </a:lnTo>
                <a:lnTo>
                  <a:pt x="9394" y="11567"/>
                </a:lnTo>
                <a:lnTo>
                  <a:pt x="9379" y="11549"/>
                </a:lnTo>
                <a:lnTo>
                  <a:pt x="9386" y="11589"/>
                </a:lnTo>
                <a:lnTo>
                  <a:pt x="9404" y="11607"/>
                </a:lnTo>
                <a:lnTo>
                  <a:pt x="9424" y="11625"/>
                </a:lnTo>
                <a:lnTo>
                  <a:pt x="9446" y="11648"/>
                </a:lnTo>
                <a:lnTo>
                  <a:pt x="9486" y="11691"/>
                </a:lnTo>
                <a:lnTo>
                  <a:pt x="9524" y="11722"/>
                </a:lnTo>
                <a:lnTo>
                  <a:pt x="9565" y="11767"/>
                </a:lnTo>
                <a:lnTo>
                  <a:pt x="9580" y="11783"/>
                </a:lnTo>
                <a:lnTo>
                  <a:pt x="9612" y="11814"/>
                </a:lnTo>
                <a:lnTo>
                  <a:pt x="9624" y="11827"/>
                </a:lnTo>
                <a:lnTo>
                  <a:pt x="9640" y="11843"/>
                </a:lnTo>
                <a:lnTo>
                  <a:pt x="9669" y="11891"/>
                </a:lnTo>
                <a:lnTo>
                  <a:pt x="9684" y="11906"/>
                </a:lnTo>
                <a:lnTo>
                  <a:pt x="9702" y="11924"/>
                </a:lnTo>
                <a:lnTo>
                  <a:pt x="9705" y="11930"/>
                </a:lnTo>
                <a:lnTo>
                  <a:pt x="9723" y="11926"/>
                </a:lnTo>
                <a:lnTo>
                  <a:pt x="9733" y="11935"/>
                </a:lnTo>
                <a:lnTo>
                  <a:pt x="9771" y="11997"/>
                </a:lnTo>
                <a:lnTo>
                  <a:pt x="9783" y="12005"/>
                </a:lnTo>
                <a:lnTo>
                  <a:pt x="9814" y="12027"/>
                </a:lnTo>
                <a:lnTo>
                  <a:pt x="9879" y="12043"/>
                </a:lnTo>
                <a:lnTo>
                  <a:pt x="9902" y="12065"/>
                </a:lnTo>
                <a:lnTo>
                  <a:pt x="9920" y="12083"/>
                </a:lnTo>
                <a:lnTo>
                  <a:pt x="9927" y="12087"/>
                </a:lnTo>
                <a:lnTo>
                  <a:pt x="9922" y="12105"/>
                </a:lnTo>
                <a:lnTo>
                  <a:pt x="9952" y="12120"/>
                </a:lnTo>
                <a:lnTo>
                  <a:pt x="9945" y="12119"/>
                </a:lnTo>
                <a:lnTo>
                  <a:pt x="9962" y="12144"/>
                </a:lnTo>
                <a:lnTo>
                  <a:pt x="10000" y="12164"/>
                </a:lnTo>
                <a:lnTo>
                  <a:pt x="9994" y="12154"/>
                </a:lnTo>
                <a:lnTo>
                  <a:pt x="10041" y="12184"/>
                </a:lnTo>
                <a:lnTo>
                  <a:pt x="10061" y="12197"/>
                </a:lnTo>
                <a:lnTo>
                  <a:pt x="10101" y="12211"/>
                </a:lnTo>
                <a:lnTo>
                  <a:pt x="10120" y="12224"/>
                </a:lnTo>
                <a:lnTo>
                  <a:pt x="10142" y="12251"/>
                </a:lnTo>
                <a:lnTo>
                  <a:pt x="10125" y="12252"/>
                </a:lnTo>
                <a:lnTo>
                  <a:pt x="10160" y="12283"/>
                </a:lnTo>
                <a:lnTo>
                  <a:pt x="10171" y="12293"/>
                </a:lnTo>
                <a:lnTo>
                  <a:pt x="10206" y="12311"/>
                </a:lnTo>
                <a:lnTo>
                  <a:pt x="10220" y="12323"/>
                </a:lnTo>
                <a:lnTo>
                  <a:pt x="10249" y="12355"/>
                </a:lnTo>
                <a:lnTo>
                  <a:pt x="10277" y="12370"/>
                </a:lnTo>
                <a:lnTo>
                  <a:pt x="10319" y="12402"/>
                </a:lnTo>
                <a:lnTo>
                  <a:pt x="10347" y="12424"/>
                </a:lnTo>
                <a:lnTo>
                  <a:pt x="10373" y="12446"/>
                </a:lnTo>
                <a:lnTo>
                  <a:pt x="10398" y="12462"/>
                </a:lnTo>
                <a:lnTo>
                  <a:pt x="10417" y="12474"/>
                </a:lnTo>
                <a:lnTo>
                  <a:pt x="10443" y="12492"/>
                </a:lnTo>
                <a:lnTo>
                  <a:pt x="10458" y="12502"/>
                </a:lnTo>
                <a:lnTo>
                  <a:pt x="10470" y="12513"/>
                </a:lnTo>
                <a:lnTo>
                  <a:pt x="10491" y="12543"/>
                </a:lnTo>
                <a:lnTo>
                  <a:pt x="10517" y="12561"/>
                </a:lnTo>
                <a:lnTo>
                  <a:pt x="10538" y="12576"/>
                </a:lnTo>
                <a:lnTo>
                  <a:pt x="10571" y="12604"/>
                </a:lnTo>
                <a:lnTo>
                  <a:pt x="10597" y="12621"/>
                </a:lnTo>
                <a:lnTo>
                  <a:pt x="10603" y="12621"/>
                </a:lnTo>
                <a:lnTo>
                  <a:pt x="10610" y="12621"/>
                </a:lnTo>
                <a:lnTo>
                  <a:pt x="10616" y="12621"/>
                </a:lnTo>
                <a:lnTo>
                  <a:pt x="10633" y="12641"/>
                </a:lnTo>
                <a:lnTo>
                  <a:pt x="10660" y="12683"/>
                </a:lnTo>
                <a:lnTo>
                  <a:pt x="10676" y="12700"/>
                </a:lnTo>
                <a:lnTo>
                  <a:pt x="10705" y="12730"/>
                </a:lnTo>
                <a:lnTo>
                  <a:pt x="10731" y="12751"/>
                </a:lnTo>
                <a:lnTo>
                  <a:pt x="10755" y="12779"/>
                </a:lnTo>
                <a:lnTo>
                  <a:pt x="10785" y="12815"/>
                </a:lnTo>
                <a:lnTo>
                  <a:pt x="10799" y="12843"/>
                </a:lnTo>
                <a:lnTo>
                  <a:pt x="10835" y="12879"/>
                </a:lnTo>
                <a:lnTo>
                  <a:pt x="10869" y="12913"/>
                </a:lnTo>
                <a:lnTo>
                  <a:pt x="10889" y="12943"/>
                </a:lnTo>
                <a:lnTo>
                  <a:pt x="10914" y="12978"/>
                </a:lnTo>
                <a:lnTo>
                  <a:pt x="10936" y="13008"/>
                </a:lnTo>
                <a:lnTo>
                  <a:pt x="10955" y="13028"/>
                </a:lnTo>
                <a:lnTo>
                  <a:pt x="10974" y="13057"/>
                </a:lnTo>
                <a:lnTo>
                  <a:pt x="10987" y="13077"/>
                </a:lnTo>
                <a:lnTo>
                  <a:pt x="11001" y="13116"/>
                </a:lnTo>
                <a:lnTo>
                  <a:pt x="11013" y="13137"/>
                </a:lnTo>
                <a:lnTo>
                  <a:pt x="11044" y="13152"/>
                </a:lnTo>
                <a:lnTo>
                  <a:pt x="11035" y="13150"/>
                </a:lnTo>
                <a:lnTo>
                  <a:pt x="11053" y="13176"/>
                </a:lnTo>
                <a:lnTo>
                  <a:pt x="11078" y="13196"/>
                </a:lnTo>
                <a:lnTo>
                  <a:pt x="11092" y="13210"/>
                </a:lnTo>
                <a:lnTo>
                  <a:pt x="11112" y="13236"/>
                </a:lnTo>
                <a:lnTo>
                  <a:pt x="11142" y="13251"/>
                </a:lnTo>
                <a:lnTo>
                  <a:pt x="11135" y="13250"/>
                </a:lnTo>
                <a:lnTo>
                  <a:pt x="11152" y="13275"/>
                </a:lnTo>
                <a:lnTo>
                  <a:pt x="11170" y="13293"/>
                </a:lnTo>
                <a:lnTo>
                  <a:pt x="11206" y="13327"/>
                </a:lnTo>
                <a:lnTo>
                  <a:pt x="11232" y="13355"/>
                </a:lnTo>
                <a:lnTo>
                  <a:pt x="11275" y="13401"/>
                </a:lnTo>
                <a:lnTo>
                  <a:pt x="11326" y="13441"/>
                </a:lnTo>
                <a:lnTo>
                  <a:pt x="11370" y="13474"/>
                </a:lnTo>
                <a:lnTo>
                  <a:pt x="11398" y="13536"/>
                </a:lnTo>
                <a:lnTo>
                  <a:pt x="11387" y="13499"/>
                </a:lnTo>
                <a:lnTo>
                  <a:pt x="11410" y="13533"/>
                </a:lnTo>
                <a:lnTo>
                  <a:pt x="11410" y="13598"/>
                </a:lnTo>
                <a:lnTo>
                  <a:pt x="11403" y="13658"/>
                </a:lnTo>
                <a:lnTo>
                  <a:pt x="11430" y="13712"/>
                </a:lnTo>
                <a:lnTo>
                  <a:pt x="11458" y="13768"/>
                </a:lnTo>
                <a:lnTo>
                  <a:pt x="11509" y="13824"/>
                </a:lnTo>
                <a:lnTo>
                  <a:pt x="11549" y="13871"/>
                </a:lnTo>
                <a:lnTo>
                  <a:pt x="11565" y="13903"/>
                </a:lnTo>
                <a:lnTo>
                  <a:pt x="11564" y="13916"/>
                </a:lnTo>
                <a:lnTo>
                  <a:pt x="11589" y="13910"/>
                </a:lnTo>
                <a:lnTo>
                  <a:pt x="11595" y="13941"/>
                </a:lnTo>
                <a:lnTo>
                  <a:pt x="11606" y="13955"/>
                </a:lnTo>
                <a:lnTo>
                  <a:pt x="11609" y="13990"/>
                </a:lnTo>
                <a:lnTo>
                  <a:pt x="11613" y="14029"/>
                </a:lnTo>
                <a:lnTo>
                  <a:pt x="11609" y="14070"/>
                </a:lnTo>
                <a:lnTo>
                  <a:pt x="11609" y="14109"/>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Ink 9"/>
          <p:cNvSpPr/>
          <p:nvPr/>
        </p:nvSpPr>
        <p:spPr>
          <a:xfrm>
            <a:off x="3300480" y="4006800"/>
            <a:ext cx="879480" cy="1130400"/>
          </a:xfrm>
          <a:custGeom>
            <a:avLst/>
            <a:gdLst/>
            <a:ahLst/>
            <a:rect l="l" t="t" r="r" b="b"/>
            <a:pathLst>
              <a:path w="2442" h="3137">
                <a:moveTo>
                  <a:pt x="9862" y="12343"/>
                </a:moveTo>
                <a:lnTo>
                  <a:pt x="9876" y="12376"/>
                </a:lnTo>
                <a:lnTo>
                  <a:pt x="9883" y="12404"/>
                </a:lnTo>
                <a:lnTo>
                  <a:pt x="9902" y="12442"/>
                </a:lnTo>
                <a:lnTo>
                  <a:pt x="9936" y="12511"/>
                </a:lnTo>
                <a:lnTo>
                  <a:pt x="9973" y="12546"/>
                </a:lnTo>
                <a:lnTo>
                  <a:pt x="10021" y="12601"/>
                </a:lnTo>
                <a:lnTo>
                  <a:pt x="10061" y="12648"/>
                </a:lnTo>
                <a:lnTo>
                  <a:pt x="10084" y="12687"/>
                </a:lnTo>
                <a:lnTo>
                  <a:pt x="10120" y="12740"/>
                </a:lnTo>
                <a:lnTo>
                  <a:pt x="10150" y="12783"/>
                </a:lnTo>
                <a:lnTo>
                  <a:pt x="10189" y="12808"/>
                </a:lnTo>
                <a:lnTo>
                  <a:pt x="10220" y="12859"/>
                </a:lnTo>
                <a:lnTo>
                  <a:pt x="10240" y="12892"/>
                </a:lnTo>
                <a:lnTo>
                  <a:pt x="10264" y="12917"/>
                </a:lnTo>
                <a:lnTo>
                  <a:pt x="10279" y="12938"/>
                </a:lnTo>
                <a:lnTo>
                  <a:pt x="10295" y="12961"/>
                </a:lnTo>
                <a:lnTo>
                  <a:pt x="10298" y="12991"/>
                </a:lnTo>
                <a:lnTo>
                  <a:pt x="10319" y="13018"/>
                </a:lnTo>
                <a:lnTo>
                  <a:pt x="10339" y="13044"/>
                </a:lnTo>
                <a:lnTo>
                  <a:pt x="10392" y="13098"/>
                </a:lnTo>
                <a:lnTo>
                  <a:pt x="10418" y="13117"/>
                </a:lnTo>
                <a:lnTo>
                  <a:pt x="10457" y="13145"/>
                </a:lnTo>
                <a:lnTo>
                  <a:pt x="10496" y="13180"/>
                </a:lnTo>
                <a:lnTo>
                  <a:pt x="10537" y="13216"/>
                </a:lnTo>
                <a:lnTo>
                  <a:pt x="10572" y="13246"/>
                </a:lnTo>
                <a:lnTo>
                  <a:pt x="10585" y="13250"/>
                </a:lnTo>
                <a:lnTo>
                  <a:pt x="10616" y="13275"/>
                </a:lnTo>
                <a:lnTo>
                  <a:pt x="10650" y="13302"/>
                </a:lnTo>
                <a:lnTo>
                  <a:pt x="10663" y="13312"/>
                </a:lnTo>
                <a:lnTo>
                  <a:pt x="10696" y="13335"/>
                </a:lnTo>
                <a:lnTo>
                  <a:pt x="10708" y="13344"/>
                </a:lnTo>
                <a:lnTo>
                  <a:pt x="10731" y="13358"/>
                </a:lnTo>
                <a:lnTo>
                  <a:pt x="10755" y="13375"/>
                </a:lnTo>
                <a:lnTo>
                  <a:pt x="10765" y="13382"/>
                </a:lnTo>
                <a:lnTo>
                  <a:pt x="10799" y="13383"/>
                </a:lnTo>
                <a:lnTo>
                  <a:pt x="10815" y="13395"/>
                </a:lnTo>
                <a:lnTo>
                  <a:pt x="10842" y="13414"/>
                </a:lnTo>
                <a:lnTo>
                  <a:pt x="10874" y="13478"/>
                </a:lnTo>
                <a:lnTo>
                  <a:pt x="10894" y="13494"/>
                </a:lnTo>
                <a:lnTo>
                  <a:pt x="10960" y="13547"/>
                </a:lnTo>
                <a:lnTo>
                  <a:pt x="10959" y="13579"/>
                </a:lnTo>
                <a:lnTo>
                  <a:pt x="11013" y="13633"/>
                </a:lnTo>
                <a:lnTo>
                  <a:pt x="11054" y="13673"/>
                </a:lnTo>
                <a:lnTo>
                  <a:pt x="11078" y="13711"/>
                </a:lnTo>
                <a:lnTo>
                  <a:pt x="11112" y="13752"/>
                </a:lnTo>
                <a:lnTo>
                  <a:pt x="11145" y="13792"/>
                </a:lnTo>
                <a:lnTo>
                  <a:pt x="11176" y="13832"/>
                </a:lnTo>
                <a:lnTo>
                  <a:pt x="11212" y="13871"/>
                </a:lnTo>
                <a:lnTo>
                  <a:pt x="11253" y="13916"/>
                </a:lnTo>
                <a:lnTo>
                  <a:pt x="11292" y="13959"/>
                </a:lnTo>
                <a:lnTo>
                  <a:pt x="11331" y="14010"/>
                </a:lnTo>
                <a:lnTo>
                  <a:pt x="11363" y="14052"/>
                </a:lnTo>
                <a:lnTo>
                  <a:pt x="11396" y="14088"/>
                </a:lnTo>
                <a:lnTo>
                  <a:pt x="11430" y="14129"/>
                </a:lnTo>
                <a:lnTo>
                  <a:pt x="11457" y="14161"/>
                </a:lnTo>
                <a:lnTo>
                  <a:pt x="11491" y="14190"/>
                </a:lnTo>
                <a:lnTo>
                  <a:pt x="11509" y="14228"/>
                </a:lnTo>
                <a:lnTo>
                  <a:pt x="11509" y="14248"/>
                </a:lnTo>
                <a:lnTo>
                  <a:pt x="11509" y="14255"/>
                </a:lnTo>
                <a:lnTo>
                  <a:pt x="11509" y="14268"/>
                </a:lnTo>
                <a:lnTo>
                  <a:pt x="11499" y="14226"/>
                </a:lnTo>
                <a:lnTo>
                  <a:pt x="11504" y="14188"/>
                </a:lnTo>
                <a:lnTo>
                  <a:pt x="11490" y="14149"/>
                </a:lnTo>
                <a:lnTo>
                  <a:pt x="11473" y="14101"/>
                </a:lnTo>
                <a:lnTo>
                  <a:pt x="11452" y="14076"/>
                </a:lnTo>
                <a:lnTo>
                  <a:pt x="11430" y="14030"/>
                </a:lnTo>
                <a:lnTo>
                  <a:pt x="11417" y="14003"/>
                </a:lnTo>
                <a:lnTo>
                  <a:pt x="11404" y="13978"/>
                </a:lnTo>
                <a:lnTo>
                  <a:pt x="11390" y="13950"/>
                </a:lnTo>
                <a:lnTo>
                  <a:pt x="11377" y="13923"/>
                </a:lnTo>
                <a:lnTo>
                  <a:pt x="11367" y="13898"/>
                </a:lnTo>
                <a:lnTo>
                  <a:pt x="11351" y="13871"/>
                </a:lnTo>
                <a:lnTo>
                  <a:pt x="11336" y="13846"/>
                </a:lnTo>
                <a:lnTo>
                  <a:pt x="11324" y="13838"/>
                </a:lnTo>
                <a:lnTo>
                  <a:pt x="11311" y="13811"/>
                </a:lnTo>
                <a:lnTo>
                  <a:pt x="11291" y="13769"/>
                </a:lnTo>
                <a:lnTo>
                  <a:pt x="11278" y="13719"/>
                </a:lnTo>
                <a:lnTo>
                  <a:pt x="11251" y="13672"/>
                </a:lnTo>
                <a:lnTo>
                  <a:pt x="11232" y="13640"/>
                </a:lnTo>
                <a:lnTo>
                  <a:pt x="11208" y="13553"/>
                </a:lnTo>
                <a:lnTo>
                  <a:pt x="11192" y="13533"/>
                </a:lnTo>
                <a:lnTo>
                  <a:pt x="11171" y="13508"/>
                </a:lnTo>
                <a:lnTo>
                  <a:pt x="11133" y="13479"/>
                </a:lnTo>
                <a:lnTo>
                  <a:pt x="11112" y="13454"/>
                </a:lnTo>
                <a:lnTo>
                  <a:pt x="11083" y="13420"/>
                </a:lnTo>
                <a:lnTo>
                  <a:pt x="11058" y="13412"/>
                </a:lnTo>
                <a:lnTo>
                  <a:pt x="11033" y="13375"/>
                </a:lnTo>
                <a:lnTo>
                  <a:pt x="11013" y="13346"/>
                </a:lnTo>
                <a:lnTo>
                  <a:pt x="10999" y="13304"/>
                </a:lnTo>
                <a:lnTo>
                  <a:pt x="10974" y="13275"/>
                </a:lnTo>
                <a:lnTo>
                  <a:pt x="10960" y="13258"/>
                </a:lnTo>
                <a:lnTo>
                  <a:pt x="10916" y="13224"/>
                </a:lnTo>
                <a:lnTo>
                  <a:pt x="10894" y="13196"/>
                </a:lnTo>
                <a:lnTo>
                  <a:pt x="10850" y="13141"/>
                </a:lnTo>
                <a:lnTo>
                  <a:pt x="10804" y="13066"/>
                </a:lnTo>
                <a:lnTo>
                  <a:pt x="10755" y="13018"/>
                </a:lnTo>
                <a:lnTo>
                  <a:pt x="10705" y="12970"/>
                </a:lnTo>
                <a:lnTo>
                  <a:pt x="10648" y="12920"/>
                </a:lnTo>
                <a:lnTo>
                  <a:pt x="10597" y="12879"/>
                </a:lnTo>
                <a:lnTo>
                  <a:pt x="10554" y="12845"/>
                </a:lnTo>
                <a:lnTo>
                  <a:pt x="10504" y="12812"/>
                </a:lnTo>
                <a:lnTo>
                  <a:pt x="10458" y="12760"/>
                </a:lnTo>
                <a:lnTo>
                  <a:pt x="10443" y="12743"/>
                </a:lnTo>
                <a:lnTo>
                  <a:pt x="10417" y="12703"/>
                </a:lnTo>
                <a:lnTo>
                  <a:pt x="10398" y="12680"/>
                </a:lnTo>
                <a:lnTo>
                  <a:pt x="10384" y="12663"/>
                </a:lnTo>
                <a:lnTo>
                  <a:pt x="10368" y="12632"/>
                </a:lnTo>
                <a:lnTo>
                  <a:pt x="10358" y="12621"/>
                </a:lnTo>
                <a:lnTo>
                  <a:pt x="10338" y="12598"/>
                </a:lnTo>
                <a:lnTo>
                  <a:pt x="10308" y="12573"/>
                </a:lnTo>
                <a:lnTo>
                  <a:pt x="10299" y="12561"/>
                </a:lnTo>
                <a:lnTo>
                  <a:pt x="10277" y="12535"/>
                </a:lnTo>
                <a:lnTo>
                  <a:pt x="10261" y="12512"/>
                </a:lnTo>
                <a:lnTo>
                  <a:pt x="10239" y="12482"/>
                </a:lnTo>
                <a:lnTo>
                  <a:pt x="10218" y="12453"/>
                </a:lnTo>
                <a:lnTo>
                  <a:pt x="10215" y="12442"/>
                </a:lnTo>
                <a:lnTo>
                  <a:pt x="10200" y="12422"/>
                </a:lnTo>
                <a:lnTo>
                  <a:pt x="10193" y="12415"/>
                </a:lnTo>
                <a:lnTo>
                  <a:pt x="10187" y="12409"/>
                </a:lnTo>
                <a:lnTo>
                  <a:pt x="10180" y="12402"/>
                </a:lnTo>
                <a:lnTo>
                  <a:pt x="10191" y="12456"/>
                </a:lnTo>
                <a:lnTo>
                  <a:pt x="10201" y="12514"/>
                </a:lnTo>
                <a:lnTo>
                  <a:pt x="10220" y="12561"/>
                </a:lnTo>
                <a:lnTo>
                  <a:pt x="10249" y="12633"/>
                </a:lnTo>
                <a:lnTo>
                  <a:pt x="10299" y="12703"/>
                </a:lnTo>
                <a:lnTo>
                  <a:pt x="10339" y="12779"/>
                </a:lnTo>
                <a:lnTo>
                  <a:pt x="10396" y="12887"/>
                </a:lnTo>
                <a:lnTo>
                  <a:pt x="10468" y="12985"/>
                </a:lnTo>
                <a:lnTo>
                  <a:pt x="10517" y="13097"/>
                </a:lnTo>
                <a:lnTo>
                  <a:pt x="10517" y="13133"/>
                </a:lnTo>
                <a:lnTo>
                  <a:pt x="10514" y="13143"/>
                </a:lnTo>
                <a:lnTo>
                  <a:pt x="10537" y="13156"/>
                </a:lnTo>
                <a:lnTo>
                  <a:pt x="10490" y="13097"/>
                </a:lnTo>
                <a:lnTo>
                  <a:pt x="10447" y="13035"/>
                </a:lnTo>
                <a:lnTo>
                  <a:pt x="10398" y="12978"/>
                </a:lnTo>
                <a:lnTo>
                  <a:pt x="10335" y="12905"/>
                </a:lnTo>
                <a:lnTo>
                  <a:pt x="10305" y="12842"/>
                </a:lnTo>
                <a:lnTo>
                  <a:pt x="10259" y="12760"/>
                </a:lnTo>
                <a:lnTo>
                  <a:pt x="10243" y="12732"/>
                </a:lnTo>
                <a:lnTo>
                  <a:pt x="10195" y="12702"/>
                </a:lnTo>
                <a:lnTo>
                  <a:pt x="10180" y="12680"/>
                </a:lnTo>
                <a:lnTo>
                  <a:pt x="10163" y="12656"/>
                </a:lnTo>
                <a:lnTo>
                  <a:pt x="10153" y="12617"/>
                </a:lnTo>
                <a:lnTo>
                  <a:pt x="10140" y="12601"/>
                </a:lnTo>
                <a:lnTo>
                  <a:pt x="10080" y="12527"/>
                </a:lnTo>
                <a:lnTo>
                  <a:pt x="10023" y="12447"/>
                </a:lnTo>
                <a:lnTo>
                  <a:pt x="9962" y="12382"/>
                </a:lnTo>
                <a:lnTo>
                  <a:pt x="9905" y="12321"/>
                </a:lnTo>
                <a:lnTo>
                  <a:pt x="9848" y="12273"/>
                </a:lnTo>
                <a:lnTo>
                  <a:pt x="9803" y="12204"/>
                </a:lnTo>
                <a:lnTo>
                  <a:pt x="9788" y="12180"/>
                </a:lnTo>
                <a:lnTo>
                  <a:pt x="9756" y="12141"/>
                </a:lnTo>
                <a:lnTo>
                  <a:pt x="9743" y="12125"/>
                </a:lnTo>
                <a:lnTo>
                  <a:pt x="9731" y="12110"/>
                </a:lnTo>
                <a:lnTo>
                  <a:pt x="9696" y="12067"/>
                </a:lnTo>
                <a:lnTo>
                  <a:pt x="9684" y="12045"/>
                </a:lnTo>
                <a:lnTo>
                  <a:pt x="9662" y="12005"/>
                </a:lnTo>
                <a:lnTo>
                  <a:pt x="9676" y="11995"/>
                </a:lnTo>
                <a:lnTo>
                  <a:pt x="9644" y="11946"/>
                </a:lnTo>
                <a:lnTo>
                  <a:pt x="9640" y="11939"/>
                </a:lnTo>
                <a:lnTo>
                  <a:pt x="9588" y="11892"/>
                </a:lnTo>
                <a:lnTo>
                  <a:pt x="9585" y="11886"/>
                </a:lnTo>
                <a:lnTo>
                  <a:pt x="9567" y="11848"/>
                </a:lnTo>
                <a:lnTo>
                  <a:pt x="9549" y="11808"/>
                </a:lnTo>
                <a:lnTo>
                  <a:pt x="9525" y="11767"/>
                </a:lnTo>
                <a:lnTo>
                  <a:pt x="9507" y="11735"/>
                </a:lnTo>
                <a:lnTo>
                  <a:pt x="9479" y="11709"/>
                </a:lnTo>
                <a:lnTo>
                  <a:pt x="9465" y="11688"/>
                </a:lnTo>
                <a:lnTo>
                  <a:pt x="9450" y="11666"/>
                </a:lnTo>
                <a:lnTo>
                  <a:pt x="9438" y="11645"/>
                </a:lnTo>
                <a:lnTo>
                  <a:pt x="9426" y="11628"/>
                </a:lnTo>
                <a:lnTo>
                  <a:pt x="9388" y="11575"/>
                </a:lnTo>
                <a:lnTo>
                  <a:pt x="9317" y="11513"/>
                </a:lnTo>
                <a:lnTo>
                  <a:pt x="9287" y="11470"/>
                </a:lnTo>
                <a:lnTo>
                  <a:pt x="9267" y="11441"/>
                </a:lnTo>
                <a:lnTo>
                  <a:pt x="9253" y="11388"/>
                </a:lnTo>
                <a:lnTo>
                  <a:pt x="9227" y="11351"/>
                </a:lnTo>
                <a:lnTo>
                  <a:pt x="9199" y="11312"/>
                </a:lnTo>
                <a:lnTo>
                  <a:pt x="9190" y="11286"/>
                </a:lnTo>
                <a:lnTo>
                  <a:pt x="9168" y="11251"/>
                </a:lnTo>
                <a:lnTo>
                  <a:pt x="9185" y="11276"/>
                </a:lnTo>
                <a:lnTo>
                  <a:pt x="9204" y="11325"/>
                </a:lnTo>
                <a:lnTo>
                  <a:pt x="9227" y="11351"/>
                </a:lnTo>
                <a:lnTo>
                  <a:pt x="9304" y="11437"/>
                </a:lnTo>
                <a:lnTo>
                  <a:pt x="9391" y="11551"/>
                </a:lnTo>
                <a:lnTo>
                  <a:pt x="9465" y="11628"/>
                </a:lnTo>
                <a:lnTo>
                  <a:pt x="9503" y="11667"/>
                </a:lnTo>
                <a:lnTo>
                  <a:pt x="9580" y="11705"/>
                </a:lnTo>
                <a:lnTo>
                  <a:pt x="9604" y="11748"/>
                </a:lnTo>
                <a:lnTo>
                  <a:pt x="9624" y="11783"/>
                </a:lnTo>
                <a:lnTo>
                  <a:pt x="9609" y="11790"/>
                </a:lnTo>
                <a:lnTo>
                  <a:pt x="9624" y="11827"/>
                </a:lnTo>
                <a:lnTo>
                  <a:pt x="9622" y="11786"/>
                </a:lnTo>
                <a:lnTo>
                  <a:pt x="9631" y="11769"/>
                </a:lnTo>
                <a:lnTo>
                  <a:pt x="9624" y="11728"/>
                </a:lnTo>
                <a:lnTo>
                  <a:pt x="9614" y="11672"/>
                </a:lnTo>
                <a:lnTo>
                  <a:pt x="9603" y="11579"/>
                </a:lnTo>
                <a:lnTo>
                  <a:pt x="9585" y="11549"/>
                </a:lnTo>
                <a:lnTo>
                  <a:pt x="9566" y="11517"/>
                </a:lnTo>
                <a:lnTo>
                  <a:pt x="9530" y="11512"/>
                </a:lnTo>
                <a:lnTo>
                  <a:pt x="9505" y="11490"/>
                </a:lnTo>
                <a:lnTo>
                  <a:pt x="9467" y="11456"/>
                </a:lnTo>
                <a:lnTo>
                  <a:pt x="9440" y="11439"/>
                </a:lnTo>
                <a:lnTo>
                  <a:pt x="9406" y="11410"/>
                </a:lnTo>
                <a:lnTo>
                  <a:pt x="9391" y="11397"/>
                </a:lnTo>
                <a:lnTo>
                  <a:pt x="9373" y="11372"/>
                </a:lnTo>
                <a:lnTo>
                  <a:pt x="9346" y="11351"/>
                </a:lnTo>
                <a:lnTo>
                  <a:pt x="9331" y="11339"/>
                </a:lnTo>
                <a:lnTo>
                  <a:pt x="9303" y="11338"/>
                </a:lnTo>
                <a:lnTo>
                  <a:pt x="9287" y="11311"/>
                </a:lnTo>
                <a:lnTo>
                  <a:pt x="9273" y="11288"/>
                </a:lnTo>
                <a:lnTo>
                  <a:pt x="9280" y="11228"/>
                </a:lnTo>
                <a:lnTo>
                  <a:pt x="9267" y="11212"/>
                </a:lnTo>
                <a:lnTo>
                  <a:pt x="9246" y="11185"/>
                </a:lnTo>
                <a:lnTo>
                  <a:pt x="9214" y="11180"/>
                </a:lnTo>
                <a:lnTo>
                  <a:pt x="9188" y="11152"/>
                </a:lnTo>
                <a:lnTo>
                  <a:pt x="9168" y="11152"/>
                </a:lnTo>
                <a:lnTo>
                  <a:pt x="9161" y="11152"/>
                </a:lnTo>
                <a:lnTo>
                  <a:pt x="9168" y="11132"/>
                </a:lnTo>
                <a:lnTo>
                  <a:pt x="9190" y="11141"/>
                </a:lnTo>
                <a:lnTo>
                  <a:pt x="9227" y="11166"/>
                </a:lnTo>
                <a:lnTo>
                  <a:pt x="9247" y="11172"/>
                </a:lnTo>
                <a:lnTo>
                  <a:pt x="9289" y="11185"/>
                </a:lnTo>
                <a:lnTo>
                  <a:pt x="9345" y="11187"/>
                </a:lnTo>
                <a:lnTo>
                  <a:pt x="9386" y="11192"/>
                </a:lnTo>
                <a:lnTo>
                  <a:pt x="9540" y="11210"/>
                </a:lnTo>
                <a:lnTo>
                  <a:pt x="9706" y="11192"/>
                </a:lnTo>
                <a:lnTo>
                  <a:pt x="9862" y="11192"/>
                </a:lnTo>
                <a:lnTo>
                  <a:pt x="9871" y="11287"/>
                </a:lnTo>
                <a:lnTo>
                  <a:pt x="9896" y="11340"/>
                </a:lnTo>
                <a:lnTo>
                  <a:pt x="9922" y="11430"/>
                </a:lnTo>
                <a:lnTo>
                  <a:pt x="9936" y="11478"/>
                </a:lnTo>
                <a:lnTo>
                  <a:pt x="9949" y="11521"/>
                </a:lnTo>
                <a:lnTo>
                  <a:pt x="9962" y="11569"/>
                </a:lnTo>
                <a:lnTo>
                  <a:pt x="9970" y="11600"/>
                </a:lnTo>
                <a:lnTo>
                  <a:pt x="9998" y="11660"/>
                </a:lnTo>
                <a:lnTo>
                  <a:pt x="10001" y="11668"/>
                </a:lnTo>
                <a:lnTo>
                  <a:pt x="10012" y="11703"/>
                </a:lnTo>
                <a:lnTo>
                  <a:pt x="10006" y="11754"/>
                </a:lnTo>
                <a:lnTo>
                  <a:pt x="10021" y="11787"/>
                </a:lnTo>
                <a:lnTo>
                  <a:pt x="10043" y="11836"/>
                </a:lnTo>
                <a:lnTo>
                  <a:pt x="10068" y="11902"/>
                </a:lnTo>
                <a:lnTo>
                  <a:pt x="10100" y="11946"/>
                </a:lnTo>
                <a:lnTo>
                  <a:pt x="10130" y="11988"/>
                </a:lnTo>
                <a:lnTo>
                  <a:pt x="10172" y="12038"/>
                </a:lnTo>
                <a:lnTo>
                  <a:pt x="10200" y="12085"/>
                </a:lnTo>
                <a:lnTo>
                  <a:pt x="10200" y="12105"/>
                </a:lnTo>
                <a:lnTo>
                  <a:pt x="10200" y="12112"/>
                </a:lnTo>
                <a:lnTo>
                  <a:pt x="10200" y="12085"/>
                </a:lnTo>
                <a:lnTo>
                  <a:pt x="10168" y="12033"/>
                </a:lnTo>
                <a:lnTo>
                  <a:pt x="10137" y="11977"/>
                </a:lnTo>
                <a:lnTo>
                  <a:pt x="10100" y="11926"/>
                </a:lnTo>
                <a:lnTo>
                  <a:pt x="10050" y="11857"/>
                </a:lnTo>
                <a:lnTo>
                  <a:pt x="10004" y="11762"/>
                </a:lnTo>
                <a:lnTo>
                  <a:pt x="9942" y="11708"/>
                </a:lnTo>
                <a:lnTo>
                  <a:pt x="9912" y="11682"/>
                </a:lnTo>
                <a:lnTo>
                  <a:pt x="9905" y="11662"/>
                </a:lnTo>
                <a:lnTo>
                  <a:pt x="9862" y="11668"/>
                </a:lnTo>
                <a:lnTo>
                  <a:pt x="9833" y="11672"/>
                </a:lnTo>
                <a:lnTo>
                  <a:pt x="9835" y="11706"/>
                </a:lnTo>
                <a:lnTo>
                  <a:pt x="9803" y="11728"/>
                </a:lnTo>
                <a:lnTo>
                  <a:pt x="9796" y="11735"/>
                </a:lnTo>
                <a:lnTo>
                  <a:pt x="9790" y="11741"/>
                </a:lnTo>
                <a:lnTo>
                  <a:pt x="9783" y="11748"/>
                </a:lnTo>
                <a:lnTo>
                  <a:pt x="9769" y="11730"/>
                </a:lnTo>
                <a:lnTo>
                  <a:pt x="9729" y="11681"/>
                </a:lnTo>
                <a:lnTo>
                  <a:pt x="9704" y="11648"/>
                </a:lnTo>
                <a:lnTo>
                  <a:pt x="9668" y="11600"/>
                </a:lnTo>
                <a:lnTo>
                  <a:pt x="9620" y="11560"/>
                </a:lnTo>
                <a:lnTo>
                  <a:pt x="9644" y="11490"/>
                </a:lnTo>
                <a:lnTo>
                  <a:pt x="9654" y="11460"/>
                </a:lnTo>
                <a:lnTo>
                  <a:pt x="9719" y="11424"/>
                </a:lnTo>
                <a:lnTo>
                  <a:pt x="9743" y="11410"/>
                </a:lnTo>
                <a:lnTo>
                  <a:pt x="9793" y="11381"/>
                </a:lnTo>
                <a:lnTo>
                  <a:pt x="9819" y="11382"/>
                </a:lnTo>
                <a:lnTo>
                  <a:pt x="9862" y="11370"/>
                </a:lnTo>
                <a:lnTo>
                  <a:pt x="9869" y="11370"/>
                </a:lnTo>
                <a:lnTo>
                  <a:pt x="9875" y="11370"/>
                </a:lnTo>
                <a:lnTo>
                  <a:pt x="9882" y="11370"/>
                </a:lnTo>
                <a:lnTo>
                  <a:pt x="9892" y="11409"/>
                </a:lnTo>
                <a:lnTo>
                  <a:pt x="9892" y="11447"/>
                </a:lnTo>
                <a:lnTo>
                  <a:pt x="9902" y="11490"/>
                </a:lnTo>
                <a:lnTo>
                  <a:pt x="9916" y="11553"/>
                </a:lnTo>
                <a:lnTo>
                  <a:pt x="9920" y="11599"/>
                </a:lnTo>
                <a:lnTo>
                  <a:pt x="9922" y="11668"/>
                </a:lnTo>
                <a:lnTo>
                  <a:pt x="9923" y="11727"/>
                </a:lnTo>
                <a:lnTo>
                  <a:pt x="9924" y="11767"/>
                </a:lnTo>
                <a:lnTo>
                  <a:pt x="9922" y="11767"/>
                </a:lnTo>
                <a:lnTo>
                  <a:pt x="9847" y="11752"/>
                </a:lnTo>
                <a:lnTo>
                  <a:pt x="9850" y="11640"/>
                </a:lnTo>
                <a:lnTo>
                  <a:pt x="9823" y="11569"/>
                </a:lnTo>
                <a:lnTo>
                  <a:pt x="9798" y="11501"/>
                </a:lnTo>
                <a:lnTo>
                  <a:pt x="9795" y="11438"/>
                </a:lnTo>
                <a:lnTo>
                  <a:pt x="9783" y="11370"/>
                </a:lnTo>
                <a:lnTo>
                  <a:pt x="9783" y="11364"/>
                </a:lnTo>
                <a:lnTo>
                  <a:pt x="9783" y="11357"/>
                </a:lnTo>
                <a:lnTo>
                  <a:pt x="9783" y="11351"/>
                </a:lnTo>
                <a:lnTo>
                  <a:pt x="9803" y="11371"/>
                </a:lnTo>
                <a:lnTo>
                  <a:pt x="9837" y="11368"/>
                </a:lnTo>
                <a:lnTo>
                  <a:pt x="9862" y="11410"/>
                </a:lnTo>
                <a:lnTo>
                  <a:pt x="9891" y="11459"/>
                </a:lnTo>
                <a:lnTo>
                  <a:pt x="9921" y="11539"/>
                </a:lnTo>
                <a:lnTo>
                  <a:pt x="9942" y="11589"/>
                </a:lnTo>
                <a:lnTo>
                  <a:pt x="9967" y="11648"/>
                </a:lnTo>
                <a:lnTo>
                  <a:pt x="9998" y="11707"/>
                </a:lnTo>
                <a:lnTo>
                  <a:pt x="10021" y="11767"/>
                </a:lnTo>
                <a:lnTo>
                  <a:pt x="10051" y="11845"/>
                </a:lnTo>
                <a:lnTo>
                  <a:pt x="10070" y="11927"/>
                </a:lnTo>
                <a:lnTo>
                  <a:pt x="10100" y="12005"/>
                </a:lnTo>
                <a:lnTo>
                  <a:pt x="10139" y="12105"/>
                </a:lnTo>
                <a:lnTo>
                  <a:pt x="10182" y="12190"/>
                </a:lnTo>
                <a:lnTo>
                  <a:pt x="10239" y="12283"/>
                </a:lnTo>
                <a:lnTo>
                  <a:pt x="10290" y="12367"/>
                </a:lnTo>
                <a:lnTo>
                  <a:pt x="10353" y="12447"/>
                </a:lnTo>
                <a:lnTo>
                  <a:pt x="10418" y="12521"/>
                </a:lnTo>
                <a:lnTo>
                  <a:pt x="10492" y="12606"/>
                </a:lnTo>
                <a:lnTo>
                  <a:pt x="10566" y="12696"/>
                </a:lnTo>
                <a:lnTo>
                  <a:pt x="10636" y="12779"/>
                </a:lnTo>
                <a:lnTo>
                  <a:pt x="10693" y="12846"/>
                </a:lnTo>
                <a:lnTo>
                  <a:pt x="10725" y="12933"/>
                </a:lnTo>
                <a:lnTo>
                  <a:pt x="10775" y="12998"/>
                </a:lnTo>
                <a:lnTo>
                  <a:pt x="10823" y="13060"/>
                </a:lnTo>
                <a:lnTo>
                  <a:pt x="10885" y="13114"/>
                </a:lnTo>
                <a:lnTo>
                  <a:pt x="10934" y="13176"/>
                </a:lnTo>
                <a:lnTo>
                  <a:pt x="10972" y="13224"/>
                </a:lnTo>
                <a:lnTo>
                  <a:pt x="11010" y="13294"/>
                </a:lnTo>
                <a:lnTo>
                  <a:pt x="11053" y="13335"/>
                </a:lnTo>
                <a:lnTo>
                  <a:pt x="11093" y="13374"/>
                </a:lnTo>
                <a:lnTo>
                  <a:pt x="11088" y="13380"/>
                </a:lnTo>
                <a:lnTo>
                  <a:pt x="11112" y="13414"/>
                </a:lnTo>
                <a:lnTo>
                  <a:pt x="11122" y="13427"/>
                </a:lnTo>
                <a:lnTo>
                  <a:pt x="11146" y="13465"/>
                </a:lnTo>
                <a:lnTo>
                  <a:pt x="11152" y="13474"/>
                </a:lnTo>
                <a:lnTo>
                  <a:pt x="11175" y="13508"/>
                </a:lnTo>
                <a:lnTo>
                  <a:pt x="11156" y="13498"/>
                </a:lnTo>
                <a:lnTo>
                  <a:pt x="11192" y="13533"/>
                </a:lnTo>
                <a:lnTo>
                  <a:pt x="11201" y="13541"/>
                </a:lnTo>
                <a:lnTo>
                  <a:pt x="11237" y="13583"/>
                </a:lnTo>
                <a:lnTo>
                  <a:pt x="11251" y="13593"/>
                </a:lnTo>
                <a:lnTo>
                  <a:pt x="11279" y="13614"/>
                </a:lnTo>
                <a:lnTo>
                  <a:pt x="11293" y="13618"/>
                </a:lnTo>
                <a:lnTo>
                  <a:pt x="11311" y="13633"/>
                </a:lnTo>
                <a:lnTo>
                  <a:pt x="11332" y="13651"/>
                </a:lnTo>
                <a:lnTo>
                  <a:pt x="11363" y="13684"/>
                </a:lnTo>
                <a:lnTo>
                  <a:pt x="11390" y="13712"/>
                </a:lnTo>
                <a:lnTo>
                  <a:pt x="11417" y="13740"/>
                </a:lnTo>
                <a:lnTo>
                  <a:pt x="11435" y="13760"/>
                </a:lnTo>
                <a:lnTo>
                  <a:pt x="11450" y="13791"/>
                </a:lnTo>
                <a:lnTo>
                  <a:pt x="11465" y="13822"/>
                </a:lnTo>
                <a:lnTo>
                  <a:pt x="11457" y="13860"/>
                </a:lnTo>
                <a:lnTo>
                  <a:pt x="11470" y="13891"/>
                </a:lnTo>
                <a:lnTo>
                  <a:pt x="11487" y="13931"/>
                </a:lnTo>
                <a:lnTo>
                  <a:pt x="11509" y="13975"/>
                </a:lnTo>
                <a:lnTo>
                  <a:pt x="11529" y="14010"/>
                </a:lnTo>
                <a:lnTo>
                  <a:pt x="11539" y="14028"/>
                </a:lnTo>
                <a:lnTo>
                  <a:pt x="11559" y="14056"/>
                </a:lnTo>
                <a:lnTo>
                  <a:pt x="11569" y="14069"/>
                </a:lnTo>
                <a:lnTo>
                  <a:pt x="11576" y="14078"/>
                </a:lnTo>
                <a:lnTo>
                  <a:pt x="11599" y="14094"/>
                </a:lnTo>
                <a:lnTo>
                  <a:pt x="11609" y="14109"/>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Ink 10"/>
          <p:cNvSpPr/>
          <p:nvPr/>
        </p:nvSpPr>
        <p:spPr>
          <a:xfrm>
            <a:off x="3479760" y="3986280"/>
            <a:ext cx="677880" cy="793800"/>
          </a:xfrm>
          <a:custGeom>
            <a:avLst/>
            <a:gdLst/>
            <a:ahLst/>
            <a:rect l="l" t="t" r="r" b="b"/>
            <a:pathLst>
              <a:path w="1886" h="2203">
                <a:moveTo>
                  <a:pt x="9664" y="11073"/>
                </a:moveTo>
                <a:lnTo>
                  <a:pt x="9682" y="11091"/>
                </a:lnTo>
                <a:lnTo>
                  <a:pt x="9686" y="11098"/>
                </a:lnTo>
                <a:lnTo>
                  <a:pt x="9704" y="11093"/>
                </a:lnTo>
                <a:lnTo>
                  <a:pt x="9725" y="11116"/>
                </a:lnTo>
                <a:lnTo>
                  <a:pt x="9741" y="11143"/>
                </a:lnTo>
                <a:lnTo>
                  <a:pt x="9763" y="11172"/>
                </a:lnTo>
                <a:lnTo>
                  <a:pt x="9785" y="11202"/>
                </a:lnTo>
                <a:lnTo>
                  <a:pt x="9829" y="11225"/>
                </a:lnTo>
                <a:lnTo>
                  <a:pt x="9842" y="11251"/>
                </a:lnTo>
                <a:lnTo>
                  <a:pt x="9842" y="11264"/>
                </a:lnTo>
                <a:lnTo>
                  <a:pt x="9842" y="11278"/>
                </a:lnTo>
                <a:lnTo>
                  <a:pt x="9842" y="11291"/>
                </a:lnTo>
                <a:lnTo>
                  <a:pt x="9883" y="11313"/>
                </a:lnTo>
                <a:lnTo>
                  <a:pt x="9889" y="11326"/>
                </a:lnTo>
                <a:lnTo>
                  <a:pt x="9922" y="11351"/>
                </a:lnTo>
                <a:lnTo>
                  <a:pt x="9951" y="11373"/>
                </a:lnTo>
                <a:lnTo>
                  <a:pt x="9974" y="11379"/>
                </a:lnTo>
                <a:lnTo>
                  <a:pt x="10001" y="11410"/>
                </a:lnTo>
                <a:lnTo>
                  <a:pt x="10034" y="11448"/>
                </a:lnTo>
                <a:lnTo>
                  <a:pt x="10067" y="11482"/>
                </a:lnTo>
                <a:lnTo>
                  <a:pt x="10100" y="11509"/>
                </a:lnTo>
                <a:lnTo>
                  <a:pt x="10126" y="11531"/>
                </a:lnTo>
                <a:lnTo>
                  <a:pt x="10123" y="11533"/>
                </a:lnTo>
                <a:lnTo>
                  <a:pt x="10160" y="11549"/>
                </a:lnTo>
                <a:lnTo>
                  <a:pt x="10169" y="11576"/>
                </a:lnTo>
                <a:lnTo>
                  <a:pt x="10169" y="11575"/>
                </a:lnTo>
                <a:lnTo>
                  <a:pt x="10180" y="11609"/>
                </a:lnTo>
                <a:lnTo>
                  <a:pt x="10200" y="11628"/>
                </a:lnTo>
                <a:lnTo>
                  <a:pt x="10238" y="11642"/>
                </a:lnTo>
                <a:lnTo>
                  <a:pt x="10259" y="11668"/>
                </a:lnTo>
                <a:lnTo>
                  <a:pt x="10283" y="11698"/>
                </a:lnTo>
                <a:lnTo>
                  <a:pt x="10368" y="11783"/>
                </a:lnTo>
                <a:lnTo>
                  <a:pt x="10378" y="11807"/>
                </a:lnTo>
                <a:lnTo>
                  <a:pt x="10385" y="11823"/>
                </a:lnTo>
                <a:lnTo>
                  <a:pt x="10370" y="11851"/>
                </a:lnTo>
                <a:lnTo>
                  <a:pt x="10378" y="11867"/>
                </a:lnTo>
                <a:lnTo>
                  <a:pt x="10385" y="11874"/>
                </a:lnTo>
                <a:lnTo>
                  <a:pt x="10412" y="11900"/>
                </a:lnTo>
                <a:lnTo>
                  <a:pt x="10418" y="11906"/>
                </a:lnTo>
                <a:lnTo>
                  <a:pt x="10443" y="11923"/>
                </a:lnTo>
                <a:lnTo>
                  <a:pt x="10489" y="11970"/>
                </a:lnTo>
                <a:lnTo>
                  <a:pt x="10517" y="11986"/>
                </a:lnTo>
                <a:lnTo>
                  <a:pt x="10562" y="12012"/>
                </a:lnTo>
                <a:lnTo>
                  <a:pt x="10577" y="12011"/>
                </a:lnTo>
                <a:lnTo>
                  <a:pt x="10616" y="12045"/>
                </a:lnTo>
                <a:lnTo>
                  <a:pt x="10670" y="12092"/>
                </a:lnTo>
                <a:lnTo>
                  <a:pt x="10722" y="12167"/>
                </a:lnTo>
                <a:lnTo>
                  <a:pt x="10775" y="12204"/>
                </a:lnTo>
                <a:lnTo>
                  <a:pt x="10817" y="12233"/>
                </a:lnTo>
                <a:lnTo>
                  <a:pt x="10855" y="12248"/>
                </a:lnTo>
                <a:lnTo>
                  <a:pt x="10894" y="12283"/>
                </a:lnTo>
                <a:lnTo>
                  <a:pt x="10910" y="12298"/>
                </a:lnTo>
                <a:lnTo>
                  <a:pt x="10965" y="12328"/>
                </a:lnTo>
                <a:lnTo>
                  <a:pt x="10974" y="12343"/>
                </a:lnTo>
                <a:lnTo>
                  <a:pt x="10996" y="12366"/>
                </a:lnTo>
                <a:lnTo>
                  <a:pt x="11002" y="12376"/>
                </a:lnTo>
                <a:lnTo>
                  <a:pt x="10993" y="12402"/>
                </a:lnTo>
                <a:lnTo>
                  <a:pt x="11018" y="12422"/>
                </a:lnTo>
                <a:lnTo>
                  <a:pt x="11033" y="12437"/>
                </a:lnTo>
                <a:lnTo>
                  <a:pt x="11053" y="12462"/>
                </a:lnTo>
                <a:lnTo>
                  <a:pt x="11068" y="12484"/>
                </a:lnTo>
                <a:lnTo>
                  <a:pt x="11076" y="12484"/>
                </a:lnTo>
                <a:lnTo>
                  <a:pt x="11093" y="12521"/>
                </a:lnTo>
                <a:lnTo>
                  <a:pt x="11129" y="12548"/>
                </a:lnTo>
                <a:lnTo>
                  <a:pt x="11174" y="12584"/>
                </a:lnTo>
                <a:lnTo>
                  <a:pt x="11212" y="12621"/>
                </a:lnTo>
                <a:lnTo>
                  <a:pt x="11249" y="12656"/>
                </a:lnTo>
                <a:lnTo>
                  <a:pt x="11272" y="12679"/>
                </a:lnTo>
                <a:lnTo>
                  <a:pt x="11311" y="12700"/>
                </a:lnTo>
                <a:lnTo>
                  <a:pt x="11318" y="12700"/>
                </a:lnTo>
                <a:lnTo>
                  <a:pt x="11324" y="12700"/>
                </a:lnTo>
                <a:lnTo>
                  <a:pt x="11331" y="12700"/>
                </a:lnTo>
                <a:lnTo>
                  <a:pt x="11335" y="12721"/>
                </a:lnTo>
                <a:lnTo>
                  <a:pt x="11350" y="12767"/>
                </a:lnTo>
                <a:lnTo>
                  <a:pt x="11351" y="12779"/>
                </a:lnTo>
                <a:lnTo>
                  <a:pt x="11359" y="12858"/>
                </a:lnTo>
                <a:lnTo>
                  <a:pt x="11330" y="12952"/>
                </a:lnTo>
                <a:lnTo>
                  <a:pt x="11370" y="13018"/>
                </a:lnTo>
                <a:lnTo>
                  <a:pt x="11377" y="13018"/>
                </a:lnTo>
                <a:lnTo>
                  <a:pt x="11383" y="13018"/>
                </a:lnTo>
                <a:lnTo>
                  <a:pt x="11390" y="13018"/>
                </a:lnTo>
                <a:lnTo>
                  <a:pt x="11411" y="13047"/>
                </a:lnTo>
                <a:lnTo>
                  <a:pt x="11399" y="13044"/>
                </a:lnTo>
                <a:lnTo>
                  <a:pt x="11430" y="13077"/>
                </a:lnTo>
                <a:lnTo>
                  <a:pt x="11450" y="13098"/>
                </a:lnTo>
                <a:lnTo>
                  <a:pt x="11464" y="13134"/>
                </a:lnTo>
                <a:lnTo>
                  <a:pt x="11490" y="13156"/>
                </a:lnTo>
                <a:lnTo>
                  <a:pt x="11521" y="13182"/>
                </a:lnTo>
                <a:lnTo>
                  <a:pt x="11536" y="13176"/>
                </a:lnTo>
                <a:lnTo>
                  <a:pt x="11549" y="13216"/>
                </a:lnTo>
                <a:lnTo>
                  <a:pt x="11555" y="13234"/>
                </a:lnTo>
                <a:lnTo>
                  <a:pt x="11545" y="13257"/>
                </a:lnTo>
                <a:lnTo>
                  <a:pt x="11549" y="13275"/>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Box 6"/>
          <p:cNvSpPr/>
          <p:nvPr/>
        </p:nvSpPr>
        <p:spPr>
          <a:xfrm>
            <a:off x="304920" y="228600"/>
            <a:ext cx="86868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Constantia"/>
              </a:rPr>
              <a:t>Resolution-Freytag’s Pyramid</a:t>
            </a:r>
            <a:endParaRPr b="0" lang="en-US" sz="4800" spc="-1" strike="noStrike">
              <a:solidFill>
                <a:srgbClr val="000000"/>
              </a:solidFill>
              <a:latin typeface="Arial"/>
            </a:endParaRPr>
          </a:p>
        </p:txBody>
      </p:sp>
      <p:sp>
        <p:nvSpPr>
          <p:cNvPr id="237" name="TextBox 7"/>
          <p:cNvSpPr/>
          <p:nvPr/>
        </p:nvSpPr>
        <p:spPr>
          <a:xfrm>
            <a:off x="685800" y="1143000"/>
            <a:ext cx="83059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reytag’s Pyramid is divided into seven parts. The sixth and seventh part of Freytag’s Pyramid is called the  Resolution and Dénou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e Resolution is the end of the story: the conclusion. It ties the loose threads and ends of the story. The protagonist usually wins his battle and emerges in victory or he loses in defeat.</a:t>
            </a: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e Dénouement is the complete opposite to the Exposition . The author  end the story with a final explanation and explain what the protagonists feel about the situ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Resolution and Dénouement in “The Cask of Amontillado” is when Montresor  explains that nobody has disturbed Fortunado for half a centu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Arial"/>
            </a:endParaRPr>
          </a:p>
        </p:txBody>
      </p:sp>
      <p:pic>
        <p:nvPicPr>
          <p:cNvPr id="238" name="Picture 5" descr="freytag.bmp"/>
          <p:cNvPicPr/>
          <p:nvPr/>
        </p:nvPicPr>
        <p:blipFill>
          <a:blip r:embed="rId1"/>
          <a:stretch/>
        </p:blipFill>
        <p:spPr>
          <a:xfrm>
            <a:off x="1066680" y="4952880"/>
            <a:ext cx="3353040" cy="1676520"/>
          </a:xfrm>
          <a:prstGeom prst="rect">
            <a:avLst/>
          </a:prstGeom>
          <a:ln w="0">
            <a:noFill/>
          </a:ln>
        </p:spPr>
      </p:pic>
      <p:sp>
        <p:nvSpPr>
          <p:cNvPr id="239" name="Ink 6"/>
          <p:cNvSpPr/>
          <p:nvPr/>
        </p:nvSpPr>
        <p:spPr>
          <a:xfrm>
            <a:off x="3643200" y="5329080"/>
            <a:ext cx="714600" cy="757440"/>
          </a:xfrm>
          <a:custGeom>
            <a:avLst/>
            <a:gdLst/>
            <a:ahLst/>
            <a:rect l="l" t="t" r="r" b="b"/>
            <a:pathLst>
              <a:path w="1986" h="2105">
                <a:moveTo>
                  <a:pt x="10140" y="14883"/>
                </a:moveTo>
                <a:cubicBezTo>
                  <a:pt x="10140" y="15081"/>
                  <a:pt x="10140" y="15280"/>
                  <a:pt x="10140" y="15478"/>
                </a:cubicBezTo>
              </a:path>
              <a:path w="1986" h="2105">
                <a:moveTo>
                  <a:pt x="10120" y="14883"/>
                </a:moveTo>
                <a:cubicBezTo>
                  <a:pt x="10282" y="14883"/>
                  <a:pt x="10438" y="14889"/>
                  <a:pt x="10597" y="14903"/>
                </a:cubicBezTo>
                <a:cubicBezTo>
                  <a:pt x="10641" y="14907"/>
                  <a:pt x="10690" y="14903"/>
                  <a:pt x="10735" y="14903"/>
                </a:cubicBezTo>
              </a:path>
              <a:path w="1986" h="2105">
                <a:moveTo>
                  <a:pt x="10160" y="15180"/>
                </a:moveTo>
                <a:cubicBezTo>
                  <a:pt x="10300" y="15180"/>
                  <a:pt x="10441" y="15169"/>
                  <a:pt x="10577" y="15200"/>
                </a:cubicBezTo>
                <a:cubicBezTo>
                  <a:pt x="10645" y="15215"/>
                  <a:pt x="10658" y="15232"/>
                  <a:pt x="10716" y="15240"/>
                </a:cubicBezTo>
              </a:path>
              <a:path w="1986" h="2105">
                <a:moveTo>
                  <a:pt x="10180" y="15538"/>
                </a:moveTo>
                <a:cubicBezTo>
                  <a:pt x="10319" y="15538"/>
                  <a:pt x="10458" y="15538"/>
                  <a:pt x="10597" y="15538"/>
                </a:cubicBezTo>
              </a:path>
              <a:path w="1986" h="2105">
                <a:moveTo>
                  <a:pt x="10993" y="15518"/>
                </a:moveTo>
                <a:cubicBezTo>
                  <a:pt x="11019" y="15485"/>
                  <a:pt x="11048" y="15453"/>
                  <a:pt x="11073" y="15419"/>
                </a:cubicBezTo>
                <a:cubicBezTo>
                  <a:pt x="11089" y="15398"/>
                  <a:pt x="11167" y="15292"/>
                  <a:pt x="11172" y="15280"/>
                </a:cubicBezTo>
                <a:cubicBezTo>
                  <a:pt x="11189" y="15237"/>
                  <a:pt x="11208" y="15198"/>
                  <a:pt x="11212" y="15161"/>
                </a:cubicBezTo>
                <a:cubicBezTo>
                  <a:pt x="11218" y="15105"/>
                  <a:pt x="11207" y="15069"/>
                  <a:pt x="11232" y="15022"/>
                </a:cubicBezTo>
                <a:cubicBezTo>
                  <a:pt x="11257" y="14974"/>
                  <a:pt x="11246" y="14973"/>
                  <a:pt x="11251" y="14922"/>
                </a:cubicBezTo>
                <a:cubicBezTo>
                  <a:pt x="11251" y="14948"/>
                  <a:pt x="11251" y="14936"/>
                  <a:pt x="11251" y="14962"/>
                </a:cubicBezTo>
                <a:cubicBezTo>
                  <a:pt x="11251" y="15200"/>
                  <a:pt x="11251" y="15439"/>
                  <a:pt x="11251" y="15677"/>
                </a:cubicBezTo>
                <a:cubicBezTo>
                  <a:pt x="11276" y="15656"/>
                  <a:pt x="11296" y="15635"/>
                  <a:pt x="11311" y="15617"/>
                </a:cubicBezTo>
                <a:cubicBezTo>
                  <a:pt x="11363" y="15554"/>
                  <a:pt x="11405" y="15519"/>
                  <a:pt x="11430" y="15438"/>
                </a:cubicBezTo>
                <a:cubicBezTo>
                  <a:pt x="11465" y="15327"/>
                  <a:pt x="11469" y="15254"/>
                  <a:pt x="11490" y="15141"/>
                </a:cubicBezTo>
                <a:cubicBezTo>
                  <a:pt x="11503" y="15070"/>
                  <a:pt x="11518" y="14992"/>
                  <a:pt x="11529" y="14922"/>
                </a:cubicBezTo>
                <a:cubicBezTo>
                  <a:pt x="11533" y="14897"/>
                  <a:pt x="11529" y="14868"/>
                  <a:pt x="11529" y="14843"/>
                </a:cubicBezTo>
              </a:path>
              <a:path w="1986" h="2105">
                <a:moveTo>
                  <a:pt x="11688" y="14962"/>
                </a:moveTo>
                <a:cubicBezTo>
                  <a:pt x="11704" y="14999"/>
                  <a:pt x="11739" y="15043"/>
                  <a:pt x="11748" y="15081"/>
                </a:cubicBezTo>
                <a:cubicBezTo>
                  <a:pt x="11786" y="15239"/>
                  <a:pt x="11748" y="15453"/>
                  <a:pt x="11748" y="15617"/>
                </a:cubicBezTo>
                <a:cubicBezTo>
                  <a:pt x="11748" y="15409"/>
                  <a:pt x="11687" y="15012"/>
                  <a:pt x="11767" y="14843"/>
                </a:cubicBezTo>
                <a:cubicBezTo>
                  <a:pt x="11785" y="14806"/>
                  <a:pt x="11804" y="14803"/>
                  <a:pt x="11847" y="14803"/>
                </a:cubicBezTo>
                <a:cubicBezTo>
                  <a:pt x="11878" y="14803"/>
                  <a:pt x="11906" y="14794"/>
                  <a:pt x="11926" y="14823"/>
                </a:cubicBezTo>
                <a:cubicBezTo>
                  <a:pt x="11953" y="14862"/>
                  <a:pt x="11963" y="14882"/>
                  <a:pt x="11986" y="14922"/>
                </a:cubicBezTo>
                <a:cubicBezTo>
                  <a:pt x="12005" y="14954"/>
                  <a:pt x="12031" y="14970"/>
                  <a:pt x="12045" y="15002"/>
                </a:cubicBezTo>
                <a:cubicBezTo>
                  <a:pt x="12061" y="15040"/>
                  <a:pt x="12081" y="15080"/>
                  <a:pt x="12085" y="15121"/>
                </a:cubicBezTo>
                <a:cubicBezTo>
                  <a:pt x="12089" y="15157"/>
                  <a:pt x="12105" y="15177"/>
                  <a:pt x="12105" y="15220"/>
                </a:cubicBezTo>
                <a:cubicBezTo>
                  <a:pt x="12105" y="15289"/>
                  <a:pt x="12130" y="15484"/>
                  <a:pt x="12085" y="15518"/>
                </a:cubicBezTo>
                <a:cubicBezTo>
                  <a:pt x="12056" y="15539"/>
                  <a:pt x="12030" y="15555"/>
                  <a:pt x="12005" y="15577"/>
                </a:cubicBezTo>
                <a:cubicBezTo>
                  <a:pt x="11977" y="15602"/>
                  <a:pt x="11963" y="15597"/>
                  <a:pt x="11926" y="15597"/>
                </a:cubicBezTo>
                <a:cubicBezTo>
                  <a:pt x="11873" y="15597"/>
                  <a:pt x="11820" y="15597"/>
                  <a:pt x="11767" y="15597"/>
                </a:cubicBezTo>
              </a:path>
              <a:path w="1986" h="2105">
                <a:moveTo>
                  <a:pt x="11628" y="15855"/>
                </a:moveTo>
                <a:cubicBezTo>
                  <a:pt x="11628" y="15882"/>
                  <a:pt x="11628" y="15908"/>
                  <a:pt x="11628" y="15935"/>
                </a:cubicBezTo>
                <a:cubicBezTo>
                  <a:pt x="11641" y="15949"/>
                  <a:pt x="11666" y="15997"/>
                  <a:pt x="11688" y="16014"/>
                </a:cubicBezTo>
                <a:cubicBezTo>
                  <a:pt x="11728" y="16045"/>
                  <a:pt x="11750" y="16076"/>
                  <a:pt x="11787" y="16113"/>
                </a:cubicBezTo>
                <a:cubicBezTo>
                  <a:pt x="11810" y="16136"/>
                  <a:pt x="11861" y="16181"/>
                  <a:pt x="11867" y="16212"/>
                </a:cubicBezTo>
                <a:cubicBezTo>
                  <a:pt x="11874" y="16248"/>
                  <a:pt x="11881" y="16279"/>
                  <a:pt x="11886" y="16312"/>
                </a:cubicBezTo>
                <a:cubicBezTo>
                  <a:pt x="11906" y="16435"/>
                  <a:pt x="11828" y="16691"/>
                  <a:pt x="11906" y="16788"/>
                </a:cubicBezTo>
                <a:cubicBezTo>
                  <a:pt x="11928" y="16815"/>
                  <a:pt x="11938" y="16855"/>
                  <a:pt x="11946" y="16887"/>
                </a:cubicBezTo>
                <a:cubicBezTo>
                  <a:pt x="11946" y="16894"/>
                  <a:pt x="11946" y="16900"/>
                  <a:pt x="11946" y="1690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Ink 7"/>
          <p:cNvSpPr/>
          <p:nvPr/>
        </p:nvSpPr>
        <p:spPr>
          <a:xfrm>
            <a:off x="3200400" y="6535800"/>
            <a:ext cx="528480" cy="1440"/>
          </a:xfrm>
          <a:custGeom>
            <a:avLst/>
            <a:gdLst/>
            <a:ahLst/>
            <a:rect l="l" t="t" r="r" b="b"/>
            <a:pathLst>
              <a:path w="1469" h="1">
                <a:moveTo>
                  <a:pt x="8890" y="18157"/>
                </a:moveTo>
                <a:lnTo>
                  <a:pt x="9379" y="18157"/>
                </a:lnTo>
                <a:lnTo>
                  <a:pt x="9869" y="18157"/>
                </a:lnTo>
                <a:lnTo>
                  <a:pt x="10358" y="18157"/>
                </a:lnTo>
                <a:close/>
              </a:path>
            </a:pathLst>
          </a:custGeom>
          <a:noFill/>
          <a:ln cap="sq" w="127080">
            <a:solidFill>
              <a:srgbClr val="ff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1" name="Ink 8"/>
          <p:cNvSpPr/>
          <p:nvPr/>
        </p:nvSpPr>
        <p:spPr>
          <a:xfrm>
            <a:off x="3471840" y="6072120"/>
            <a:ext cx="1440" cy="336600"/>
          </a:xfrm>
          <a:custGeom>
            <a:avLst/>
            <a:gdLst/>
            <a:ahLst/>
            <a:rect l="l" t="t" r="r" b="b"/>
            <a:pathLst>
              <a:path w="1" h="934">
                <a:moveTo>
                  <a:pt x="9644" y="16867"/>
                </a:moveTo>
                <a:lnTo>
                  <a:pt x="9644" y="17178"/>
                </a:lnTo>
                <a:lnTo>
                  <a:pt x="9644" y="17489"/>
                </a:lnTo>
                <a:lnTo>
                  <a:pt x="9644" y="17800"/>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Ink 9"/>
          <p:cNvSpPr/>
          <p:nvPr/>
        </p:nvSpPr>
        <p:spPr>
          <a:xfrm>
            <a:off x="3486240" y="5800680"/>
            <a:ext cx="7920" cy="322200"/>
          </a:xfrm>
          <a:custGeom>
            <a:avLst/>
            <a:gdLst/>
            <a:ahLst/>
            <a:rect l="l" t="t" r="r" b="b"/>
            <a:pathLst>
              <a:path w="21" h="894">
                <a:moveTo>
                  <a:pt x="9684" y="16113"/>
                </a:moveTo>
                <a:lnTo>
                  <a:pt x="9684" y="16173"/>
                </a:lnTo>
                <a:lnTo>
                  <a:pt x="9694" y="16222"/>
                </a:lnTo>
                <a:lnTo>
                  <a:pt x="9704" y="16272"/>
                </a:lnTo>
                <a:lnTo>
                  <a:pt x="9749" y="16495"/>
                </a:lnTo>
                <a:lnTo>
                  <a:pt x="9704" y="16777"/>
                </a:lnTo>
                <a:lnTo>
                  <a:pt x="9704" y="17006"/>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Ink 10"/>
          <p:cNvSpPr/>
          <p:nvPr/>
        </p:nvSpPr>
        <p:spPr>
          <a:xfrm>
            <a:off x="3486240" y="6086520"/>
            <a:ext cx="865080" cy="1440"/>
          </a:xfrm>
          <a:custGeom>
            <a:avLst/>
            <a:gdLst/>
            <a:ahLst/>
            <a:rect l="l" t="t" r="r" b="b"/>
            <a:pathLst>
              <a:path w="2402" h="1">
                <a:moveTo>
                  <a:pt x="9684" y="16907"/>
                </a:moveTo>
                <a:lnTo>
                  <a:pt x="10484" y="16907"/>
                </a:lnTo>
                <a:lnTo>
                  <a:pt x="11285" y="16907"/>
                </a:lnTo>
                <a:lnTo>
                  <a:pt x="12085" y="16907"/>
                </a:lnTo>
                <a:close/>
              </a:path>
            </a:pathLst>
          </a:custGeom>
          <a:noFill/>
          <a:ln cap="sq" w="127080">
            <a:solidFill>
              <a:srgbClr val="ff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4" name="Ink 11"/>
          <p:cNvSpPr/>
          <p:nvPr/>
        </p:nvSpPr>
        <p:spPr>
          <a:xfrm>
            <a:off x="3735360" y="6300720"/>
            <a:ext cx="601560" cy="22320"/>
          </a:xfrm>
          <a:custGeom>
            <a:avLst/>
            <a:gdLst/>
            <a:ahLst/>
            <a:rect l="l" t="t" r="r" b="b"/>
            <a:pathLst>
              <a:path w="1668" h="61">
                <a:moveTo>
                  <a:pt x="10378" y="17562"/>
                </a:moveTo>
                <a:lnTo>
                  <a:pt x="10504" y="17562"/>
                </a:lnTo>
                <a:lnTo>
                  <a:pt x="10629" y="17562"/>
                </a:lnTo>
                <a:lnTo>
                  <a:pt x="10755" y="17562"/>
                </a:lnTo>
                <a:lnTo>
                  <a:pt x="10779" y="17550"/>
                </a:lnTo>
                <a:lnTo>
                  <a:pt x="10780" y="17542"/>
                </a:lnTo>
                <a:lnTo>
                  <a:pt x="10835" y="17542"/>
                </a:lnTo>
                <a:lnTo>
                  <a:pt x="10878" y="17542"/>
                </a:lnTo>
                <a:lnTo>
                  <a:pt x="10902" y="17528"/>
                </a:lnTo>
                <a:lnTo>
                  <a:pt x="10934" y="17522"/>
                </a:lnTo>
                <a:lnTo>
                  <a:pt x="11247" y="17463"/>
                </a:lnTo>
                <a:lnTo>
                  <a:pt x="11601" y="17563"/>
                </a:lnTo>
                <a:lnTo>
                  <a:pt x="11906" y="17502"/>
                </a:lnTo>
                <a:lnTo>
                  <a:pt x="11948" y="17494"/>
                </a:lnTo>
                <a:lnTo>
                  <a:pt x="12003" y="17502"/>
                </a:lnTo>
                <a:lnTo>
                  <a:pt x="12045" y="17502"/>
                </a:lnTo>
                <a:close/>
              </a:path>
            </a:pathLst>
          </a:custGeom>
          <a:noFill/>
          <a:ln cap="sq" w="127080">
            <a:solidFill>
              <a:srgbClr val="ffff00">
                <a:alpha val="33000"/>
              </a:srgbClr>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45" name="Ink 12"/>
          <p:cNvSpPr/>
          <p:nvPr/>
        </p:nvSpPr>
        <p:spPr>
          <a:xfrm>
            <a:off x="3778200" y="6243480"/>
            <a:ext cx="515880" cy="1800"/>
          </a:xfrm>
          <a:custGeom>
            <a:avLst/>
            <a:gdLst/>
            <a:ahLst/>
            <a:rect l="l" t="t" r="r" b="b"/>
            <a:pathLst>
              <a:path w="1430" h="1">
                <a:moveTo>
                  <a:pt x="10497" y="17343"/>
                </a:moveTo>
                <a:lnTo>
                  <a:pt x="10973" y="17343"/>
                </a:lnTo>
                <a:lnTo>
                  <a:pt x="11450" y="17343"/>
                </a:lnTo>
                <a:lnTo>
                  <a:pt x="11926" y="17343"/>
                </a:lnTo>
                <a:close/>
              </a:path>
            </a:pathLst>
          </a:custGeom>
          <a:noFill/>
          <a:ln cap="sq" w="127080">
            <a:solidFill>
              <a:srgbClr val="ffff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6" name="Ink 13"/>
          <p:cNvSpPr/>
          <p:nvPr/>
        </p:nvSpPr>
        <p:spPr>
          <a:xfrm>
            <a:off x="3728880" y="6194520"/>
            <a:ext cx="565200" cy="63360"/>
          </a:xfrm>
          <a:custGeom>
            <a:avLst/>
            <a:gdLst/>
            <a:ahLst/>
            <a:rect l="l" t="t" r="r" b="b"/>
            <a:pathLst>
              <a:path w="1569" h="179">
                <a:moveTo>
                  <a:pt x="10358" y="17383"/>
                </a:moveTo>
                <a:lnTo>
                  <a:pt x="10358" y="17345"/>
                </a:lnTo>
                <a:lnTo>
                  <a:pt x="10342" y="17267"/>
                </a:lnTo>
                <a:lnTo>
                  <a:pt x="10378" y="17244"/>
                </a:lnTo>
                <a:lnTo>
                  <a:pt x="10385" y="17244"/>
                </a:lnTo>
                <a:lnTo>
                  <a:pt x="10391" y="17244"/>
                </a:lnTo>
                <a:lnTo>
                  <a:pt x="10398" y="17244"/>
                </a:lnTo>
                <a:lnTo>
                  <a:pt x="10419" y="17228"/>
                </a:lnTo>
                <a:lnTo>
                  <a:pt x="10397" y="17231"/>
                </a:lnTo>
                <a:lnTo>
                  <a:pt x="10438" y="17224"/>
                </a:lnTo>
                <a:lnTo>
                  <a:pt x="10456" y="17214"/>
                </a:lnTo>
                <a:lnTo>
                  <a:pt x="10457" y="17207"/>
                </a:lnTo>
                <a:lnTo>
                  <a:pt x="10497" y="17205"/>
                </a:lnTo>
                <a:lnTo>
                  <a:pt x="10970" y="17178"/>
                </a:lnTo>
                <a:lnTo>
                  <a:pt x="11452" y="17205"/>
                </a:lnTo>
                <a:lnTo>
                  <a:pt x="11926" y="17205"/>
                </a:lnTo>
                <a:close/>
              </a:path>
            </a:pathLst>
          </a:custGeom>
          <a:noFill/>
          <a:ln cap="sq" w="127080">
            <a:solidFill>
              <a:srgbClr val="ffff00">
                <a:alpha val="33000"/>
              </a:srgbClr>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47" name="Ink 14"/>
          <p:cNvSpPr/>
          <p:nvPr/>
        </p:nvSpPr>
        <p:spPr>
          <a:xfrm>
            <a:off x="3471840" y="6094440"/>
            <a:ext cx="7920" cy="342720"/>
          </a:xfrm>
          <a:custGeom>
            <a:avLst/>
            <a:gdLst/>
            <a:ahLst/>
            <a:rect l="l" t="t" r="r" b="b"/>
            <a:pathLst>
              <a:path w="21" h="953">
                <a:moveTo>
                  <a:pt x="9664" y="17879"/>
                </a:moveTo>
                <a:lnTo>
                  <a:pt x="9664" y="17814"/>
                </a:lnTo>
                <a:lnTo>
                  <a:pt x="9652" y="17760"/>
                </a:lnTo>
                <a:lnTo>
                  <a:pt x="9644" y="17701"/>
                </a:lnTo>
                <a:lnTo>
                  <a:pt x="9611" y="17453"/>
                </a:lnTo>
                <a:lnTo>
                  <a:pt x="9644" y="17178"/>
                </a:lnTo>
                <a:lnTo>
                  <a:pt x="9644" y="16927"/>
                </a:lnTo>
                <a:close/>
              </a:path>
            </a:pathLst>
          </a:custGeom>
          <a:noFill/>
          <a:ln cap="sq" w="12708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0T16:26:24Z</dcterms:created>
  <dc:creator>Owner</dc:creator>
  <dc:description/>
  <dc:language>en-US</dc:language>
  <cp:lastModifiedBy>Owner</cp:lastModifiedBy>
  <dcterms:modified xsi:type="dcterms:W3CDTF">2009-06-03T05:09:01Z</dcterms:modified>
  <cp:revision>21</cp:revision>
  <dc:subject/>
  <dc:title>Freytag’s Pyramid</dc:title>
</cp:coreProperties>
</file>