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2615-129F-462C-A8C2-BE0E1618E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0E84-C6C7-43BA-9B34-6E6A0F999DD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7A8E-8395-4B4F-B951-8D7FBCA8CE7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D868-BBB6-4005-B9AD-26536F8D0609}"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4D2F-BAF5-4062-B42C-1F3E25E4761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D852-B37C-4B2D-95D6-BE98D463B0C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DC61-4766-41B1-B45A-AC4CCFB1626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37CF-93B5-49A6-AA5C-8ED99C6DB0D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408B-D702-4C0F-9878-7784294AD9D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DFA0-5684-4B17-ADB4-9202C45E277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38CF-AB39-4E5D-97E5-DFAED058148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2B04-46AD-4823-912D-EAA96D6789F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40BA-AF45-4570-BCBB-C853E9A141B4}"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F626-7A21-4924-8C5B-DF9676CB526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164C-D8E4-4D92-9934-E18260E0851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1B7E-45FB-4002-900C-30A9AB1B821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241D-3558-4A4A-B5D8-18B42FF937B4}"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335D-B614-48EB-A18C-9423BECCDE0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7D68-D434-4373-A679-D5DD88CEFB99}"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FDC4A-7776-4861-80BB-3C1D45348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5E4A-9D77-489C-87D3-11F70170A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50FC5-D2D6-4BA2-BB1A-1D7617B04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45375-0CEB-4AE4-B8A3-415CD4A83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D4CE2-AA09-4409-913F-9B391950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16DD-457D-409F-9BD3-D31705831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11522-8597-4F1F-A9BC-0981FF10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538C8-6C7D-4331-A00A-9F68E057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CCA8-DE35-4B7B-8E17-FB319FEFD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253F-CA22-4B1B-A98A-6BD25D8B7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A3E1-05AB-4D84-8E70-AB272642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5A8EA-9AAD-4230-B8E0-1C4718564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49E0-BCC9-4F7B-ACAA-4519FAB7B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1:54Z</dcterms:modified>
  <cp:revision>142</cp:revision>
  <dc:subject/>
  <dc:title>PowerPoint Presentation</dc:title>
</cp:coreProperties>
</file>