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halkboard"/>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move the slide</a:t>
            </a:r>
            <a:endParaRPr b="0" lang="en-US" sz="4400" spc="-1" strike="noStrike">
              <a:solidFill>
                <a:srgbClr val="000000"/>
              </a:solidFill>
              <a:latin typeface="Chalkboard"/>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1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7ACE-A998-4FC6-B6A4-57C7D37C2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B755-4E6E-4B80-972E-8FC11A8A74F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fied Plo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 basic triangle-shaped plot structure was described by Aristotle in 350 BCE. Aristotle used the beginning, middle, and end structure to describe a story that moved along a linear path, following a chain of cause and effect as it works toward the solution of a conflict or crisis.</a:t>
            </a:r>
            <a:r>
              <a:rPr b="0" lang="en-US" sz="1000" spc="-1" strike="noStrike">
                <a:solidFill>
                  <a:srgbClr val="000000"/>
                </a:solidFill>
                <a:latin typeface="Arial Narrow"/>
              </a:rPr>
              <a:t>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F0FD-A00F-4984-BDFF-A33433E1E66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Linear Plots:</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ronological – The plot follows the events in the order in which they occurr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back – The plot looks back at events that have already happen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 Medias Res – The story starts in the middle of the action without exposition.</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ircular Plots – Circular stories follow a “round” pattern:  they begin and end in the same way or at the same point.  Like the cycle of seasons or the life cycle, circular stories follow a predictable series of events that returns to the starting point.  </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pisodic Plots – Episodic stories look at events as if they are episodes, meaning they aren’t one long story that flows together, but instead they are separate moments that can stand alone.  The readers sees this moment in a person’s life, and then they see a moment that happens many years later, or then they see a moment that happened a few years before.  The episodes will not necessarily develop according to the rules of cause and effect; that is, one scene does not always lead to the nex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ypertextual – Hypertextual plots are the sort of thing you would find online where you as the reader can choose what to click on next, meaning you determine where you are going to go next and what you are going to read next.  Hypertextual plots are like “Choose Your Own Adventures,” where you help decide what happens in the story, and you can choose differently any time you read i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f a story that you are reading does not fit into the triangle structure, think about why the author would choose a different story structure and how the structure has changed.</a:t>
            </a: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1B51-0172-49B9-8786-C3936F6255A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int of View – PoV is the perspective through which the story is told.  In short stories, who tells the story and how it is told are critical issues for an author to decide.  The tone and feel of the story, and even its meaning, can change radically depending on who is telling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member, someone is always between the reader and the action of the story.  That someone is telling the story from his or her own point of view.  This angle of vision, the point of view from which the people, events, and details of a story are viewed, is important to consider when reading a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1E52-89B8-4FCD-97D2-3A7FF98F1458}"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rrator – The narrator is the storyteller.  The narrator is the filter through whom the story passes from the book to the reader.  The narrator is the character who most influences our understanding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ese questions can help you determine who the narrator of a story is.  It’s also important to think about and consider the narrator’s intentions and motives in telling the story.  </a:t>
            </a:r>
            <a:endParaRPr b="0" lang="en-US" sz="1000" spc="-1" strike="noStrike">
              <a:solidFill>
                <a:srgbClr val="000000"/>
              </a:solidFill>
              <a:latin typeface="Chalkboard"/>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2851-AC40-4259-AAC7-F38D521DF11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en reading stories in the first person, we need to realize that what the narrator is recounting might not be the objective truth.  We should question the trustworthiness of the narrator and his/her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dgar Allan Poe’s narrators are notoriously unreliable, untrustworthy, and incredible.  As readers, we have to carefully consider whether we can believe what the narrator is telling us.  We have to question what we are told.</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y might a narrator be unreliabl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have something to lose or something to gain by telling only a specific version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under the influence of something or some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incompetent in some way.</a:t>
            </a:r>
            <a:endParaRPr b="0" lang="en-US" sz="1000" spc="-1" strike="noStrike">
              <a:solidFill>
                <a:srgbClr val="000000"/>
              </a:solidFill>
              <a:latin typeface="Chalkboard"/>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ACCC-A455-417B-AD48-6CF72E830A1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690B-D70C-445A-B271-DA420E30AF09}"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bjective Point of View – With the objective point of view, also called “Impersonal Narration,” the writer tells what happens without stating more than can be inferred from the story's action and dialogue. The narrator never discloses anything about what the characters think or feel, remaining a detached observ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rst Person Point of View – The narrator tells his/her own story.  We read about what is happening to him/her and share his/her own thoughts.  We know only what the narrator knows, and we really only understand his/her perspectiv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rd Person Point of View – Here the narrator does not participate in the action of the story as one of the characters, but rather is an outside observer who lets us know exactly what the characters think and how the characters feel.  We learn about the characters through this outside voic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mniscient – The narrator knows everything about all the characters; the narrator is all-knowing or “omniscient.”   The narrator can get inside all the characters’ head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mited Omniscient – The narrator’s knowledge is limited to one character, either major or minor, so the narrator only knows what that one character thinks and feels.  The narrator can get inside only that one character’s head.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 you read, interpret, and analyze a short story, consider such questions about point of view.</a:t>
            </a:r>
            <a:endParaRPr b="0" lang="en-US" sz="1000" spc="-1" strike="noStrike">
              <a:solidFill>
                <a:srgbClr val="000000"/>
              </a:solidFill>
              <a:latin typeface="Chalkboard"/>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DDF2-8113-4F83-8750-41141BACEC0C}"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5FFA-00F5-4E39-8141-486C0BA141D8}"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 – Theme is the central idea, central message, or point of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t offers some kind of insight into the human condition, meaning it says something about human nature and life.  It can also give a social commentary, meaning it says something about our society and culture or current event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s can be stated directly or implied by the characters and events in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on themes in Poe’s stories includ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ing and death and our views, thoughts, and emotions about dying and death.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ve and hate and how we can feel these opposite emotions at the same tim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Self and the Alter Ego, meaning we have a divided self or a dual identity, each representing different parts of ourselves.  Some parts we like and identify with, and other parts we don’t like and try to disow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EC1C-F4AE-4A97-93A2-9FF51C0EAA2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characteristics or traits of a short story.</a:t>
            </a:r>
            <a:endParaRPr b="0" lang="en-US" sz="1000" spc="-1" strike="noStrike">
              <a:solidFill>
                <a:srgbClr val="000000"/>
              </a:solidFill>
              <a:latin typeface="Chalkboard"/>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E42D-9B5D-47EB-8A16-20063ECFEB8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elements” of a short story.  These are the literary terms you need to know as you read, interpret, and analyze short stories.  </a:t>
            </a:r>
            <a:endParaRPr b="0" lang="en-US" sz="1000" spc="-1" strike="noStrike">
              <a:solidFill>
                <a:srgbClr val="000000"/>
              </a:solidFill>
              <a:latin typeface="Chalkboard"/>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4F6D-4E98-4190-B2A0-FB0C083AEAF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relates to the plot, characters, conflict, and theme.  Sometimes setting can be very important to a story, playing a major role in the conflict or the theme.  Other times, setting is not important; it is bland or vague so that readers can imagine the story happening anywhere.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establishes the “atmosphere” or the “mood”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storical – Time period.  For example:  during WWII, 1906, today.  Edgar Allan Poe’s short stories take place in the mid-1800s.</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ographical – Country, state, city, landscape, weather.  For example:  Africa, London, the mountains, Chicago, a deserted hotel, a rain storm, a blizzard.</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o-economical – The socio-economic characteristics of the location, the daily life of the characters in the story, the social situation, the economic situation.  For example:  wealthy suburbs, impoverished camp of migrant workers, aristocratic New York.</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pecific location – Type of building, etc.  For example:  boarding school, haunted house, the wine cellar of a historic mansion, a car, a train, etc.</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is the setting of the </a:t>
            </a:r>
            <a:r>
              <a:rPr b="0" i="1" lang="en-US" sz="1000" spc="-1" strike="noStrike">
                <a:solidFill>
                  <a:srgbClr val="000000"/>
                </a:solidFill>
                <a:latin typeface="Arial Narrow"/>
              </a:rPr>
              <a:t>Harry Potter</a:t>
            </a:r>
            <a:r>
              <a:rPr b="0" lang="en-US" sz="1000" spc="-1" strike="noStrike">
                <a:solidFill>
                  <a:srgbClr val="000000"/>
                </a:solidFill>
                <a:latin typeface="Arial Narrow"/>
              </a:rPr>
              <a:t> series?  What is the setting of other stories you’ve read latel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we were to write a story that takes place at USM, how would we describe the setting? </a:t>
            </a:r>
            <a:endParaRPr b="0" lang="en-US" sz="1000" spc="-1" strike="noStrike">
              <a:solidFill>
                <a:srgbClr val="000000"/>
              </a:solidFill>
              <a:latin typeface="Chalkboard"/>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1CB1-694E-4A44-9748-0474FAE9B29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aracterization drives the plot.  Establishing who the characters are, what conflicts they are facing, and how they act and react in the conflicts is at the heart of the plot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und – Characters who are convincing, true to life.  They have many different, and sometimes contradictory, personality traits.  The reader feels like they really know the character.</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t – Characters who are stereotyped, shallow, and often symbolic.  They have only one or two personality traits.  They simply play a role or fill in a space in the story; they’re not major players in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 A character who undergoes some type of change or development in the story, often because of something that happens to them.  The reader sees the character grow, learn, change, or develop over the course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atic – A character who does not change in the course of the story.  The character is the same at the end as s/he was at the beginning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o are some of your favorite characters in stories or books?  Are they round or flat?  Are the dynamic or static?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F83C-6396-41F0-9BC3-E93DB486EF8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tagonist – The protagonist is the main character in a literary work.  We usually think of the protagonist as the “good guy,” though this may not always be the cas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tagonist – The antagonist is the character who opposes the protagonist; this is the character the protagonist is in conflict with.  We usually think of the antagonist as the “bad guy,” though this may not always be the case eith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l – The foil is a character whose personality and attitude is opposite the personality and attitude of another character.  Because these characters contrast, each makes the personality of the other stand out.  For example:  Harry Potter and Draco Malfoy are foils.  In this example, Harry is the protagonist, Voldemort is the antagonist, and Draco is the foi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B196-BC56-4031-A54F-2DAEEC93D33C}"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EA92-17CE-4251-8520-F7D4B49CAC9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flict is the dramatic struggle between two forces in a story.  Without conflict, there is no plot.  Conflicts are internal or external.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rnal – happens within the character.  The character is faced with a moral dilemma, a big decision, conflicting emotions, or other psychological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ternal – happens in the world.  The character is in conflict with another person or group of people, the character is faced with some kind of challenging situation, the character must survive difficult circumstances, and so o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hysical – Character has to survive in a threatening conflict.  For example:  climbing Mt. Everest, finding the way home, living in a war z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assical – Character is in conflict with another person or a group of people.  For example:  being outcast from a group of friends, dealing with a bully, hunting down a crimina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al – Character is challenging the status quo or going against what is considered to be “normal.”  For example:  going against custom and refusing an arranged marriage, refusing to take part in a school tradition, standing up for someone or something that everyone else rejects or disli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sychological – Character is facing something within himself or herself.  Conflict is within the character’s mind, body, and/or spirit.  For example:  facing cancer (Tieg’s example), facing one’s fears, having to decide what is right or wrong, dealing with a traged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are some of the conflicts you’ve read about lately?</a:t>
            </a:r>
            <a:endParaRPr b="0" lang="en-US" sz="10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2E28-ACC2-431F-ABE0-5D5B117B4174}"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t – The plot is the structure of the story.  It’s the arrangement of action and events in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usality – “Cause and Effect,” meaning one event causes another or one event occurs because of another.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eshadowing – Hints or suggests what is going to happe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spense – A sense of worry established by the autho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C155-7DDC-44F9-B5B3-B376A79D3FA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eytag’s Pyramid maps out the general plot structure of a story.  Gustav Freytag was a Nineteenth Century German novelist who saw common patterns in the plots of stories and novels and developed a diagram to analyze them.</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osition – The setting and mood or atmosphere are established at the beginning of the story.  We meet the main characters and learn about their positions, circumstances, and relationships to one another.  Part of the Exposition is the “Inciting Incident,” also called the “complication” or the “narrative hook.”  The Inciting Incident is the event that sets off the conflict that continues throughout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ising Action – This is the series of events, conflicts, and crises in the story that lead up to the climax, providing the progressive intensity, and complicate the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max – This is the turning point of the story.  A crucial event takes place and from this point forward, the protagonist moves toward his/her inevitable end.  The event may be either an action or a mental decision that the protagonist ma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lling Action – This is the events occurring from the time of the climax to the end of the story.  The main character may encounter more conflicts in this part of the story, but the end is inevitabl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solution, which includes the “Denouement” – Resolution is the tying up of loose ends and all of the threads in the story.  It’s the conclusion.  The protagonist either emerges triumphant or is defeated at this point.  The Denouement is the opposite of Exposition:  instead of getting ready to tell us the story by introducing the setting and characters, the author is getting ready to end it with a final explanation of what actually happened and how the chracters think or feel about i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ies can start and stop in any place on Freytag’s Pyramid.  Not every story has all five parts.  For example, a story could start right in the middle of the action, so it doesn’t have Exposition, but rather begins with the Rising Action.  A story could also cut out right after the Climax, meaning it has no Falling Action or Resolution.  The reader has to fill in the gaps using his/her imagination.</a:t>
            </a:r>
            <a:endParaRPr b="0" lang="en-US" sz="10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D9233-36FB-4C1E-9B82-AF6EF57A5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9705D-0B4F-4464-95DC-7644DF2A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A1800-7643-44D0-8CE9-EB7884BC5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6FFE5-498A-499E-984E-1C52594AB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00D7-938B-4ECA-B24D-94CD5429C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C34B-A878-4F7E-8AA1-E4F6306F1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1F3CB-0CA3-4CE0-AAE8-75109D304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B0832-FE44-4238-8783-1DC29EE12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E780-7F51-4F86-A7D9-7A6DB7B56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9EB6-120E-4792-9517-49456A667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841D-CB63-4853-83E6-1577AE1BA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4A959-9DCD-4DA7-9DB4-F919E063D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FE36-52D7-49F5-B53F-DA461E928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5"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66"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Chalkboard"/>
            </a:endParaRPr>
          </a:p>
        </p:txBody>
      </p:sp>
      <p:sp>
        <p:nvSpPr>
          <p:cNvPr id="67"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8"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9"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0"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1"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2"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Short Stories</a:t>
            </a:r>
            <a:endParaRPr b="0" lang="en-US" sz="4400" spc="-1" strike="noStrike">
              <a:solidFill>
                <a:srgbClr val="000000"/>
              </a:solidFill>
              <a:latin typeface="Chalkboard"/>
            </a:endParaRPr>
          </a:p>
        </p:txBody>
      </p:sp>
      <p:sp>
        <p:nvSpPr>
          <p:cNvPr id="119" name="PlaceHolder 2"/>
          <p:cNvSpPr>
            <a:spLocks noGrp="1"/>
          </p:cNvSpPr>
          <p:nvPr>
            <p:ph type="subTitle"/>
          </p:nvPr>
        </p:nvSpPr>
        <p:spPr>
          <a:xfrm>
            <a:off x="685800" y="2209680"/>
            <a:ext cx="7848720" cy="3810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re the elements of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Freytag’s Pyramid?</a:t>
            </a:r>
            <a:endParaRPr b="0" lang="en-US" sz="3200" spc="-1" strike="noStrike">
              <a:solidFill>
                <a:srgbClr val="000000"/>
              </a:solidFill>
              <a:latin typeface="Chalkboar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s</a:t>
            </a:r>
            <a:endParaRPr b="0" lang="en-US" sz="4400" spc="-1" strike="noStrike">
              <a:solidFill>
                <a:srgbClr val="000000"/>
              </a:solidFill>
              <a:latin typeface="Chalkboard"/>
            </a:endParaRPr>
          </a:p>
        </p:txBody>
      </p:sp>
      <p:sp>
        <p:nvSpPr>
          <p:cNvPr id="143" name=""/>
          <p:cNvSpPr txBox="1"/>
          <p:nvPr/>
        </p:nvSpPr>
        <p:spPr>
          <a:xfrm>
            <a:off x="685440" y="1981080"/>
            <a:ext cx="38098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nified Plot</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Beginning, Middle, and End</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in of Events</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use and Effect</a:t>
            </a:r>
            <a:endParaRPr b="0" lang="en-US" sz="2800" spc="-1" strike="noStrike">
              <a:solidFill>
                <a:srgbClr val="000000"/>
              </a:solidFill>
              <a:latin typeface="Chalkboard"/>
            </a:endParaRPr>
          </a:p>
        </p:txBody>
      </p:sp>
      <p:grpSp>
        <p:nvGrpSpPr>
          <p:cNvPr id="144" name="Group 6"/>
          <p:cNvGrpSpPr/>
          <p:nvPr/>
        </p:nvGrpSpPr>
        <p:grpSpPr>
          <a:xfrm>
            <a:off x="4648320" y="1981080"/>
            <a:ext cx="3809520" cy="4114440"/>
            <a:chOff x="4648320" y="1981080"/>
            <a:chExt cx="3809520" cy="4114440"/>
          </a:xfrm>
        </p:grpSpPr>
        <p:sp>
          <p:nvSpPr>
            <p:cNvPr id="145" name="AutoShape 7"/>
            <p:cNvSpPr/>
            <p:nvPr/>
          </p:nvSpPr>
          <p:spPr>
            <a:xfrm>
              <a:off x="5565240" y="2820960"/>
              <a:ext cx="1963440" cy="25214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halkboard"/>
              </a:endParaRPr>
            </a:p>
          </p:txBody>
        </p:sp>
        <p:sp>
          <p:nvSpPr>
            <p:cNvPr id="146" name="Oval 8"/>
            <p:cNvSpPr/>
            <p:nvPr/>
          </p:nvSpPr>
          <p:spPr>
            <a:xfrm>
              <a:off x="4648320" y="5255640"/>
              <a:ext cx="1600560" cy="839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halkboard"/>
                </a:rPr>
                <a:t>beginning</a:t>
              </a:r>
              <a:endParaRPr b="0" lang="en-US" sz="1400" spc="-1" strike="noStrike">
                <a:solidFill>
                  <a:srgbClr val="000000"/>
                </a:solidFill>
                <a:latin typeface="Chalkboard"/>
              </a:endParaRPr>
            </a:p>
          </p:txBody>
        </p:sp>
        <p:sp>
          <p:nvSpPr>
            <p:cNvPr id="147" name="Oval 9"/>
            <p:cNvSpPr/>
            <p:nvPr/>
          </p:nvSpPr>
          <p:spPr>
            <a:xfrm>
              <a:off x="5715000" y="1981080"/>
              <a:ext cx="1676520" cy="8398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middle</a:t>
              </a:r>
              <a:endParaRPr b="0" lang="en-US" sz="1600" spc="-1" strike="noStrike">
                <a:solidFill>
                  <a:srgbClr val="000000"/>
                </a:solidFill>
                <a:latin typeface="Chalkboard"/>
              </a:endParaRPr>
            </a:p>
          </p:txBody>
        </p:sp>
        <p:sp>
          <p:nvSpPr>
            <p:cNvPr id="148" name="Oval 10"/>
            <p:cNvSpPr/>
            <p:nvPr/>
          </p:nvSpPr>
          <p:spPr>
            <a:xfrm>
              <a:off x="6857280" y="5255640"/>
              <a:ext cx="1600560" cy="83988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end</a:t>
              </a:r>
              <a:endParaRPr b="0" lang="en-US" sz="1600" spc="-1" strike="noStrike">
                <a:solidFill>
                  <a:srgbClr val="000000"/>
                </a:solidFill>
                <a:latin typeface="Chalkboard"/>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a:t>
            </a:r>
            <a:endParaRPr b="0" lang="en-US" sz="4400" spc="-1" strike="noStrike">
              <a:solidFill>
                <a:srgbClr val="000000"/>
              </a:solidFill>
              <a:latin typeface="Chalkboard"/>
            </a:endParaRPr>
          </a:p>
        </p:txBody>
      </p:sp>
      <p:pic>
        <p:nvPicPr>
          <p:cNvPr id="150" name="Content Placeholder 4" descr="OldBooks.jpg"/>
          <p:cNvPicPr/>
          <p:nvPr/>
        </p:nvPicPr>
        <p:blipFill>
          <a:blip r:embed="rId1"/>
          <a:stretch/>
        </p:blipFill>
        <p:spPr>
          <a:xfrm>
            <a:off x="731880" y="1981080"/>
            <a:ext cx="3717720" cy="4114800"/>
          </a:xfrm>
          <a:prstGeom prst="rect">
            <a:avLst/>
          </a:prstGeom>
          <a:ln w="0">
            <a:noFill/>
          </a:ln>
        </p:spPr>
      </p:pic>
      <p:sp>
        <p:nvSpPr>
          <p:cNvPr id="15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Linear</a:t>
            </a:r>
            <a:endParaRPr b="0" lang="en-US" sz="28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ronological</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lashback</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 Medias Res</a:t>
            </a:r>
            <a:endParaRPr b="0" lang="en-US" sz="2400" spc="-1" strike="noStrike">
              <a:solidFill>
                <a:srgbClr val="000000"/>
              </a:solidFill>
              <a:latin typeface="Chalkboard"/>
            </a:endParaRPr>
          </a:p>
          <a:p>
            <a:pPr lvl="1" marL="743040" indent="-28584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ircular</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pisodic</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Hypertextual</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53" name=""/>
          <p:cNvSpPr txBox="1"/>
          <p:nvPr/>
        </p:nvSpPr>
        <p:spPr>
          <a:xfrm>
            <a:off x="685800" y="3276360"/>
            <a:ext cx="7772400" cy="34290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antage point" of the narrativ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oice or consciousness through which we understand the story and that shapes what we think and how we feel about everything in the story.</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54" name="TextBox 4"/>
          <p:cNvSpPr/>
          <p:nvPr/>
        </p:nvSpPr>
        <p:spPr>
          <a:xfrm>
            <a:off x="609480" y="20574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perspective through which </a:t>
            </a:r>
            <a:endParaRPr b="0" lang="en-US" sz="3200" spc="-1" strike="noStrike">
              <a:solidFill>
                <a:srgbClr val="000000"/>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story is told.</a:t>
            </a:r>
            <a:endParaRPr b="0" lang="en-US" sz="3200" spc="-1" strike="noStrike">
              <a:solidFill>
                <a:srgbClr val="000000"/>
              </a:solidFill>
              <a:latin typeface="Chalkboar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 Narrator</a:t>
            </a:r>
            <a:endParaRPr b="0" lang="en-US" sz="4400" spc="-1" strike="noStrike">
              <a:solidFill>
                <a:srgbClr val="000000"/>
              </a:solidFill>
              <a:latin typeface="Chalkboard"/>
            </a:endParaRPr>
          </a:p>
        </p:txBody>
      </p:sp>
      <p:sp>
        <p:nvSpPr>
          <p:cNvPr id="156" name=""/>
          <p:cNvSpPr txBox="1"/>
          <p:nvPr/>
        </p:nvSpPr>
        <p:spPr>
          <a:xfrm>
            <a:off x="685800" y="1980720"/>
            <a:ext cx="7772400" cy="4876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Narrator:</a:t>
            </a: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Questions to help determine who the narrator of the story is:</a:t>
            </a:r>
            <a:endParaRPr b="0" lang="en-US" sz="26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tells the story?</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rough whose eyes do we see the events?</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se thoughts, feelings, and opinions do we know?</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analyzes the events? </a:t>
            </a:r>
            <a:endParaRPr b="0" lang="en-US" sz="24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Unreliable Narrators</a:t>
            </a:r>
            <a:endParaRPr b="0" lang="en-US" sz="4400" spc="-1" strike="noStrike">
              <a:solidFill>
                <a:srgbClr val="000000"/>
              </a:solidFill>
              <a:latin typeface="Chalkboard"/>
            </a:endParaRPr>
          </a:p>
        </p:txBody>
      </p:sp>
      <p:sp>
        <p:nvSpPr>
          <p:cNvPr id="158" name=""/>
          <p:cNvSpPr txBox="1"/>
          <p:nvPr/>
        </p:nvSpPr>
        <p:spPr>
          <a:xfrm>
            <a:off x="685440" y="1981080"/>
            <a:ext cx="3809880" cy="4114800"/>
          </a:xfrm>
          <a:prstGeom prst="rect">
            <a:avLst/>
          </a:prstGeom>
          <a:noFill/>
          <a:ln w="0">
            <a:noFill/>
          </a:ln>
        </p:spPr>
        <p:txBody>
          <a:bodyPr anchor="t">
            <a:normAutofit fontScale="91000"/>
          </a:bodyPr>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First Person PoV – We know only what the narrator wants us to know.</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isn’t telling us the whole story?</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cannot be trusted?</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Is the narrator credible?</a:t>
            </a:r>
            <a:endParaRPr b="0" lang="en-US" sz="2500" spc="-1" strike="noStrike">
              <a:solidFill>
                <a:srgbClr val="000000"/>
              </a:solidFill>
              <a:latin typeface="Chalkboard"/>
            </a:endParaRPr>
          </a:p>
        </p:txBody>
      </p:sp>
      <p:pic>
        <p:nvPicPr>
          <p:cNvPr id="159" name="Content Placeholder 4" descr="Poe.jpg"/>
          <p:cNvPicPr/>
          <p:nvPr/>
        </p:nvPicPr>
        <p:blipFill>
          <a:blip r:embed="rId1"/>
          <a:stretch/>
        </p:blipFill>
        <p:spPr>
          <a:xfrm>
            <a:off x="4959360" y="2209680"/>
            <a:ext cx="3187800" cy="3657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oint of View</a:t>
            </a:r>
            <a:endParaRPr b="0" lang="en-US" sz="4400" spc="-1" strike="noStrike">
              <a:solidFill>
                <a:srgbClr val="000000"/>
              </a:solidFill>
              <a:latin typeface="Chalkboard"/>
            </a:endParaRPr>
          </a:p>
        </p:txBody>
      </p:sp>
      <p:sp>
        <p:nvSpPr>
          <p:cNvPr id="161" name=""/>
          <p:cNvSpPr txBox="1"/>
          <p:nvPr/>
        </p:nvSpPr>
        <p:spPr>
          <a:xfrm>
            <a:off x="609120" y="2057040"/>
            <a:ext cx="8001000" cy="3886200"/>
          </a:xfrm>
          <a:prstGeom prst="rect">
            <a:avLst/>
          </a:prstGeom>
          <a:noFill/>
          <a:ln w="0">
            <a:noFill/>
          </a:ln>
        </p:spPr>
        <p:txBody>
          <a:bodyPr anchor="t">
            <a:normAutofit/>
          </a:bodyPr>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First Person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Third Person PoV:</a:t>
            </a:r>
            <a:endParaRPr b="0" lang="en-US" sz="2800" spc="-1" strike="noStrike">
              <a:solidFill>
                <a:srgbClr val="000000"/>
              </a:solidFill>
              <a:latin typeface="Chalkboard"/>
            </a:endParaRPr>
          </a:p>
          <a:p>
            <a:pPr marL="343080" indent="-343080">
              <a:lnSpc>
                <a:spcPct val="90000"/>
              </a:lnSpc>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Omniscient:</a:t>
            </a:r>
            <a:endParaRPr b="0" lang="en-US" sz="2400" spc="-1" strike="noStrike">
              <a:solidFill>
                <a:srgbClr val="000000"/>
              </a:solidFill>
              <a:latin typeface="Chalkboard"/>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Limited Omniscient:</a:t>
            </a:r>
            <a:endParaRPr b="0" lang="en-US" sz="24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affect our responses to the characters?</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shape our understanding and interpretations? </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is our response influenced by how much the narrator knows and how objective and reliable s/he is? </a:t>
            </a:r>
            <a:endParaRPr b="0" lang="en-US" sz="2600" spc="-1" strike="noStrike">
              <a:solidFill>
                <a:srgbClr val="000000"/>
              </a:solidFill>
              <a:latin typeface="Chalkboard"/>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What might happen if another point of view took charge and told the story his/her way?</a:t>
            </a:r>
            <a:endParaRPr b="0" lang="en-US" sz="2600" spc="-1" strike="noStrike">
              <a:solidFill>
                <a:srgbClr val="000000"/>
              </a:solidFill>
              <a:latin typeface="Chalkboard"/>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me</a:t>
            </a:r>
            <a:endParaRPr b="0" lang="en-US" sz="4400" spc="-1" strike="noStrike">
              <a:solidFill>
                <a:srgbClr val="000000"/>
              </a:solidFill>
              <a:latin typeface="Chalkboard"/>
            </a:endParaRPr>
          </a:p>
        </p:txBody>
      </p:sp>
      <p:pic>
        <p:nvPicPr>
          <p:cNvPr id="165" name="Content Placeholder 4" descr="PileofBooks.jpg"/>
          <p:cNvPicPr/>
          <p:nvPr/>
        </p:nvPicPr>
        <p:blipFill>
          <a:blip r:embed="rId1"/>
          <a:stretch/>
        </p:blipFill>
        <p:spPr>
          <a:xfrm>
            <a:off x="1217520" y="2286000"/>
            <a:ext cx="2746440" cy="4114800"/>
          </a:xfrm>
          <a:prstGeom prst="rect">
            <a:avLst/>
          </a:prstGeom>
          <a:ln w="0">
            <a:noFill/>
          </a:ln>
        </p:spPr>
      </p:pic>
      <p:sp>
        <p:nvSpPr>
          <p:cNvPr id="166" name=""/>
          <p:cNvSpPr txBox="1"/>
          <p:nvPr/>
        </p:nvSpPr>
        <p:spPr>
          <a:xfrm>
            <a:off x="4647960" y="1981080"/>
            <a:ext cx="3809880" cy="4114800"/>
          </a:xfrm>
          <a:prstGeom prst="rect">
            <a:avLst/>
          </a:prstGeom>
          <a:noFill/>
          <a:ln w="0">
            <a:noFill/>
          </a:ln>
        </p:spPr>
        <p:txBody>
          <a:bodyPr anchor="t">
            <a:normAutofit fontScale="92000"/>
          </a:bodyPr>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ntrolling idea or central insight.</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Underlying meaning or main idea.</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Thoughts about a topic.</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View of human nature.</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mmentary on society or culture.</a:t>
            </a:r>
            <a:endParaRPr b="0" lang="en-US" sz="2600" spc="-1" strike="noStrike">
              <a:solidFill>
                <a:srgbClr val="000000"/>
              </a:solidFill>
              <a:latin typeface="Chalkboard"/>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alkboard"/>
              </a:rPr>
              <a:t>QUESTIONS?</a:t>
            </a:r>
            <a:endParaRPr b="0" lang="en-US" sz="4000" spc="-1" strike="noStrike">
              <a:solidFill>
                <a:srgbClr val="000000"/>
              </a:solidFill>
              <a:latin typeface="Chalkboard"/>
            </a:endParaRPr>
          </a:p>
        </p:txBody>
      </p:sp>
      <p:sp>
        <p:nvSpPr>
          <p:cNvPr id="1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are the elements of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Freytag’s Pyramid?</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What is a short story?</a:t>
            </a:r>
            <a:endParaRPr b="0" lang="en-US" sz="4400" spc="-1" strike="noStrike">
              <a:solidFill>
                <a:srgbClr val="000000"/>
              </a:solidFill>
              <a:latin typeface="Chalkboard"/>
            </a:endParaRPr>
          </a:p>
        </p:txBody>
      </p:sp>
      <p:sp>
        <p:nvSpPr>
          <p:cNvPr id="121" name=""/>
          <p:cNvSpPr txBox="1"/>
          <p:nvPr/>
        </p:nvSpPr>
        <p:spPr>
          <a:xfrm>
            <a:off x="68544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hort work of fiction.</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Generally centers on one climactic event.</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sually develops only a single character.</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n be read in one sitting.</a:t>
            </a:r>
            <a:endParaRPr b="0" lang="en-US" sz="2800" spc="-1" strike="noStrike">
              <a:solidFill>
                <a:srgbClr val="000000"/>
              </a:solidFill>
              <a:latin typeface="Chalkboard"/>
            </a:endParaRPr>
          </a:p>
        </p:txBody>
      </p:sp>
      <p:pic>
        <p:nvPicPr>
          <p:cNvPr id="122" name="Content Placeholder 6" descr="ShortStories.jpg"/>
          <p:cNvPicPr/>
          <p:nvPr/>
        </p:nvPicPr>
        <p:blipFill>
          <a:blip r:embed="rId1"/>
          <a:stretch/>
        </p:blipFill>
        <p:spPr>
          <a:xfrm>
            <a:off x="4875120" y="1981080"/>
            <a:ext cx="335592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Elements of a Short Story</a:t>
            </a:r>
            <a:endParaRPr b="0" lang="en-US" sz="4400" spc="-1" strike="noStrike">
              <a:solidFill>
                <a:srgbClr val="000000"/>
              </a:solidFill>
              <a:latin typeface="Chalkboard"/>
            </a:endParaRPr>
          </a:p>
        </p:txBody>
      </p:sp>
      <p:pic>
        <p:nvPicPr>
          <p:cNvPr id="124" name="Content Placeholder 6" descr="Books.jpg"/>
          <p:cNvPicPr/>
          <p:nvPr/>
        </p:nvPicPr>
        <p:blipFill>
          <a:blip r:embed="rId1"/>
          <a:stretch/>
        </p:blipFill>
        <p:spPr>
          <a:xfrm>
            <a:off x="824040" y="1981080"/>
            <a:ext cx="3533760" cy="4114800"/>
          </a:xfrm>
          <a:prstGeom prst="rect">
            <a:avLst/>
          </a:prstGeom>
          <a:ln w="0">
            <a:noFill/>
          </a:ln>
        </p:spPr>
      </p:pic>
      <p:sp>
        <p:nvSpPr>
          <p:cNvPr id="125" name=""/>
          <p:cNvSpPr txBox="1"/>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Setting</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haracter</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onflic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lo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oint of View</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Theme</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halkboar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Setting</a:t>
            </a:r>
            <a:endParaRPr b="0" lang="en-US" sz="4400" spc="-1" strike="noStrike">
              <a:solidFill>
                <a:srgbClr val="000000"/>
              </a:solidFill>
              <a:latin typeface="Chalkboar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Histor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Geograph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ocio-econom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pecific location:</a:t>
            </a:r>
            <a:endParaRPr b="0" lang="en-US" sz="3200" spc="-1" strike="noStrike">
              <a:solidFill>
                <a:srgbClr val="000000"/>
              </a:solidFill>
              <a:latin typeface="Chalkboard"/>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What are examples of setting?</a:t>
            </a:r>
            <a:endParaRPr b="0" lang="en-US" sz="3200" spc="-1" strike="noStrike">
              <a:solidFill>
                <a:srgbClr val="000000"/>
              </a:solidFill>
              <a:latin typeface="Chalkboar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racterization</a:t>
            </a:r>
            <a:r>
              <a:rPr b="0" lang="en-US" sz="2800" spc="-1" strike="noStrike">
                <a:solidFill>
                  <a:srgbClr val="000000"/>
                </a:solidFill>
                <a:latin typeface="Chalkboard"/>
              </a:rPr>
              <a:t> – The creation and development of a character through actions, speech, thoughts, appearance, and the other characters’ opinions of him/her.</a:t>
            </a:r>
            <a:endParaRPr b="0" lang="en-US" sz="2800" spc="-1" strike="noStrike">
              <a:solidFill>
                <a:srgbClr val="000000"/>
              </a:solidFill>
              <a:latin typeface="Chalkboard"/>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Round vs. Flat:</a:t>
            </a:r>
            <a:endParaRPr b="0" lang="en-US" sz="2800" spc="-1" strike="noStrike">
              <a:solidFill>
                <a:srgbClr val="000000"/>
              </a:solidFill>
              <a:latin typeface="Chalkboar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Dynamic vs. Static:</a:t>
            </a:r>
            <a:endParaRPr b="0" lang="en-US" sz="2800" spc="-1" strike="noStrike">
              <a:solidFill>
                <a:srgbClr val="000000"/>
              </a:solidFill>
              <a:latin typeface="Chalkboar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o are some of your favorite characters?</a:t>
            </a:r>
            <a:endParaRPr b="0" lang="en-US" sz="2800" spc="-1" strike="noStrike">
              <a:solidFill>
                <a:srgbClr val="000000"/>
              </a:solidFill>
              <a:latin typeface="Chalkboar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ro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n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il:</a:t>
            </a:r>
            <a:endParaRPr b="0" lang="en-US" sz="3200" spc="-1" strike="noStrike">
              <a:solidFill>
                <a:srgbClr val="000000"/>
              </a:solidFill>
              <a:latin typeface="Chalkboar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onflict</a:t>
            </a:r>
            <a:endParaRPr b="0" lang="en-US" sz="4400" spc="-1" strike="noStrike">
              <a:solidFill>
                <a:srgbClr val="000000"/>
              </a:solidFill>
              <a:latin typeface="Chalkboard"/>
            </a:endParaRPr>
          </a:p>
        </p:txBody>
      </p:sp>
      <p:sp>
        <p:nvSpPr>
          <p:cNvPr id="133" name="PlaceHolder 2"/>
          <p:cNvSpPr>
            <a:spLocks noGrp="1"/>
          </p:cNvSpPr>
          <p:nvPr>
            <p:ph/>
          </p:nvPr>
        </p:nvSpPr>
        <p:spPr>
          <a:xfrm>
            <a:off x="456840" y="187452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XTERNAL</a:t>
            </a:r>
            <a:endParaRPr b="0" lang="en-US" sz="2800" spc="-1" strike="noStrike">
              <a:solidFill>
                <a:srgbClr val="000000"/>
              </a:solidFill>
              <a:latin typeface="Chalkboard"/>
            </a:endParaRPr>
          </a:p>
        </p:txBody>
      </p:sp>
      <p:sp>
        <p:nvSpPr>
          <p:cNvPr id="134" name=""/>
          <p:cNvSpPr txBox="1"/>
          <p:nvPr/>
        </p:nvSpPr>
        <p:spPr>
          <a:xfrm>
            <a:off x="456840" y="2525760"/>
            <a:ext cx="404028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hysical </a:t>
            </a:r>
            <a:r>
              <a:rPr b="0" lang="en-US" sz="2800" spc="-1" strike="noStrike">
                <a:solidFill>
                  <a:srgbClr val="000000"/>
                </a:solidFill>
                <a:latin typeface="Chalkboard"/>
              </a:rPr>
              <a:t>(human vs. nature)</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lassical</a:t>
            </a:r>
            <a:r>
              <a:rPr b="0" lang="en-US" sz="2800" spc="-1" strike="noStrike">
                <a:solidFill>
                  <a:srgbClr val="000000"/>
                </a:solidFill>
                <a:latin typeface="Chalkboard"/>
              </a:rPr>
              <a:t> (human vs. human)</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ocial </a:t>
            </a:r>
            <a:r>
              <a:rPr b="0" lang="en-US" sz="2800" spc="-1" strike="noStrike">
                <a:solidFill>
                  <a:srgbClr val="000000"/>
                </a:solidFill>
                <a:latin typeface="Chalkboard"/>
              </a:rPr>
              <a:t>(human vs. society)</a:t>
            </a:r>
            <a:endParaRPr b="0" lang="en-US" sz="2800" spc="-1" strike="noStrike">
              <a:solidFill>
                <a:srgbClr val="000000"/>
              </a:solidFill>
              <a:latin typeface="Chalkboard"/>
            </a:endParaRPr>
          </a:p>
        </p:txBody>
      </p:sp>
      <p:sp>
        <p:nvSpPr>
          <p:cNvPr id="135" name="PlaceHolder 3"/>
          <p:cNvSpPr>
            <a:spLocks noGrp="1"/>
          </p:cNvSpPr>
          <p:nvPr>
            <p:ph/>
          </p:nvPr>
        </p:nvSpPr>
        <p:spPr>
          <a:xfrm>
            <a:off x="4644720" y="187452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INTERNAL</a:t>
            </a:r>
            <a:endParaRPr b="0" lang="en-US" sz="2800" spc="-1" strike="noStrike">
              <a:solidFill>
                <a:srgbClr val="000000"/>
              </a:solidFill>
              <a:latin typeface="Chalkboard"/>
            </a:endParaRPr>
          </a:p>
        </p:txBody>
      </p:sp>
      <p:sp>
        <p:nvSpPr>
          <p:cNvPr id="136" name=""/>
          <p:cNvSpPr txBox="1"/>
          <p:nvPr/>
        </p:nvSpPr>
        <p:spPr>
          <a:xfrm>
            <a:off x="4644720" y="2525760"/>
            <a:ext cx="404172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sychological </a:t>
            </a:r>
            <a:r>
              <a:rPr b="0" lang="en-US" sz="2800" spc="-1" strike="noStrike">
                <a:solidFill>
                  <a:srgbClr val="000000"/>
                </a:solidFill>
                <a:latin typeface="Chalkboard"/>
              </a:rPr>
              <a:t>(human vs. self)</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	</a:t>
            </a:r>
            <a:r>
              <a:rPr b="1" lang="en-US" sz="2800" spc="-1" strike="noStrike">
                <a:solidFill>
                  <a:srgbClr val="000000"/>
                </a:solidFill>
                <a:latin typeface="Chalkboard"/>
              </a:rPr>
              <a:t>What are some of the conflicts you’ve read about lately?</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lot</a:t>
            </a:r>
            <a:endParaRPr b="0" lang="en-US" sz="4400" spc="-1" strike="noStrike">
              <a:solidFill>
                <a:srgbClr val="000000"/>
              </a:solidFill>
              <a:latin typeface="Chalkboard"/>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lot:</a:t>
            </a: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Other literary terms related to plo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ausality:</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reshadowing:</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uspense:</a:t>
            </a:r>
            <a:endParaRPr b="0" lang="en-US" sz="3200" spc="-1" strike="noStrike">
              <a:solidFill>
                <a:srgbClr val="000000"/>
              </a:solidFill>
              <a:latin typeface="Chalkboar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4120" y="4248000"/>
            <a:ext cx="183960" cy="476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Chalkboard"/>
            </a:endParaRPr>
          </a:p>
        </p:txBody>
      </p:sp>
      <p:pic>
        <p:nvPicPr>
          <p:cNvPr id="140" name="Content Placeholder 11" descr="Freytag's Pyramid.jpg"/>
          <p:cNvPicPr/>
          <p:nvPr/>
        </p:nvPicPr>
        <p:blipFill>
          <a:blip r:embed="rId1"/>
          <a:stretch/>
        </p:blipFill>
        <p:spPr>
          <a:xfrm>
            <a:off x="914400" y="2335320"/>
            <a:ext cx="7367760" cy="36846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Freytag’s Pyramid</a:t>
            </a:r>
            <a:endParaRPr b="0" lang="en-US" sz="4400" spc="-1" strike="noStrike">
              <a:solidFill>
                <a:srgbClr val="000000"/>
              </a:solidFill>
              <a:latin typeface="Chalkboar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4:39:39Z</dcterms:created>
  <dc:creator>Laurie Barth</dc:creator>
  <dc:description/>
  <dc:language>en-US</dc:language>
  <cp:lastModifiedBy>Owner</cp:lastModifiedBy>
  <dcterms:modified xsi:type="dcterms:W3CDTF">2009-06-03T05:02:05Z</dcterms:modified>
  <cp:revision>141</cp:revision>
  <dc:subject/>
  <dc:title>PowerPoint Presentation</dc:title>
</cp:coreProperties>
</file>