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FC7F-33DF-48F4-9144-AC0128B6648A}"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A968-D497-4FB1-961C-6BDA77F674E1}"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22F67-3506-4C1A-B990-ECD03D32C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9C4A-C6BC-4CB7-B81E-9C256E202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2216A-8F4C-4511-8CAD-A2285E162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9D82F-97A2-4862-941D-C7CEFF3BF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52BF1-CE9A-43AF-8BF0-59259C80A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2BD0E-6D67-4396-A536-2BE977EFB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68D5-CBA0-4A73-B8A1-B27AD34A2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D2AB-0960-43A0-99AC-5EA2FB80E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094A7-C242-4868-B36C-29BAC387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ACA4-E6E0-4F41-B9CB-BE52B51E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1FD8-5062-4C41-A1E3-E2036D4B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16FD-F002-42B3-80B4-7EB3136ED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D9EB-A50B-4772-951F-3FA948396069}"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ELUCIDATE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bitra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other form of the word ARBI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nstable, or unpredictabl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ERRATIC?</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n dreams of being the hero and ______ the villian to the groun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FETTERING in a sentenc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r. Jacobs often advises people to show his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SAGACITY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mption from punish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6002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look or visage, or appear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UNTENA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at or Pone due to humil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STRA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Edic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rnful, or haugh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synonyms for DISDAINFU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omething parents often do when you get a bad report car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5000"/>
                    </a:srgbClr>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75000"/>
                  </a:srgbClr>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ID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09480" y="1143000"/>
            <a:ext cx="80773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nstant nagging of the bratty little girl caused loads of _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 VEXATION in a senten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KAM Mayella and Bob do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rjur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DILEMM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hoice between two difficult option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09480" y="19051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unninghams were poor, but they were not _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STITU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P wanted to impress his smart girlfriend so he wanted to look _____</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o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 </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hapter 7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ll Vocab</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dsummer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KAM</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VOCAB</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RUDIT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art of speech is INTREPID?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3 antonyms for CYNIC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ptimistic, hopeful, idealistic, trusting, believ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mplete disord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AO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fine RANCO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treme hatr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BIGO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2133720"/>
            <a:ext cx="7543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ude, or impertin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olf Hitl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762120" y="1752480"/>
            <a:ext cx="78483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might someone have to DOLE out b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83808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f there is a low supply, and you need to save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2133720"/>
            <a:ext cx="77724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ive an example of a connoisseur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chel Ra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380880" y="380880"/>
            <a:ext cx="7848720" cy="56235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Name what part of speech these three different words are:</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FFICIOUS</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JAUNTY</a:t>
            </a:r>
            <a:endParaRPr b="1" lang="en-US" sz="4800" spc="-1" strike="noStrike">
              <a:solidFill>
                <a:srgbClr val="ff9933"/>
              </a:solidFill>
              <a:latin typeface="Times New Roman"/>
            </a:endParaRPr>
          </a:p>
          <a:p>
            <a:pPr algn="ctr">
              <a:spcBef>
                <a:spcPts val="2999"/>
              </a:spcBef>
              <a:buClr>
                <a:srgbClr val="ff99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OPUS</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1219320"/>
            <a:ext cx="7848720" cy="4529160"/>
          </a:xfrm>
          <a:prstGeom prst="rect">
            <a:avLst/>
          </a:prstGeom>
          <a:noFill/>
          <a:ln w="0">
            <a:noFill/>
          </a:ln>
        </p:spPr>
        <p:style>
          <a:lnRef idx="0"/>
          <a:fillRef idx="0"/>
          <a:effectRef idx="0"/>
          <a:fontRef idx="minor"/>
        </p:style>
        <p:txBody>
          <a:bodyPr lIns="90000" rIns="90000" tIns="46800" bIns="46800" anchor="t">
            <a:spAutoFit/>
          </a:bodyPr>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djective</a:t>
            </a:r>
            <a:endParaRPr b="1" lang="en-US" sz="7200" spc="-1" strike="noStrike">
              <a:solidFill>
                <a:srgbClr val="ff9933"/>
              </a:solidFill>
              <a:latin typeface="Times New Roman"/>
            </a:endParaRPr>
          </a:p>
          <a:p>
            <a:pPr marL="1143000" indent="-1143000" algn="ctr">
              <a:spcBef>
                <a:spcPts val="4501"/>
              </a:spcBef>
              <a:buClr>
                <a:srgbClr val="ff9933"/>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un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22860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IMPUD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plied, or unspok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definition of TAC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685800" y="838080"/>
            <a:ext cx="74674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eacher needed to _____ more on the topic, because things weren’t cle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7:45:31Z</dcterms:created>
  <dc:creator>Valued Customer</dc:creator>
  <dc:description/>
  <dc:language>en-US</dc:language>
  <cp:lastModifiedBy>Owner</cp:lastModifiedBy>
  <dcterms:modified xsi:type="dcterms:W3CDTF">2009-06-03T05:24:25Z</dcterms:modified>
  <cp:revision>42</cp:revision>
  <dc:subject/>
  <dc:title>No Slide Title</dc:title>
</cp:coreProperties>
</file>