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E926-3912-4F0A-BF54-1F04F204F94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F9AD-7148-42A0-BF46-568E194AB3D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9329C-5065-4A22-95B2-7AA2C5CEB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12937-8BFB-44FB-AB2A-85936F354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5047F-55A0-4D1F-A711-A313A325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06D69-7ABB-448F-87F0-AEBFFC856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BBF5-F049-4807-B115-FCB017BC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547E3-9329-40C6-B180-EB664E594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E3FC1-A45F-4725-8B35-68B21393E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1DBA-4CD0-412F-BE96-80AA8F8C0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C287-956F-4B80-931D-D6216A487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B1B6A-BC6F-419A-A6FA-43E9D410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C3C2-BA60-417E-9B9D-BF3F117B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661C-4B56-4ABF-9F1D-D8F0CA4C5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CA76-A2D9-459F-A350-11007643305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ELUCIDATE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bitra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other form of the word ARBI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nstable, or unpredic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ERRAT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rn dreams of being the hero and ______ the villian to the g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FETTERING in a sentenc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r. Jacobs often advises people to show hi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SAGACITY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emption from punish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look or visage, or appear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UNTEN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at or Pone due to hum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S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Edi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ornful, or haugh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DISDAINFU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mething parents often do when you get a bad report ca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14300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nstant nagging of the bratty little girl caused loads of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VEXATION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KAM Mayella and Bob do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rj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DILEMM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oice between two difficult op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unninghams were poor, but they were not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TITU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457200"/>
            <a:ext cx="76201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P wanted to impress his smart girlfriend so he wanted to look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 </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apter 7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ll Vocab</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idsummer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KAM</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RUD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INTREPID?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3 antonyms for CYNIC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ptimistic, hopeful, idealistic, trusting, believ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mplete disord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AO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RANCO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treme hat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BIG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ude, or impertin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olf Hitl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762120" y="175248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might someone have to DOLE out b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8380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f there is a low supply, and you need to save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connoisseu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chel Ra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380880" y="380880"/>
            <a:ext cx="7848720" cy="56235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Name what part of speech these three different words are:</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FFICIOUS</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JAUNTY</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PUS</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1219320"/>
            <a:ext cx="7848720" cy="4529160"/>
          </a:xfrm>
          <a:prstGeom prst="rect">
            <a:avLst/>
          </a:prstGeom>
          <a:noFill/>
          <a:ln w="0">
            <a:noFill/>
          </a:ln>
        </p:spPr>
        <p:style>
          <a:lnRef idx="0"/>
          <a:fillRef idx="0"/>
          <a:effectRef idx="0"/>
          <a:fontRef idx="minor"/>
        </p:style>
        <p:txBody>
          <a:bodyPr lIns="90000" rIns="90000" tIns="46800" bIns="46800" anchor="t">
            <a:spAutoFit/>
          </a:bodyPr>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22860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D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mplied, or unspoke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TAC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8380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acher needed to _____ more on the topic, because things weren’t cle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7:45:31Z</dcterms:created>
  <dc:creator>Valued Customer</dc:creator>
  <dc:description/>
  <dc:language>en-US</dc:language>
  <cp:lastModifiedBy>Owner</cp:lastModifiedBy>
  <dcterms:modified xsi:type="dcterms:W3CDTF">2009-06-03T05:24:25Z</dcterms:modified>
  <cp:revision>42</cp:revision>
  <dc:subject/>
  <dc:title>No Slide Title</dc:title>
</cp:coreProperties>
</file>